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C21D-9F68-4CAE-9046-B2DDC26AD7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8F9FD-71D7-4E24-8E65-D99399CD02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F2ACF-8AE8-44C7-ADEC-2733AD96BC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63E49-15FF-431F-A1DD-E3A71666DB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8285F-1FBD-40C0-852D-B43FDD3CFC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02698-6730-4480-8261-771099804D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F9C08-CD33-4E19-BB27-707922A20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E7C0D-3BFC-4E43-BBED-BBAC7CDBF9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68F43-9DE9-4EA5-943F-063E94A279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6E3BA-88D5-4B2B-842C-DB0F2A35B7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EED45-1B78-4997-BA02-65D984EF6B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BB8A4-F38D-4D77-B5AC-19092C1C8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CCA2E-4E9B-4ED3-8408-ACA1DCEFD8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2548-AAB0-4F3A-A74B-876BB7C48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9CB6-F8CC-48AD-8E61-0088011B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EC46-C8C2-4F61-873D-C686485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CD50-5351-4559-8EB6-060337A656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DF9A-4532-4549-A2E3-223B1E2A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C437-366A-416F-8E68-19BE7B4C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05B5-A1BA-4053-8324-C829E411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7B14-057C-4B2C-987E-81F93BB4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2CD6-9761-4B23-A613-9FE53897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108D-10BE-4319-9500-6319659B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A4A2-1059-483E-A8EA-012B3D00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241B-AEE2-4A88-8F92-112E1683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74B0A-D405-4AD7-A00D-CBED0CC9F7C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5808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Горные лыж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-179280" y="1600200"/>
            <a:ext cx="886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24 :8  &lt;   48: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85:17    &gt;  65: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315: 35 &gt;  175: 35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3426 :  а    &lt;  4537 : 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559640" y="1500120"/>
            <a:ext cx="1584360" cy="4762440"/>
          </a:xfrm>
          <a:prstGeom prst="rect">
            <a:avLst/>
          </a:prstGeom>
          <a:ln w="0">
            <a:noFill/>
          </a:ln>
        </p:spPr>
      </p:pic>
      <p:sp>
        <p:nvSpPr>
          <p:cNvPr id="91" name="Freeform 4"/>
          <p:cNvSpPr/>
          <p:nvPr/>
        </p:nvSpPr>
        <p:spPr>
          <a:xfrm>
            <a:off x="4114800" y="1916280"/>
            <a:ext cx="76320" cy="21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0" y="1440000"/>
            <a:ext cx="5857920" cy="4071960"/>
          </a:xfrm>
          <a:prstGeom prst="pie">
            <a:avLst/>
          </a:pr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040360" y="216072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&l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600360" y="504036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19640" y="395928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4319640" y="306072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Фигурное кат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68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 : 17  &lt;  85 : 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52 : 2  &gt; 246 :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56 : в   &gt; 246 :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369 :3 ? 690: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7020000" y="3857760"/>
            <a:ext cx="212400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419640" y="161928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40000" y="395928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700360" y="504036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240000" y="270036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Биатло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659640" y="179280"/>
            <a:ext cx="2484360" cy="3419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/>
          <p:cNvSpPr/>
          <p:nvPr/>
        </p:nvSpPr>
        <p:spPr>
          <a:xfrm>
            <a:off x="2160720" y="395928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79280" y="126036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60360" y="1260360"/>
            <a:ext cx="5400720" cy="56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7 &lt;       :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 3 = 24  :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а &gt;       : 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4 &gt;       :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600360" y="251928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160720" y="126036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79280" y="540072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9280" y="395928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179280" y="251928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720" y="540072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7FD6F-4C0B-4880-BABB-6880913743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О, спорт! Ты – мир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1593720" y="1727280"/>
            <a:ext cx="5784840" cy="4751280"/>
            <a:chOff x="1593720" y="1727280"/>
            <a:chExt cx="5784840" cy="4751280"/>
          </a:xfrm>
        </p:grpSpPr>
        <p:pic>
          <p:nvPicPr>
            <p:cNvPr id="118" name="Picture 4" descr=""/>
            <p:cNvPicPr/>
            <p:nvPr/>
          </p:nvPicPr>
          <p:blipFill>
            <a:blip r:embed="rId1"/>
            <a:stretch/>
          </p:blipFill>
          <p:spPr>
            <a:xfrm>
              <a:off x="1593720" y="1727280"/>
              <a:ext cx="57848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"/>
            <p:cNvSpPr/>
            <p:nvPr/>
          </p:nvSpPr>
          <p:spPr>
            <a:xfrm>
              <a:off x="1593720" y="1727280"/>
              <a:ext cx="5784840" cy="47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Text Box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42960" y="-1271520"/>
            <a:ext cx="78152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Олимпийские игры 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на уроке математики</a:t>
            </a:r>
            <a:br>
              <a:rPr sz="40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214800" y="4071960"/>
            <a:ext cx="358596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-179280" y="1600200"/>
            <a:ext cx="932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Е  Г  Р  Ц  Я  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1571760"/>
            <a:ext cx="8572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е игры были в Олимп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одились раз в четыре года в честь Зевс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 Олимпиады прекращались вой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ревновались в беге, прыжках, борьбе, метании диска копья, гонке на колесница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000080" y="214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 истории олимпийских иг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57840" cy="4214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"/>
          <p:cNvGrpSpPr/>
          <p:nvPr/>
        </p:nvGrpSpPr>
        <p:grpSpPr>
          <a:xfrm>
            <a:off x="4857840" y="2571840"/>
            <a:ext cx="4284720" cy="4284720"/>
            <a:chOff x="4857840" y="2571840"/>
            <a:chExt cx="4284720" cy="4284720"/>
          </a:xfrm>
        </p:grpSpPr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4857840" y="2571840"/>
              <a:ext cx="428472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5"/>
            <p:cNvSpPr/>
            <p:nvPr/>
          </p:nvSpPr>
          <p:spPr>
            <a:xfrm>
              <a:off x="4857840" y="2571840"/>
              <a:ext cx="428472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-2048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Пьедестал почё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60360" y="2050920"/>
            <a:ext cx="6715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-357120" y="1600200"/>
            <a:ext cx="1092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10134720"/>
                <a:tab algn="l" pos="1085868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10134720"/>
                <a:tab algn="l" pos="1085868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214800" y="342900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286080" cy="3500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457200" y="-547560"/>
            <a:ext cx="82296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ffffff"/>
                </a:solidFill>
                <a:latin typeface="Calibri"/>
              </a:rPr>
              <a:t>         </a:t>
            </a:r>
            <a:br>
              <a:rPr sz="5900"/>
            </a:br>
            <a:r>
              <a:rPr b="0" lang="ru-RU" sz="5900" spc="-1" strike="noStrike">
                <a:solidFill>
                  <a:srgbClr val="ffffff"/>
                </a:solidFill>
                <a:latin typeface="Calibri"/>
              </a:rPr>
              <a:t>    </a:t>
            </a: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5857920" y="3994200"/>
            <a:ext cx="3286080" cy="1363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Выш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340000" y="785880"/>
            <a:ext cx="408924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Быстре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4000680"/>
            <a:ext cx="395928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Сильне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ЛЫЖНЫЕ ГОН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36 :6 =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2:6 =    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8: 6 =     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54: 6 </a:t>
            </a:r>
            <a:r>
              <a:rPr b="0" i="1" lang="ru-RU" sz="6600" spc="-1" strike="noStrike">
                <a:solidFill>
                  <a:srgbClr val="ffffff"/>
                </a:solidFill>
                <a:latin typeface="Calibri"/>
              </a:rPr>
              <a:t>=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786280" y="1285920"/>
            <a:ext cx="3071880" cy="2500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060720" y="1619280"/>
            <a:ext cx="719280" cy="1022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60720" y="3959280"/>
            <a:ext cx="720720" cy="1041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065400" y="5219640"/>
            <a:ext cx="714600" cy="900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076560" y="2766960"/>
            <a:ext cx="704880" cy="1013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780000" y="3780000"/>
            <a:ext cx="60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Calibri"/>
              </a:rPr>
              <a:t>Если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 делимое</a:t>
            </a:r>
            <a:r>
              <a:rPr b="0" lang="en-US" sz="5400" spc="-1" strike="noStrike">
                <a:solidFill>
                  <a:srgbClr val="00ffff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ffff"/>
                </a:solidFill>
                <a:latin typeface="Calibri"/>
              </a:rPr>
              <a:t> 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то частное</a:t>
            </a:r>
            <a:r>
              <a:rPr b="0" lang="en-US" sz="5400" spc="-1" strike="noStrike">
                <a:solidFill>
                  <a:srgbClr val="00ffff"/>
                </a:solidFill>
                <a:latin typeface="Calibri"/>
              </a:rPr>
              <a:t>  &gt;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Calibri"/>
              </a:rPr>
              <a:t>ПРАВИЛО</a:t>
            </a: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179280" y="900000"/>
            <a:ext cx="850752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Из двух выражений с одинаковыми делителями </a:t>
            </a:r>
            <a:r>
              <a:rPr b="0" lang="ru-RU" sz="6000" spc="-1" strike="noStrike">
                <a:solidFill>
                  <a:srgbClr val="00ffff"/>
                </a:solidFill>
                <a:latin typeface="Calibri"/>
              </a:rPr>
              <a:t>больше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то, у которог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делимое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040360" y="6119640"/>
            <a:ext cx="45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Calibri"/>
              </a:rPr>
              <a:t>БОЛЬШ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2-12T10:02:52Z</dcterms:modified>
  <cp:revision>28</cp:revision>
  <dc:subject/>
  <dc:title>Слайд 1</dc:title>
</cp:coreProperties>
</file>