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142640" y="674280"/>
            <a:ext cx="45673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50717-A7FD-4A9F-8BA4-874FABB62D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B410E-54ED-4BC9-B106-D9D0E84F36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530C46-3CFA-4837-ACE2-F1980D8541C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C69A6-FE1A-44F3-94E8-05026F6AB8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DCEB32-486A-497C-9596-A96C5271D5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D51C4-BF0F-41BB-89D1-109AB825D2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9EB466-D745-4DD9-8C9D-D0229B8D70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0742B3-9705-4B5F-BF22-BC6459B75B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0F675-411C-455C-BC61-A6C9AFCD1E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0CC16-C543-4A99-B5B3-BCDEBDAD71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E689DA-AA13-4236-A846-B2FD1DEA7A3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206589-CB6E-4165-AB4E-C0CCA24930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693740-8E01-48B5-8BFE-A1D6591526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30200-04A6-4032-AA67-9244CA0FE0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479F3-8FB4-46D9-84B1-52E32C5B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EAEA8-E0A7-45F1-80CF-B36CF388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36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360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E56C6-EA2B-42FD-ACA2-FB8725FED6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A99BC-DB70-4B4D-A4A4-D7037740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DC4C2-B9F3-4FA7-BE8A-9F0C2E68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60C55-5EB5-455E-90C5-EC16083D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A8CC5-6FD7-44C9-B51F-1841DE9B8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-206640"/>
            <a:ext cx="822492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4BF8C-3388-4500-BE1A-1ACD425B5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9AC26-8302-485F-B5CB-6E220F76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36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CD3DE-9B54-4E7B-9B35-19237C01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0EB40-71AC-4666-86C4-0E4A2D0A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-206640"/>
            <a:ext cx="822492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86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3280"/>
            <a:ext cx="2129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24F209E-66E5-4883-9788-0AB98F720BCE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642960" y="928800"/>
            <a:ext cx="7858080" cy="50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Горные лыж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-179280" y="1600200"/>
            <a:ext cx="8866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                         </a:t>
            </a:r>
            <a:r>
              <a:rPr b="0" i="1" lang="ru-RU" sz="4800" spc="-1" strike="noStrike">
                <a:solidFill>
                  <a:srgbClr val="ffffff"/>
                </a:solidFill>
                <a:latin typeface="Calibri"/>
              </a:rPr>
              <a:t>24 :8  &lt;   48:8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Calibri"/>
              </a:rPr>
              <a:t>           </a:t>
            </a:r>
            <a:r>
              <a:rPr b="0" i="1" lang="ru-RU" sz="4800" spc="-1" strike="noStrike">
                <a:solidFill>
                  <a:srgbClr val="ffffff"/>
                </a:solidFill>
                <a:latin typeface="Calibri"/>
              </a:rPr>
              <a:t>85:17    &gt;  65:17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i="1" lang="ru-RU" sz="4800" spc="-1" strike="noStrike">
                <a:solidFill>
                  <a:srgbClr val="ffffff"/>
                </a:solidFill>
                <a:latin typeface="Calibri"/>
              </a:rPr>
              <a:t>315: 35 &gt;  175: 35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i="1" lang="ru-RU" sz="4800" spc="-1" strike="noStrike">
                <a:solidFill>
                  <a:srgbClr val="ffffff"/>
                </a:solidFill>
                <a:latin typeface="Calibri"/>
              </a:rPr>
              <a:t>3426 :  а    &lt;  4537 : 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7559640" y="1500120"/>
            <a:ext cx="1584360" cy="4762440"/>
          </a:xfrm>
          <a:prstGeom prst="rect">
            <a:avLst/>
          </a:prstGeom>
          <a:ln w="0">
            <a:noFill/>
          </a:ln>
        </p:spPr>
      </p:pic>
      <p:sp>
        <p:nvSpPr>
          <p:cNvPr id="91" name="Freeform 4"/>
          <p:cNvSpPr/>
          <p:nvPr/>
        </p:nvSpPr>
        <p:spPr>
          <a:xfrm>
            <a:off x="4114800" y="1916280"/>
            <a:ext cx="76320" cy="2196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Freeform 5"/>
          <p:cNvSpPr/>
          <p:nvPr/>
        </p:nvSpPr>
        <p:spPr>
          <a:xfrm>
            <a:off x="0" y="1440000"/>
            <a:ext cx="5857920" cy="4071960"/>
          </a:xfrm>
          <a:prstGeom prst="pie">
            <a:avLst/>
          </a:prstGeom>
          <a:noFill/>
          <a:ln w="349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5040360" y="2160720"/>
            <a:ext cx="720720" cy="90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0070c0"/>
                </a:solidFill>
                <a:latin typeface="Calibri"/>
              </a:rPr>
              <a:t>&lt;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600360" y="5040360"/>
            <a:ext cx="720720" cy="90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3419640" y="3959280"/>
            <a:ext cx="720720" cy="90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4319640" y="3060720"/>
            <a:ext cx="720720" cy="90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Фигурное катани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Calibri"/>
              </a:rPr>
              <a:t>68</a:t>
            </a:r>
            <a:r>
              <a:rPr b="0" i="1" lang="ru-RU" sz="6000" spc="-1" strike="noStrike">
                <a:solidFill>
                  <a:srgbClr val="ffffff"/>
                </a:solidFill>
                <a:latin typeface="Calibri"/>
              </a:rPr>
              <a:t>  : 17  &lt;  85 : 17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6000" spc="-1" strike="noStrike">
                <a:solidFill>
                  <a:srgbClr val="ffffff"/>
                </a:solidFill>
                <a:latin typeface="Calibri"/>
              </a:rPr>
              <a:t>452 : 2  &gt; 246 : 2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6000" spc="-1" strike="noStrike">
                <a:solidFill>
                  <a:srgbClr val="ffffff"/>
                </a:solidFill>
                <a:latin typeface="Calibri"/>
              </a:rPr>
              <a:t>456 : в   &gt; 246 :в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6000" spc="-1" strike="noStrike">
                <a:solidFill>
                  <a:srgbClr val="ffffff"/>
                </a:solidFill>
                <a:latin typeface="Calibri"/>
              </a:rPr>
              <a:t>369 :3 ? 690: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7020000" y="3857760"/>
            <a:ext cx="2124000" cy="30002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4"/>
          <p:cNvSpPr/>
          <p:nvPr/>
        </p:nvSpPr>
        <p:spPr>
          <a:xfrm>
            <a:off x="3419640" y="1619280"/>
            <a:ext cx="720720" cy="90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3240000" y="3959280"/>
            <a:ext cx="720720" cy="90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2700360" y="5040360"/>
            <a:ext cx="720720" cy="90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3240000" y="2700360"/>
            <a:ext cx="720720" cy="90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Биатлон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6659640" y="179280"/>
            <a:ext cx="2484360" cy="341964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3"/>
          <p:cNvSpPr/>
          <p:nvPr/>
        </p:nvSpPr>
        <p:spPr>
          <a:xfrm>
            <a:off x="2160720" y="3959280"/>
            <a:ext cx="720720" cy="900000"/>
          </a:xfrm>
          <a:prstGeom prst="flowChartConnector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179280" y="1260360"/>
            <a:ext cx="720720" cy="900360"/>
          </a:xfrm>
          <a:prstGeom prst="flowChartConnector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360360" y="1260360"/>
            <a:ext cx="5400720" cy="56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: 7 &lt;       : 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:  3 = 24  :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: а &gt;       : 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: 4 &gt;       : 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3600360" y="2519280"/>
            <a:ext cx="720720" cy="900360"/>
          </a:xfrm>
          <a:prstGeom prst="flowChartConnector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2160720" y="1260360"/>
            <a:ext cx="720720" cy="900360"/>
          </a:xfrm>
          <a:prstGeom prst="flowChartConnector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179280" y="5400720"/>
            <a:ext cx="720720" cy="900000"/>
          </a:xfrm>
          <a:prstGeom prst="flowChartConnector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79280" y="3959280"/>
            <a:ext cx="720720" cy="900000"/>
          </a:xfrm>
          <a:prstGeom prst="flowChartConnector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10"/>
          <p:cNvSpPr/>
          <p:nvPr/>
        </p:nvSpPr>
        <p:spPr>
          <a:xfrm>
            <a:off x="179280" y="2519280"/>
            <a:ext cx="720720" cy="900360"/>
          </a:xfrm>
          <a:prstGeom prst="flowChartConnector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11"/>
          <p:cNvSpPr/>
          <p:nvPr/>
        </p:nvSpPr>
        <p:spPr>
          <a:xfrm>
            <a:off x="2160720" y="5400720"/>
            <a:ext cx="720720" cy="900000"/>
          </a:xfrm>
          <a:prstGeom prst="flowChartConnector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142434-3735-477B-90D6-89DD33DFA67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О, спорт! Ты – мир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Group 3"/>
          <p:cNvGrpSpPr/>
          <p:nvPr/>
        </p:nvGrpSpPr>
        <p:grpSpPr>
          <a:xfrm>
            <a:off x="1593720" y="1727280"/>
            <a:ext cx="5784840" cy="4751280"/>
            <a:chOff x="1593720" y="1727280"/>
            <a:chExt cx="5784840" cy="4751280"/>
          </a:xfrm>
        </p:grpSpPr>
        <p:pic>
          <p:nvPicPr>
            <p:cNvPr id="118" name="Picture 4" descr=""/>
            <p:cNvPicPr/>
            <p:nvPr/>
          </p:nvPicPr>
          <p:blipFill>
            <a:blip r:embed="rId1"/>
            <a:stretch/>
          </p:blipFill>
          <p:spPr>
            <a:xfrm>
              <a:off x="1593720" y="1727280"/>
              <a:ext cx="5784840" cy="47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5"/>
            <p:cNvSpPr/>
            <p:nvPr/>
          </p:nvSpPr>
          <p:spPr>
            <a:xfrm>
              <a:off x="1593720" y="1727280"/>
              <a:ext cx="5784840" cy="47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" name="Text Box 6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642960" y="-1271520"/>
            <a:ext cx="781524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7200"/>
            </a:br>
            <a:r>
              <a:rPr b="0" lang="ru-RU" sz="7200" spc="-1" strike="noStrike">
                <a:solidFill>
                  <a:srgbClr val="ffffff"/>
                </a:solidFill>
                <a:latin typeface="Calibri"/>
              </a:rPr>
              <a:t>Олимпийские игры </a:t>
            </a:r>
            <a:br>
              <a:rPr sz="7200"/>
            </a:br>
            <a:r>
              <a:rPr b="0" lang="ru-RU" sz="7200" spc="-1" strike="noStrike">
                <a:solidFill>
                  <a:srgbClr val="ffffff"/>
                </a:solidFill>
                <a:latin typeface="Calibri"/>
              </a:rPr>
              <a:t>на уроке математики</a:t>
            </a:r>
            <a:br>
              <a:rPr sz="4000"/>
            </a:b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3214800" y="4071960"/>
            <a:ext cx="3585960" cy="18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-179280" y="1600200"/>
            <a:ext cx="932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Calibri"/>
              </a:rPr>
              <a:t>Е  Г  Р  Ц  Я  И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2"/>
          <p:cNvSpPr/>
          <p:nvPr/>
        </p:nvSpPr>
        <p:spPr>
          <a:xfrm>
            <a:off x="0" y="1571760"/>
            <a:ext cx="857268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ервые игры были в Олимпи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водились раз в четыре года в честь Зевс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ади Олимпиады прекращались войны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оревновались в беге, прыжках, борьбе, метании диска копья, гонке на колесницах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1000080" y="214200"/>
            <a:ext cx="571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з истории олимпийских иг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4857840" cy="421488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3"/>
          <p:cNvGrpSpPr/>
          <p:nvPr/>
        </p:nvGrpSpPr>
        <p:grpSpPr>
          <a:xfrm>
            <a:off x="4857840" y="2571840"/>
            <a:ext cx="4284720" cy="4284720"/>
            <a:chOff x="4857840" y="2571840"/>
            <a:chExt cx="4284720" cy="4284720"/>
          </a:xfrm>
        </p:grpSpPr>
        <p:pic>
          <p:nvPicPr>
            <p:cNvPr id="64" name="Picture 4" descr=""/>
            <p:cNvPicPr/>
            <p:nvPr/>
          </p:nvPicPr>
          <p:blipFill>
            <a:blip r:embed="rId2"/>
            <a:stretch/>
          </p:blipFill>
          <p:spPr>
            <a:xfrm>
              <a:off x="4857840" y="2571840"/>
              <a:ext cx="4284720" cy="42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5"/>
            <p:cNvSpPr/>
            <p:nvPr/>
          </p:nvSpPr>
          <p:spPr>
            <a:xfrm>
              <a:off x="4857840" y="2571840"/>
              <a:ext cx="4284720" cy="42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457200" y="-204840"/>
            <a:ext cx="822960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Пьедестал почёта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1260360" y="2050920"/>
            <a:ext cx="671508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-357120" y="1600200"/>
            <a:ext cx="109299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10760"/>
                <a:tab algn="l" pos="10134720"/>
                <a:tab algn="l" pos="1085868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10760"/>
                <a:tab algn="l" pos="10134720"/>
                <a:tab algn="l" pos="1085868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3214800" y="3429000"/>
            <a:ext cx="2786040" cy="3429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3286080" cy="35002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4"/>
          <p:cNvSpPr/>
          <p:nvPr/>
        </p:nvSpPr>
        <p:spPr>
          <a:xfrm>
            <a:off x="457200" y="-547560"/>
            <a:ext cx="822960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900" spc="-1" strike="noStrike">
                <a:solidFill>
                  <a:srgbClr val="ffffff"/>
                </a:solidFill>
                <a:latin typeface="Calibri"/>
              </a:rPr>
              <a:t>         </a:t>
            </a:r>
            <a:br>
              <a:rPr sz="5900"/>
            </a:br>
            <a:r>
              <a:rPr b="0" lang="ru-RU" sz="5900" spc="-1" strike="noStrike">
                <a:solidFill>
                  <a:srgbClr val="ffffff"/>
                </a:solidFill>
                <a:latin typeface="Calibri"/>
              </a:rPr>
              <a:t>    </a:t>
            </a:r>
            <a:br>
              <a:rPr sz="5900"/>
            </a:b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3"/>
          <a:stretch/>
        </p:blipFill>
        <p:spPr>
          <a:xfrm>
            <a:off x="6000840" y="0"/>
            <a:ext cx="3143160" cy="3429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"/>
          <p:cNvSpPr/>
          <p:nvPr/>
        </p:nvSpPr>
        <p:spPr>
          <a:xfrm>
            <a:off x="5857920" y="3994200"/>
            <a:ext cx="3286080" cy="13636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Выше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2340000" y="785880"/>
            <a:ext cx="4089240" cy="1357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Быстрее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0" y="4000680"/>
            <a:ext cx="3959280" cy="1357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Сильнее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ЛЫЖНЫЕ ГОНКИ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6000" spc="-1" strike="noStrike">
                <a:solidFill>
                  <a:srgbClr val="ffffff"/>
                </a:solidFill>
                <a:latin typeface="Calibri"/>
              </a:rPr>
              <a:t>36 :6 =          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6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6000" spc="-1" strike="noStrike">
                <a:solidFill>
                  <a:srgbClr val="ffffff"/>
                </a:solidFill>
                <a:latin typeface="Calibri"/>
              </a:rPr>
              <a:t>42:6 =                 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6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6000" spc="-1" strike="noStrike">
                <a:solidFill>
                  <a:srgbClr val="ffffff"/>
                </a:solidFill>
                <a:latin typeface="Calibri"/>
              </a:rPr>
              <a:t>48: 6 =                  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6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6000" spc="-1" strike="noStrike">
                <a:solidFill>
                  <a:srgbClr val="ffffff"/>
                </a:solidFill>
                <a:latin typeface="Calibri"/>
              </a:rPr>
              <a:t>54: 6 </a:t>
            </a:r>
            <a:r>
              <a:rPr b="0" i="1" lang="ru-RU" sz="6600" spc="-1" strike="noStrike">
                <a:solidFill>
                  <a:srgbClr val="ffffff"/>
                </a:solidFill>
                <a:latin typeface="Calibri"/>
              </a:rPr>
              <a:t>=        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5786280" y="1285920"/>
            <a:ext cx="3071880" cy="25002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4"/>
          <p:cNvSpPr/>
          <p:nvPr/>
        </p:nvSpPr>
        <p:spPr>
          <a:xfrm>
            <a:off x="3060720" y="1619280"/>
            <a:ext cx="719280" cy="1022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060720" y="3959280"/>
            <a:ext cx="720720" cy="10414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3065400" y="5219640"/>
            <a:ext cx="714600" cy="900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3076560" y="2766960"/>
            <a:ext cx="704880" cy="10130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alibri"/>
              </a:rPr>
              <a:t>7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3780000" y="3780000"/>
            <a:ext cx="607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ffff"/>
                </a:solidFill>
                <a:latin typeface="Calibri"/>
              </a:rPr>
              <a:t>Если</a:t>
            </a:r>
            <a:r>
              <a:rPr b="0" lang="ru-RU" sz="5400" spc="-1" strike="noStrike">
                <a:solidFill>
                  <a:srgbClr val="00ffff"/>
                </a:solidFill>
                <a:latin typeface="Calibri"/>
              </a:rPr>
              <a:t> делимое</a:t>
            </a:r>
            <a:r>
              <a:rPr b="0" lang="en-US" sz="5400" spc="-1" strike="noStrike">
                <a:solidFill>
                  <a:srgbClr val="00ffff"/>
                </a:solidFill>
                <a:latin typeface="Calibri"/>
              </a:rPr>
              <a:t>  </a:t>
            </a:r>
            <a:r>
              <a:rPr b="0" lang="ru-RU" sz="5400" spc="-1" strike="noStrike">
                <a:solidFill>
                  <a:srgbClr val="00ffff"/>
                </a:solidFill>
                <a:latin typeface="Calibri"/>
              </a:rPr>
              <a:t> </a:t>
            </a:r>
            <a:r>
              <a:rPr b="0" lang="en-US" sz="5400" spc="-1" strike="noStrike">
                <a:solidFill>
                  <a:srgbClr val="00ffff"/>
                </a:solidFill>
                <a:latin typeface="Calibri"/>
              </a:rPr>
              <a:t> &gt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ffff"/>
                </a:solidFill>
                <a:latin typeface="Calibri"/>
              </a:rPr>
              <a:t>то частное</a:t>
            </a:r>
            <a:r>
              <a:rPr b="0" lang="en-US" sz="5400" spc="-1" strike="noStrike">
                <a:solidFill>
                  <a:srgbClr val="00ffff"/>
                </a:solidFill>
                <a:latin typeface="Calibri"/>
              </a:rPr>
              <a:t>  &gt;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"/>
          <p:cNvSpPr/>
          <p:nvPr/>
        </p:nvSpPr>
        <p:spPr>
          <a:xfrm>
            <a:off x="457200" y="0"/>
            <a:ext cx="82296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00ffff"/>
                </a:solidFill>
                <a:latin typeface="Calibri"/>
              </a:rPr>
              <a:t>ПРАВИЛО</a:t>
            </a:r>
            <a:br>
              <a:rPr sz="40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179280" y="900000"/>
            <a:ext cx="8507520" cy="52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Из двух выражений с одинаковыми делителями </a:t>
            </a:r>
            <a:r>
              <a:rPr b="0" lang="ru-RU" sz="6000" spc="-1" strike="noStrike">
                <a:solidFill>
                  <a:srgbClr val="00ffff"/>
                </a:solidFill>
                <a:latin typeface="Calibri"/>
              </a:rPr>
              <a:t>больше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 то, у которого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6000" spc="-1" strike="noStrike">
                <a:solidFill>
                  <a:srgbClr val="ffffff"/>
                </a:solidFill>
                <a:latin typeface="Calibri"/>
              </a:rPr>
              <a:t>делимое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5040360" y="6119640"/>
            <a:ext cx="45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ffff"/>
                </a:solidFill>
                <a:latin typeface="Calibri"/>
              </a:rPr>
              <a:t>БОЛЬШ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17-02-12T10:02:52Z</dcterms:modified>
  <cp:revision>28</cp:revision>
  <dc:subject/>
  <dc:title>Слайд 1</dc:title>
</cp:coreProperties>
</file>