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7.gif" ContentType="image/gif"/>
  <Override PartName="/ppt/media/image25.jpeg" ContentType="image/jpeg"/>
  <Override PartName="/ppt/media/image3.gif" ContentType="image/gif"/>
  <Override PartName="/ppt/media/image31.png" ContentType="image/png"/>
  <Override PartName="/ppt/media/image10.gif" ContentType="image/gif"/>
  <Override PartName="/ppt/media/image12.jpeg" ContentType="image/jpeg"/>
  <Override PartName="/ppt/media/image4.png" ContentType="image/png"/>
  <Override PartName="/ppt/media/image18.gif" ContentType="image/gif"/>
  <Override PartName="/ppt/media/image13.jpeg" ContentType="image/jpeg"/>
  <Override PartName="/ppt/media/image5.gif" ContentType="image/gif"/>
  <Override PartName="/ppt/media/image11.gif" ContentType="image/gif"/>
  <Override PartName="/ppt/media/image8.gif" ContentType="image/gif"/>
  <Override PartName="/ppt/media/image9.gif" ContentType="image/gif"/>
  <Override PartName="/ppt/media/image26.jpeg" ContentType="image/jpeg"/>
  <Override PartName="/ppt/media/image30.png" ContentType="image/png"/>
  <Override PartName="/ppt/media/image7.gif" ContentType="image/gif"/>
  <Override PartName="/ppt/media/image29.jpeg" ContentType="image/jpeg"/>
  <Override PartName="/ppt/media/image1.jpeg" ContentType="image/jpeg"/>
  <Override PartName="/ppt/media/image22.jpeg" ContentType="image/jpeg"/>
  <Override PartName="/ppt/media/image14.gif" ContentType="image/gif"/>
  <Override PartName="/ppt/media/image15.gif" ContentType="image/gif"/>
  <Override PartName="/ppt/media/image28.jpeg" ContentType="image/jpeg"/>
  <Override PartName="/ppt/media/image16.gif" ContentType="image/gif"/>
  <Override PartName="/ppt/media/image20.jpeg" ContentType="image/jpeg"/>
  <Override PartName="/ppt/media/image32.wmf" ContentType="image/x-wmf"/>
  <Override PartName="/ppt/media/image6.gif" ContentType="image/gif"/>
  <Override PartName="/ppt/media/image21.jpeg" ContentType="image/jpeg"/>
  <Override PartName="/ppt/media/image2.gif" ContentType="image/gif"/>
  <Override PartName="/ppt/media/image19.jpeg" ContentType="image/jpeg"/>
  <Override PartName="/ppt/media/image23.jpeg" ContentType="image/jpeg"/>
  <Override PartName="/ppt/media/image24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752E-A94D-4957-B4DE-B9FAC687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46B-935B-43ED-A02E-FC67433E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3FC-8A4F-4CE0-A6C0-3125F56E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928E-D952-4842-A674-A194768D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239E5-1A49-440F-BB27-BE462AEF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8D18-C942-43F6-BFEB-3B579486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9EED-68CB-4CC0-9197-8A03CAD2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4E1B-EF7A-4FEF-BE48-4C472C01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45BE-3218-435B-AEF1-50A3B3FC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08F7-E4BD-491F-BC92-F724F249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4E21-779D-49C5-A22D-7D63DB46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47B6-26B0-4255-9EC0-8627913B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83E85-EF98-40AC-91C3-7F79799B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7CFD-CC06-4D72-BCEE-1595D8FC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4471-8D5A-4984-9A85-A51DE6F8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2678-C740-4E93-83B9-176F70F4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8197-3B26-421A-8A20-81E81FB4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F503-4FD8-4A0A-BF80-F5D1F94C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550E-302E-4AD9-9A73-B88DA28E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7B77-05BD-4E02-9B8D-C02B67DE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B0DB-5749-465F-8AC2-3DCA94F4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23AA-47E9-4066-9478-9B593E6D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B53-6912-40E7-97AB-496F60AD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F419-01AA-4DE1-B3F1-602E34CC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F28B-8C44-4EEC-AFDB-CAFD43C88BD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C085-0258-4469-9B07-78FD3958EF4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3840" cy="19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6633"/>
                </a:solidFill>
                <a:latin typeface="Garamond"/>
              </a:rPr>
              <a:t>Проект: </a:t>
            </a:r>
            <a:br>
              <a:rPr sz="4600"/>
            </a:br>
            <a:r>
              <a:rPr b="0" lang="ru-RU" sz="4600" spc="-1" strike="noStrike">
                <a:solidFill>
                  <a:srgbClr val="006633"/>
                </a:solidFill>
                <a:latin typeface="Garamond"/>
              </a:rPr>
              <a:t>« Я здоровье берегу – сам себе я помогу»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чкобий Алла Анатолье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 МБДО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етский сад № 3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Называев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м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сканирование0001"/>
          <p:cNvPicPr/>
          <p:nvPr/>
        </p:nvPicPr>
        <p:blipFill>
          <a:blip r:embed="rId1"/>
          <a:stretch/>
        </p:blipFill>
        <p:spPr>
          <a:xfrm>
            <a:off x="1835280" y="4149720"/>
            <a:ext cx="17143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«Если хочешь быть здоров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различных методов оздоровления детей в соответствии с возрастом, индивидуальными особенностями детей и пожеланиями родите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aerobics_lady08"/>
          <p:cNvPicPr/>
          <p:nvPr/>
        </p:nvPicPr>
        <p:blipFill>
          <a:blip r:embed="rId1"/>
          <a:stretch/>
        </p:blipFill>
        <p:spPr>
          <a:xfrm>
            <a:off x="6588000" y="4292640"/>
            <a:ext cx="2005200" cy="1832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wer"/>
          <p:cNvPicPr/>
          <p:nvPr/>
        </p:nvPicPr>
        <p:blipFill>
          <a:blip r:embed="rId2"/>
          <a:stretch/>
        </p:blipFill>
        <p:spPr>
          <a:xfrm>
            <a:off x="7093080" y="404640"/>
            <a:ext cx="16556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ос родителей «Методы закаливания в старшей группе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тоды закали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спективное планирование физкультурно-оздоровительной работы в группе на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ГН (перспективное планирование на год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Я так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занятия по развитию представлений о мире и о себ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ть детям представление о себе: о своем теле, о здоровье, о безопасности и эмоц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ирование заня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114061663"/>
          <p:cNvPicPr/>
          <p:nvPr/>
        </p:nvPicPr>
        <p:blipFill>
          <a:blip r:embed="rId1"/>
          <a:stretch/>
        </p:blipFill>
        <p:spPr>
          <a:xfrm>
            <a:off x="684360" y="4581360"/>
            <a:ext cx="1295280" cy="1428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9"/>
          <p:cNvPicPr/>
          <p:nvPr/>
        </p:nvPicPr>
        <p:blipFill>
          <a:blip r:embed="rId2"/>
          <a:stretch/>
        </p:blipFill>
        <p:spPr>
          <a:xfrm>
            <a:off x="3708360" y="4365720"/>
            <a:ext cx="920880" cy="1668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27"/>
          <p:cNvPicPr/>
          <p:nvPr/>
        </p:nvPicPr>
        <p:blipFill>
          <a:blip r:embed="rId3"/>
          <a:stretch/>
        </p:blipFill>
        <p:spPr>
          <a:xfrm>
            <a:off x="6588000" y="4508640"/>
            <a:ext cx="7797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Творческая мастерска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изодеятельность детей и родителе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дение оздоровительной работы с детьми и обогащение развивающей среды в группе при взаимодействии воспитателя, детей и их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полнение уголка ИЗО в группе материалами для изодеятельности детей в соответствии с возрастом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ллективные и индивидуальные работы дет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здание развивающей среды для развития мелкой моторики рук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готовление уголка здоровья для родителе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ланирование занятий по изодеятельности (рисование, лепка, аппликация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ворчество родителей по темам: «Я здоров!», «Средства личной гигиены», «Чтобы быть здоровым…» и д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SAM_0470"/>
          <p:cNvPicPr/>
          <p:nvPr/>
        </p:nvPicPr>
        <p:blipFill>
          <a:blip r:embed="rId1"/>
          <a:stretch/>
        </p:blipFill>
        <p:spPr>
          <a:xfrm>
            <a:off x="468360" y="3645000"/>
            <a:ext cx="3208320" cy="2406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SAM_0471"/>
          <p:cNvPicPr/>
          <p:nvPr/>
        </p:nvPicPr>
        <p:blipFill>
          <a:blip r:embed="rId2"/>
          <a:stretch/>
        </p:blipFill>
        <p:spPr>
          <a:xfrm>
            <a:off x="395280" y="2602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SAM_0475"/>
          <p:cNvPicPr/>
          <p:nvPr/>
        </p:nvPicPr>
        <p:blipFill>
          <a:blip r:embed="rId3"/>
          <a:stretch/>
        </p:blipFill>
        <p:spPr>
          <a:xfrm>
            <a:off x="3492360" y="2060640"/>
            <a:ext cx="3063960" cy="2298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SAM_0476"/>
          <p:cNvPicPr/>
          <p:nvPr/>
        </p:nvPicPr>
        <p:blipFill>
          <a:blip r:embed="rId4"/>
          <a:stretch/>
        </p:blipFill>
        <p:spPr>
          <a:xfrm>
            <a:off x="6300720" y="4149720"/>
            <a:ext cx="256068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На книжной полк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чтение детской литерату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учивание стихотворений, потеше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спитывать бережное отношение к своему здоровью через чтение детской литерату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русских народных потешек, приговорок, пестушек при умывании, расчесывании и заплетании волос девоч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учить стихотворения о здоров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SAM_0462"/>
          <p:cNvPicPr/>
          <p:nvPr/>
        </p:nvPicPr>
        <p:blipFill>
          <a:blip r:embed="rId1"/>
          <a:stretch/>
        </p:blipFill>
        <p:spPr>
          <a:xfrm>
            <a:off x="5867280" y="333360"/>
            <a:ext cx="313380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62024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ение детской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учивание потешек, приговорок, пестуш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учивание стихотвор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сценировка по стихотворению Ю. Тувима «Овощ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атривание иллюстра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SAM_0465"/>
          <p:cNvPicPr/>
          <p:nvPr/>
        </p:nvPicPr>
        <p:blipFill>
          <a:blip r:embed="rId1"/>
          <a:srcRect l="8270" t="0" r="13415" b="2487"/>
          <a:stretch/>
        </p:blipFill>
        <p:spPr>
          <a:xfrm>
            <a:off x="6227640" y="3213000"/>
            <a:ext cx="27352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591516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Веселись детвор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спитывать бережное отношение к своему и чужому здоров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вать двигательную активность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вать психологический и эмоциональный комфорт в групп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SAM_0483"/>
          <p:cNvPicPr/>
          <p:nvPr/>
        </p:nvPicPr>
        <p:blipFill>
          <a:blip r:embed="rId1"/>
          <a:srcRect l="22649" t="0" r="0" b="2770"/>
          <a:stretch/>
        </p:blipFill>
        <p:spPr>
          <a:xfrm>
            <a:off x="6372360" y="981000"/>
            <a:ext cx="2628720" cy="2478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SAM_0480"/>
          <p:cNvPicPr/>
          <p:nvPr/>
        </p:nvPicPr>
        <p:blipFill>
          <a:blip r:embed="rId2"/>
          <a:srcRect l="16202" t="0" r="0" b="0"/>
          <a:stretch/>
        </p:blipFill>
        <p:spPr>
          <a:xfrm>
            <a:off x="6372360" y="3716280"/>
            <a:ext cx="266364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здоровительные досуг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здни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леч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ни здоровь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матические прогул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гровая деятельност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дидактические игр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сюжетно-ролевые игр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подвижные игр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сихологические иг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здоровительные минутк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пальчиковые игр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физкультминут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5651640" y="476280"/>
            <a:ext cx="2865240" cy="191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сканирование0001"/>
          <p:cNvPicPr/>
          <p:nvPr/>
        </p:nvPicPr>
        <p:blipFill>
          <a:blip r:embed="rId2"/>
          <a:stretch/>
        </p:blipFill>
        <p:spPr>
          <a:xfrm>
            <a:off x="5580000" y="3933720"/>
            <a:ext cx="2967120" cy="1967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24"/>
          <p:cNvPicPr/>
          <p:nvPr/>
        </p:nvPicPr>
        <p:blipFill>
          <a:blip r:embed="rId3"/>
          <a:stretch/>
        </p:blipFill>
        <p:spPr>
          <a:xfrm>
            <a:off x="6516720" y="2492280"/>
            <a:ext cx="104760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блем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к сохранить здоровь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gallery_2_388_5709"/>
          <p:cNvPicPr/>
          <p:nvPr/>
        </p:nvPicPr>
        <p:blipFill>
          <a:blip r:embed="rId1"/>
          <a:stretch/>
        </p:blipFill>
        <p:spPr>
          <a:xfrm>
            <a:off x="826920" y="4221000"/>
            <a:ext cx="1586160" cy="1748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gallery_2_391_14439"/>
          <p:cNvPicPr/>
          <p:nvPr/>
        </p:nvPicPr>
        <p:blipFill>
          <a:blip r:embed="rId2"/>
          <a:stretch/>
        </p:blipFill>
        <p:spPr>
          <a:xfrm>
            <a:off x="7236000" y="4149720"/>
            <a:ext cx="1306440" cy="1855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3"/>
          <a:stretch/>
        </p:blipFill>
        <p:spPr>
          <a:xfrm>
            <a:off x="3059280" y="3933720"/>
            <a:ext cx="2660400" cy="19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«Для мам и пап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комить родителей с методами оздоровления детей в детском саду и дом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лекать родителей к работе по оздоровлению детей в детском сад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i"/>
          <p:cNvPicPr/>
          <p:nvPr/>
        </p:nvPicPr>
        <p:blipFill>
          <a:blip r:embed="rId1"/>
          <a:stretch/>
        </p:blipFill>
        <p:spPr>
          <a:xfrm>
            <a:off x="7164360" y="2781360"/>
            <a:ext cx="1728720" cy="17175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468360" y="4941720"/>
            <a:ext cx="820728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«Забота о здоровье невозможна без постоянной связи с семьей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55548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ос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формац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товыставки: «Мы мороза не боимся», «Моя семья на прогулке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одительские собр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ставки работ де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ворческая деятельность родител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2016000" cy="1504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6877080" y="2924280"/>
            <a:ext cx="12603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Object 6"/>
          <p:cNvGraphicFramePr/>
          <p:nvPr/>
        </p:nvGraphicFramePr>
        <p:xfrm>
          <a:off x="468360" y="1004760"/>
          <a:ext cx="748836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04760"/>
                    <a:ext cx="748836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Rectangle 7"/>
          <p:cNvSpPr/>
          <p:nvPr/>
        </p:nvSpPr>
        <p:spPr>
          <a:xfrm>
            <a:off x="3276720" y="369000"/>
            <a:ext cx="25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5400" spc="-1" strike="noStrike">
                <a:solidFill>
                  <a:srgbClr val="00b0f0"/>
                </a:solidFill>
                <a:latin typeface="Arial"/>
              </a:rPr>
              <a:t>спасиб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f0"/>
                </a:solidFill>
                <a:latin typeface="Arial"/>
              </a:rPr>
              <a:t>              </a:t>
            </a:r>
            <a:r>
              <a:rPr b="0" lang="ru-RU" sz="5400" spc="-1" strike="noStrike">
                <a:solidFill>
                  <a:srgbClr val="00b0f0"/>
                </a:solidFill>
                <a:latin typeface="Arial"/>
              </a:rPr>
              <a:t>з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b0f0"/>
                </a:solidFill>
                <a:latin typeface="Arial"/>
              </a:rPr>
              <a:t>                  </a:t>
            </a:r>
            <a:r>
              <a:rPr b="0" lang="ru-RU" sz="5400" spc="-1" strike="noStrike">
                <a:solidFill>
                  <a:srgbClr val="00b0f0"/>
                </a:solidFill>
                <a:latin typeface="Arial"/>
              </a:rPr>
              <a:t>вним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ль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Сохранять и укреплять здоровье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aerobics_lady02"/>
          <p:cNvPicPr/>
          <p:nvPr/>
        </p:nvPicPr>
        <p:blipFill>
          <a:blip r:embed="rId1"/>
          <a:stretch/>
        </p:blipFill>
        <p:spPr>
          <a:xfrm>
            <a:off x="826920" y="4348080"/>
            <a:ext cx="1800360" cy="1425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24"/>
          <p:cNvPicPr/>
          <p:nvPr/>
        </p:nvPicPr>
        <p:blipFill>
          <a:blip r:embed="rId2"/>
          <a:stretch/>
        </p:blipFill>
        <p:spPr>
          <a:xfrm>
            <a:off x="3995640" y="4365720"/>
            <a:ext cx="1217880" cy="154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20"/>
          <p:cNvPicPr/>
          <p:nvPr/>
        </p:nvPicPr>
        <p:blipFill>
          <a:blip r:embed="rId3"/>
          <a:stretch/>
        </p:blipFill>
        <p:spPr>
          <a:xfrm>
            <a:off x="6732720" y="436392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ировать понимание необходимости заботиться о своем здоровье, беречь его, учиться быть здоровым и вести здоровый образ жизни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ивать любовь к физическим упражнениям, закаливанию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вышать грамотность родителей в вопросах воспитания и укрепления здоровья дошкольник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Cwer"/>
          <p:cNvPicPr/>
          <p:nvPr/>
        </p:nvPicPr>
        <p:blipFill>
          <a:blip r:embed="rId1"/>
          <a:stretch/>
        </p:blipFill>
        <p:spPr>
          <a:xfrm>
            <a:off x="7596360" y="5589720"/>
            <a:ext cx="1168200" cy="10508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569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«Если хочешь быть здоров…» (физкультурно-оздоровительная работа, КГН, закаливание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«Я такой» (занятия по развитию представлений о мире и о себе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«Творческая мастерская» (изодеятельность детей и родителей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«На книжной полке» (чтение детской литературы, заучивание стихотворений, потешек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«Веселись, детвора!» (оздоровительные досуги, праздники, развлечения, дни здоровья, тематические прогулки, игровая деятельность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6.«Для мам и пап» (информация, фотовыставки, опросы, анкетирование, родительские собрания и др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виз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зическое воспитание – это то, что обеспечивает здоровье и доставляет радос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futbolist"/>
          <p:cNvPicPr/>
          <p:nvPr/>
        </p:nvPicPr>
        <p:blipFill>
          <a:blip r:embed="rId1"/>
          <a:stretch/>
        </p:blipFill>
        <p:spPr>
          <a:xfrm>
            <a:off x="971640" y="3500280"/>
            <a:ext cx="1780920" cy="201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55"/>
          <p:cNvPicPr/>
          <p:nvPr/>
        </p:nvPicPr>
        <p:blipFill>
          <a:blip r:embed="rId2"/>
          <a:stretch/>
        </p:blipFill>
        <p:spPr>
          <a:xfrm>
            <a:off x="4140360" y="3789360"/>
            <a:ext cx="1695240" cy="1695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an50"/>
          <p:cNvPicPr/>
          <p:nvPr/>
        </p:nvPicPr>
        <p:blipFill>
          <a:blip r:embed="rId3"/>
          <a:stretch/>
        </p:blipFill>
        <p:spPr>
          <a:xfrm>
            <a:off x="6659640" y="3213000"/>
            <a:ext cx="14288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7640" y="259920"/>
            <a:ext cx="6491160" cy="58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аботе с детьм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Ежедневная профилактическая работ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филактическая гимнастика      (дыхательная, улучшение осанки, плоскостопия, зрения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имнастика пробуждения, дорожка «здоровья»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оздушное контрастное закалива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SAM_0460"/>
          <p:cNvPicPr/>
          <p:nvPr/>
        </p:nvPicPr>
        <p:blipFill>
          <a:blip r:embed="rId1"/>
          <a:stretch/>
        </p:blipFill>
        <p:spPr>
          <a:xfrm>
            <a:off x="6516720" y="148428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SAM_0459"/>
          <p:cNvPicPr/>
          <p:nvPr/>
        </p:nvPicPr>
        <p:blipFill>
          <a:blip r:embed="rId2"/>
          <a:stretch/>
        </p:blipFill>
        <p:spPr>
          <a:xfrm>
            <a:off x="6516720" y="3645000"/>
            <a:ext cx="251928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ип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формационно – практико – творчес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и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мешанны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итель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6 месяце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частник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оспитатель МДБОУ «Детский сад №3» Пичкобий Алла Анатольевн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дители и члены семь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ти старшей групп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зучение состояния здоровья детей в группе по четырем основным критерия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личие или отсутствие заболев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ровень физического и нервно-психического развит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ровень физиологических систем организм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тойчивость у воздействию вредных факторов среды (в том числе к заболеваниям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полнение «Тетради здоровья» воспитателем группы совместно с медработником МБДО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23:10:27Z</dcterms:created>
  <dc:creator>Lanos</dc:creator>
  <dc:description/>
  <dc:language>en-US</dc:language>
  <cp:lastModifiedBy>Компьютер</cp:lastModifiedBy>
  <dcterms:modified xsi:type="dcterms:W3CDTF">2012-03-29T15:56:00Z</dcterms:modified>
  <cp:revision>35</cp:revision>
  <dc:subject/>
  <dc:title>Проект:  « Я здоровье берегу – сам себе я помогу»</dc:title>
</cp:coreProperties>
</file>