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3.gif" ContentType="image/gif"/>
  <Override PartName="/ppt/media/image31.png" ContentType="image/png"/>
  <Override PartName="/ppt/media/image10.gif" ContentType="image/gif"/>
  <Override PartName="/ppt/media/image12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gif" ContentType="image/gif"/>
  <Override PartName="/ppt/media/image11.gif" ContentType="image/gif"/>
  <Override PartName="/ppt/media/image8.gif" ContentType="image/gif"/>
  <Override PartName="/ppt/media/image9.gif" ContentType="image/gif"/>
  <Override PartName="/ppt/media/image26.jpeg" ContentType="image/jpeg"/>
  <Override PartName="/ppt/media/image30.png" ContentType="image/png"/>
  <Override PartName="/ppt/media/image7.gif" ContentType="image/gif"/>
  <Override PartName="/ppt/media/image29.jpeg" ContentType="image/jpeg"/>
  <Override PartName="/ppt/media/image1.jpeg" ContentType="image/jpeg"/>
  <Override PartName="/ppt/media/image22.jpeg" ContentType="image/jpeg"/>
  <Override PartName="/ppt/media/image14.gif" ContentType="image/gif"/>
  <Override PartName="/ppt/media/image15.gif" ContentType="image/gif"/>
  <Override PartName="/ppt/media/image28.jpeg" ContentType="image/jpeg"/>
  <Override PartName="/ppt/media/image16.gif" ContentType="image/gif"/>
  <Override PartName="/ppt/media/image20.jpeg" ContentType="image/jpeg"/>
  <Override PartName="/ppt/media/image32.wmf" ContentType="image/x-wmf"/>
  <Override PartName="/ppt/media/image6.gif" ContentType="image/gif"/>
  <Override PartName="/ppt/media/image21.jpeg" ContentType="image/jpeg"/>
  <Override PartName="/ppt/media/image2.gif" ContentType="image/gif"/>
  <Override PartName="/ppt/media/image19.jpeg" ContentType="image/jpeg"/>
  <Override PartName="/ppt/media/image23.jpeg" ContentType="image/jpeg"/>
  <Override PartName="/ppt/media/image2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65E-26A1-4A87-9531-EAE02164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261-F881-42DB-8A58-7F7DC58F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1F6-5C6C-4E93-8540-1EC6EDCE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DB9-BF9D-4F18-8690-B2DE35D2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E4F-83DD-49A7-8349-CE4E1F2B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5665-69D7-4AEA-B213-00F7B10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3A81-EA20-44C2-BDA4-D43E037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294F-72E3-40C2-8CAA-9CB0983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F17-9E4F-43D1-B841-0EE7AC14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5D99-FE4D-4AC0-8476-833E40CA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00C-F468-461E-BCB3-134C40B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9B9-2CAC-4DAB-854E-5833F3A9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B19-159D-41AD-A324-43086A48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5FA2-53EC-4A5C-976A-DD5D7C8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D7A-A304-4E33-B5F7-4955354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DD6-CF41-4582-9108-18193833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1AC-08BD-431F-9F4E-8F64D100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B32-5F38-43CD-896C-E3C8C722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EB3-9F1B-46D5-AAB1-B7A9D044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5C3-B164-459F-89D2-34A67698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677-588F-4B66-888C-7D82A87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EB7-24B8-4386-B564-F0E25F6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220-E8C9-441E-A79F-08AD2F2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C7D-8632-49A6-98E0-CEB0F0F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A117-D591-423B-A415-C668057BA6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767-32B5-473A-9A07-F2AFDF31E3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384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Проект: </a:t>
            </a:r>
            <a:br>
              <a:rPr sz="4600"/>
            </a:b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« Я здоровье берегу – сам себе я помогу»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чкобий Алла Анато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Б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тский сад № 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азываев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1835280" y="4149720"/>
            <a:ext cx="1714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«Если хочешь быть здоров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ов оздоровления детей в соответствии с возрастом, индивидуальными особенностями детей и пожеланиями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aerobics_lady08"/>
          <p:cNvPicPr/>
          <p:nvPr/>
        </p:nvPicPr>
        <p:blipFill>
          <a:blip r:embed="rId1"/>
          <a:stretch/>
        </p:blipFill>
        <p:spPr>
          <a:xfrm>
            <a:off x="6588000" y="4292640"/>
            <a:ext cx="200520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wer"/>
          <p:cNvPicPr/>
          <p:nvPr/>
        </p:nvPicPr>
        <p:blipFill>
          <a:blip r:embed="rId2"/>
          <a:stretch/>
        </p:blipFill>
        <p:spPr>
          <a:xfrm>
            <a:off x="7093080" y="404640"/>
            <a:ext cx="1655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ос родителей «Методы закаливания в старшей групп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ы закали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спективное планирование физкультурно-оздоровительной работы в группе на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ГН (перспективное планирование на го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Я та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нятия по развитию представлений о мире и о се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детям представление о себе: о своем теле, о здоровье, о безопасности и эмо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114061663"/>
          <p:cNvPicPr/>
          <p:nvPr/>
        </p:nvPicPr>
        <p:blipFill>
          <a:blip r:embed="rId1"/>
          <a:stretch/>
        </p:blipFill>
        <p:spPr>
          <a:xfrm>
            <a:off x="684360" y="458136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9"/>
          <p:cNvPicPr/>
          <p:nvPr/>
        </p:nvPicPr>
        <p:blipFill>
          <a:blip r:embed="rId2"/>
          <a:stretch/>
        </p:blipFill>
        <p:spPr>
          <a:xfrm>
            <a:off x="3708360" y="4365720"/>
            <a:ext cx="920880" cy="166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7"/>
          <p:cNvPicPr/>
          <p:nvPr/>
        </p:nvPicPr>
        <p:blipFill>
          <a:blip r:embed="rId3"/>
          <a:stretch/>
        </p:blipFill>
        <p:spPr>
          <a:xfrm>
            <a:off x="6588000" y="4508640"/>
            <a:ext cx="779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Творческая мастерск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зодеятельность детей и род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оздоровительной работы с детьми и обогащение развивающей среды в группе при взаимодействии воспитателя, детей и 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полнение уголка ИЗО в группе материалами для изодеятельности детей в соответствии с возрас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лективные и индивидуальные работы де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развивающей среды для развития мелкой моторики ру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готовление уголка здоровья для род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нирование занятий по изодеятельности (рисование, лепка, аппликаци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тво родителей по темам: «Я здоров!», «Средства личной гигиены», «Чтобы быть здоровым…»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SAM_0470"/>
          <p:cNvPicPr/>
          <p:nvPr/>
        </p:nvPicPr>
        <p:blipFill>
          <a:blip r:embed="rId1"/>
          <a:stretch/>
        </p:blipFill>
        <p:spPr>
          <a:xfrm>
            <a:off x="468360" y="364500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AM_0471"/>
          <p:cNvPicPr/>
          <p:nvPr/>
        </p:nvPicPr>
        <p:blipFill>
          <a:blip r:embed="rId2"/>
          <a:stretch/>
        </p:blipFill>
        <p:spPr>
          <a:xfrm>
            <a:off x="395280" y="26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AM_0475"/>
          <p:cNvPicPr/>
          <p:nvPr/>
        </p:nvPicPr>
        <p:blipFill>
          <a:blip r:embed="rId3"/>
          <a:stretch/>
        </p:blipFill>
        <p:spPr>
          <a:xfrm>
            <a:off x="3492360" y="2060640"/>
            <a:ext cx="3063960" cy="229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AM_0476"/>
          <p:cNvPicPr/>
          <p:nvPr/>
        </p:nvPicPr>
        <p:blipFill>
          <a:blip r:embed="rId4"/>
          <a:stretch/>
        </p:blipFill>
        <p:spPr>
          <a:xfrm>
            <a:off x="6300720" y="414972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 книжной пол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тение детской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учивание стихотворений, потеш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своему здоровью через чтение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русских народных потешек, приговорок, пестушек при умывании, расчесывании и заплетании волос дев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ть стихотворения о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AM_0462"/>
          <p:cNvPicPr/>
          <p:nvPr/>
        </p:nvPicPr>
        <p:blipFill>
          <a:blip r:embed="rId1"/>
          <a:stretch/>
        </p:blipFill>
        <p:spPr>
          <a:xfrm>
            <a:off x="5867280" y="333360"/>
            <a:ext cx="31338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6202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вание потешек, приговорок, пест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вание стихотво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ценировка по стихотворению Ю. Тувима «Овощ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ние иллюст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AM_0465"/>
          <p:cNvPicPr/>
          <p:nvPr/>
        </p:nvPicPr>
        <p:blipFill>
          <a:blip r:embed="rId1"/>
          <a:srcRect l="8270" t="0" r="13415" b="2487"/>
          <a:stretch/>
        </p:blipFill>
        <p:spPr>
          <a:xfrm>
            <a:off x="6227640" y="321300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59151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Веселись детв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своему и чужому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двигательную активность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психологический и эмоциональный комфорт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AM_0483"/>
          <p:cNvPicPr/>
          <p:nvPr/>
        </p:nvPicPr>
        <p:blipFill>
          <a:blip r:embed="rId1"/>
          <a:srcRect l="22649" t="0" r="0" b="2770"/>
          <a:stretch/>
        </p:blipFill>
        <p:spPr>
          <a:xfrm>
            <a:off x="6372360" y="981000"/>
            <a:ext cx="2628720" cy="247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AM_0480"/>
          <p:cNvPicPr/>
          <p:nvPr/>
        </p:nvPicPr>
        <p:blipFill>
          <a:blip r:embed="rId2"/>
          <a:srcRect l="16202" t="0" r="0" b="0"/>
          <a:stretch/>
        </p:blipFill>
        <p:spPr>
          <a:xfrm>
            <a:off x="6372360" y="3716280"/>
            <a:ext cx="26636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ительные досу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зд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ле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и здоров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матические прогул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овая деятель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идактически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южетно-ролев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движн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сихологические иг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ительные мину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альчиков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физкультмину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651640" y="476280"/>
            <a:ext cx="2865240" cy="191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5580000" y="3933720"/>
            <a:ext cx="2967120" cy="196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24"/>
          <p:cNvPicPr/>
          <p:nvPr/>
        </p:nvPicPr>
        <p:blipFill>
          <a:blip r:embed="rId3"/>
          <a:stretch/>
        </p:blipFill>
        <p:spPr>
          <a:xfrm>
            <a:off x="6516720" y="2492280"/>
            <a:ext cx="104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сохранить здоров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llery_2_388_5709"/>
          <p:cNvPicPr/>
          <p:nvPr/>
        </p:nvPicPr>
        <p:blipFill>
          <a:blip r:embed="rId1"/>
          <a:stretch/>
        </p:blipFill>
        <p:spPr>
          <a:xfrm>
            <a:off x="826920" y="4221000"/>
            <a:ext cx="1586160" cy="174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allery_2_391_14439"/>
          <p:cNvPicPr/>
          <p:nvPr/>
        </p:nvPicPr>
        <p:blipFill>
          <a:blip r:embed="rId2"/>
          <a:stretch/>
        </p:blipFill>
        <p:spPr>
          <a:xfrm>
            <a:off x="7236000" y="414972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3059280" y="3933720"/>
            <a:ext cx="2660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Для мам и па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комить родителей с методами оздоровления детей в детском саду и д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лекать родителей к работе по оздоровлению детей в детском са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"/>
          <p:cNvPicPr/>
          <p:nvPr/>
        </p:nvPicPr>
        <p:blipFill>
          <a:blip r:embed="rId1"/>
          <a:stretch/>
        </p:blipFill>
        <p:spPr>
          <a:xfrm>
            <a:off x="7164360" y="2781360"/>
            <a:ext cx="1728720" cy="171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68360" y="4941720"/>
            <a:ext cx="82072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Забота о здоровье невозможна без постоянной связи с семьей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5554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товыставки: «Мы мороза не боимся», «Моя семья на прогулк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ские собр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тавки работ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ая деятельность род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20160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1260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6"/>
          <p:cNvGraphicFramePr/>
          <p:nvPr/>
        </p:nvGraphicFramePr>
        <p:xfrm>
          <a:off x="468360" y="1004760"/>
          <a:ext cx="748836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4760"/>
                    <a:ext cx="748836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7"/>
          <p:cNvSpPr/>
          <p:nvPr/>
        </p:nvSpPr>
        <p:spPr>
          <a:xfrm>
            <a:off x="3276720" y="36900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спасиб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вним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охранять и укреплять здоровь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erobics_lady02"/>
          <p:cNvPicPr/>
          <p:nvPr/>
        </p:nvPicPr>
        <p:blipFill>
          <a:blip r:embed="rId1"/>
          <a:stretch/>
        </p:blipFill>
        <p:spPr>
          <a:xfrm>
            <a:off x="826920" y="4348080"/>
            <a:ext cx="1800360" cy="14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24"/>
          <p:cNvPicPr/>
          <p:nvPr/>
        </p:nvPicPr>
        <p:blipFill>
          <a:blip r:embed="rId2"/>
          <a:stretch/>
        </p:blipFill>
        <p:spPr>
          <a:xfrm>
            <a:off x="3995640" y="4365720"/>
            <a:ext cx="1217880" cy="154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0"/>
          <p:cNvPicPr/>
          <p:nvPr/>
        </p:nvPicPr>
        <p:blipFill>
          <a:blip r:embed="rId3"/>
          <a:stretch/>
        </p:blipFill>
        <p:spPr>
          <a:xfrm>
            <a:off x="6732720" y="43639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ть понимание необходимости заботиться о своем здоровье, беречь его, учиться быть здоровым и вести здоровый образ жизн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ивать любовь к физическим упражнениям, закаливани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ать грамотность родителей в вопросах воспитания и укрепления здоровья дошколь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wer"/>
          <p:cNvPicPr/>
          <p:nvPr/>
        </p:nvPicPr>
        <p:blipFill>
          <a:blip r:embed="rId1"/>
          <a:stretch/>
        </p:blipFill>
        <p:spPr>
          <a:xfrm>
            <a:off x="7596360" y="5589720"/>
            <a:ext cx="1168200" cy="1050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«Если хочешь быть здоров…» (физкультурно-оздоровительная работа, КГН, закалива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«Я такой» (занятия по развитию представлений о мире и о себ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«Творческая мастерская» (изодеятельность детей и родителе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«На книжной полке» (чтение детской литературы, заучивание стихотворений, потешек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«Веселись, детвора!» (оздоровительные досуги, праздники, развлечения, дни здоровья, тематические прогулки, игровая деятельность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«Для мам и пап» (информация, фотовыставки, опросы, анкетирование, родительские собрания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ое воспитание – это то, что обеспечивает здоровье и доставляет рад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utbolist"/>
          <p:cNvPicPr/>
          <p:nvPr/>
        </p:nvPicPr>
        <p:blipFill>
          <a:blip r:embed="rId1"/>
          <a:stretch/>
        </p:blipFill>
        <p:spPr>
          <a:xfrm>
            <a:off x="971640" y="3500280"/>
            <a:ext cx="1780920" cy="20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5"/>
          <p:cNvPicPr/>
          <p:nvPr/>
        </p:nvPicPr>
        <p:blipFill>
          <a:blip r:embed="rId2"/>
          <a:stretch/>
        </p:blipFill>
        <p:spPr>
          <a:xfrm>
            <a:off x="4140360" y="3789360"/>
            <a:ext cx="1695240" cy="169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an50"/>
          <p:cNvPicPr/>
          <p:nvPr/>
        </p:nvPicPr>
        <p:blipFill>
          <a:blip r:embed="rId3"/>
          <a:stretch/>
        </p:blipFill>
        <p:spPr>
          <a:xfrm>
            <a:off x="6659640" y="3213000"/>
            <a:ext cx="1428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649116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боте с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ая профилактическая раб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илактическая гимнастика      (дыхательная, улучшение осанки, плоскостопия, зр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мнастика пробуждения, дорожка «здоровья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душное контрастное закалив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AM_0460"/>
          <p:cNvPicPr/>
          <p:nvPr/>
        </p:nvPicPr>
        <p:blipFill>
          <a:blip r:embed="rId1"/>
          <a:stretch/>
        </p:blipFill>
        <p:spPr>
          <a:xfrm>
            <a:off x="6516720" y="1484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AM_0459"/>
          <p:cNvPicPr/>
          <p:nvPr/>
        </p:nvPicPr>
        <p:blipFill>
          <a:blip r:embed="rId2"/>
          <a:stretch/>
        </p:blipFill>
        <p:spPr>
          <a:xfrm>
            <a:off x="6516720" y="364500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о – практико – творче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ите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 месяц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тель МДБОУ «Детский сад №3» Пичкобий Алла Анатольев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и и члены семь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старшей груп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учение состояния здоровья детей в группе по четырем основным критерия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ичие или отсутствие заболе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ень физического и нервно-психического разви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ень физиологических систем организ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ойчивость у воздействию вредных факторов среды (в том числе к заболевания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олнение «Тетради здоровья» воспитателем группы совместно с медработником МБДО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3:10:27Z</dcterms:created>
  <dc:creator>Lanos</dc:creator>
  <dc:description/>
  <dc:language>en-US</dc:language>
  <cp:lastModifiedBy>Компьютер</cp:lastModifiedBy>
  <dcterms:modified xsi:type="dcterms:W3CDTF">2012-03-29T15:56:00Z</dcterms:modified>
  <cp:revision>35</cp:revision>
  <dc:subject/>
  <dc:title>Проект:  « Я здоровье берегу – сам себе я помогу»</dc:title>
</cp:coreProperties>
</file>