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4.png" ContentType="image/png"/>
  <Override PartName="/ppt/media/image20.png" ContentType="image/png"/>
  <Override PartName="/ppt/media/voltage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1" descr=""/>
          <p:cNvPicPr/>
          <p:nvPr/>
        </p:nvPicPr>
        <p:blipFill>
          <a:blip r:embed="rId3"/>
          <a:stretch/>
        </p:blipFill>
        <p:spPr>
          <a:xfrm>
            <a:off x="615960" y="2585880"/>
            <a:ext cx="2417760" cy="3456000"/>
          </a:xfrm>
          <a:prstGeom prst="rect">
            <a:avLst/>
          </a:prstGeom>
          <a:ln w="0">
            <a:noFill/>
          </a:ln>
        </p:spPr>
      </p:pic>
      <p:pic>
        <p:nvPicPr>
          <p:cNvPr id="37" name="Рисунок 2" descr=""/>
          <p:cNvPicPr/>
          <p:nvPr/>
        </p:nvPicPr>
        <p:blipFill>
          <a:blip r:embed="rId4"/>
          <a:stretch/>
        </p:blipFill>
        <p:spPr>
          <a:xfrm>
            <a:off x="9585360" y="2889360"/>
            <a:ext cx="2114640" cy="3146400"/>
          </a:xfrm>
          <a:prstGeom prst="rect">
            <a:avLst/>
          </a:prstGeom>
          <a:ln w="0">
            <a:noFill/>
          </a:ln>
        </p:spPr>
      </p:pic>
      <p:pic>
        <p:nvPicPr>
          <p:cNvPr id="38" name="Рисунок 3" descr=""/>
          <p:cNvPicPr/>
          <p:nvPr/>
        </p:nvPicPr>
        <p:blipFill>
          <a:blip r:embed="rId5"/>
          <a:stretch/>
        </p:blipFill>
        <p:spPr>
          <a:xfrm>
            <a:off x="615960" y="2585880"/>
            <a:ext cx="2417760" cy="3456000"/>
          </a:xfrm>
          <a:prstGeom prst="rect">
            <a:avLst/>
          </a:prstGeom>
          <a:ln w="0">
            <a:noFill/>
          </a:ln>
        </p:spPr>
      </p:pic>
      <p:pic>
        <p:nvPicPr>
          <p:cNvPr id="39" name="Рисунок 4" descr=""/>
          <p:cNvPicPr/>
          <p:nvPr/>
        </p:nvPicPr>
        <p:blipFill>
          <a:blip r:embed="rId6"/>
          <a:stretch/>
        </p:blipFill>
        <p:spPr>
          <a:xfrm>
            <a:off x="9585360" y="2889360"/>
            <a:ext cx="2114640" cy="314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3"/>
          <a:stretch/>
        </p:blipFill>
        <p:spPr>
          <a:xfrm>
            <a:off x="574560" y="2744640"/>
            <a:ext cx="2298960" cy="3297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4"/>
          <a:stretch/>
        </p:blipFill>
        <p:spPr>
          <a:xfrm>
            <a:off x="9809280" y="2290680"/>
            <a:ext cx="1643040" cy="3751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"/>
          <p:cNvPicPr/>
          <p:nvPr/>
        </p:nvPicPr>
        <p:blipFill>
          <a:blip r:embed="rId5"/>
          <a:stretch/>
        </p:blipFill>
        <p:spPr>
          <a:xfrm>
            <a:off x="574560" y="2744640"/>
            <a:ext cx="2298960" cy="3297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"/>
          <p:cNvPicPr/>
          <p:nvPr/>
        </p:nvPicPr>
        <p:blipFill>
          <a:blip r:embed="rId6"/>
          <a:stretch/>
        </p:blipFill>
        <p:spPr>
          <a:xfrm>
            <a:off x="9809280" y="2290680"/>
            <a:ext cx="1643040" cy="375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3"/>
          <a:stretch/>
        </p:blipFill>
        <p:spPr>
          <a:xfrm>
            <a:off x="868320" y="2400480"/>
            <a:ext cx="1461960" cy="3641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"/>
          <p:cNvPicPr/>
          <p:nvPr/>
        </p:nvPicPr>
        <p:blipFill>
          <a:blip r:embed="rId4"/>
          <a:stretch/>
        </p:blipFill>
        <p:spPr>
          <a:xfrm>
            <a:off x="9366120" y="2320920"/>
            <a:ext cx="2001960" cy="3720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5"/>
          <a:stretch/>
        </p:blipFill>
        <p:spPr>
          <a:xfrm>
            <a:off x="868320" y="2400480"/>
            <a:ext cx="1461960" cy="3641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6"/>
          <a:stretch/>
        </p:blipFill>
        <p:spPr>
          <a:xfrm>
            <a:off x="9366120" y="2320920"/>
            <a:ext cx="2001960" cy="37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3"/>
          <a:stretch/>
        </p:blipFill>
        <p:spPr>
          <a:xfrm>
            <a:off x="824040" y="2195640"/>
            <a:ext cx="2176200" cy="3846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9340920" y="2179800"/>
            <a:ext cx="2576520" cy="38620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/>
          <p:cNvPicPr/>
          <p:nvPr/>
        </p:nvPicPr>
        <p:blipFill>
          <a:blip r:embed="rId5"/>
          <a:stretch/>
        </p:blipFill>
        <p:spPr>
          <a:xfrm>
            <a:off x="824040" y="2195640"/>
            <a:ext cx="2176200" cy="3846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"/>
          <p:cNvPicPr/>
          <p:nvPr/>
        </p:nvPicPr>
        <p:blipFill>
          <a:blip r:embed="rId6"/>
          <a:stretch/>
        </p:blipFill>
        <p:spPr>
          <a:xfrm>
            <a:off x="9340920" y="2179800"/>
            <a:ext cx="2576520" cy="38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"/>
          <p:cNvPicPr/>
          <p:nvPr/>
        </p:nvPicPr>
        <p:blipFill>
          <a:blip r:embed="rId3"/>
          <a:stretch/>
        </p:blipFill>
        <p:spPr>
          <a:xfrm>
            <a:off x="2911320" y="506520"/>
            <a:ext cx="6390000" cy="44830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4"/>
          <a:stretch/>
        </p:blipFill>
        <p:spPr>
          <a:xfrm>
            <a:off x="2685960" y="1482840"/>
            <a:ext cx="6615360" cy="25304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"/>
          <p:cNvPicPr/>
          <p:nvPr/>
        </p:nvPicPr>
        <p:blipFill>
          <a:blip r:embed="rId5"/>
          <a:stretch/>
        </p:blipFill>
        <p:spPr>
          <a:xfrm>
            <a:off x="458640" y="2570040"/>
            <a:ext cx="1690920" cy="3683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6"/>
          <a:stretch/>
        </p:blipFill>
        <p:spPr>
          <a:xfrm>
            <a:off x="8478720" y="4089240"/>
            <a:ext cx="1562040" cy="1954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"/>
          <p:cNvPicPr/>
          <p:nvPr/>
        </p:nvPicPr>
        <p:blipFill>
          <a:blip r:embed="rId7"/>
          <a:stretch/>
        </p:blipFill>
        <p:spPr>
          <a:xfrm>
            <a:off x="9686880" y="1959120"/>
            <a:ext cx="2320920" cy="4084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5" descr=""/>
          <p:cNvPicPr/>
          <p:nvPr/>
        </p:nvPicPr>
        <p:blipFill>
          <a:blip r:embed="rId1"/>
          <a:stretch/>
        </p:blipFill>
        <p:spPr>
          <a:xfrm>
            <a:off x="9925200" y="3313080"/>
            <a:ext cx="2116080" cy="3144960"/>
          </a:xfrm>
          <a:prstGeom prst="rect">
            <a:avLst/>
          </a:prstGeom>
          <a:ln w="0">
            <a:noFill/>
          </a:ln>
        </p:spPr>
      </p:pic>
      <p:sp>
        <p:nvSpPr>
          <p:cNvPr id="240" name="Заголовок 1"/>
          <p:cNvSpPr/>
          <p:nvPr/>
        </p:nvSpPr>
        <p:spPr>
          <a:xfrm>
            <a:off x="592200" y="514440"/>
            <a:ext cx="113331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МЕЖДУНАРОДНЫЙ ДЕН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ДЕТСКОГО ТЕЛЕФОНА ДОВЕР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Рисунок 6" descr=""/>
          <p:cNvPicPr/>
          <p:nvPr/>
        </p:nvPicPr>
        <p:blipFill>
          <a:blip r:embed="rId2"/>
          <a:stretch/>
        </p:blipFill>
        <p:spPr>
          <a:xfrm>
            <a:off x="2247840" y="4416480"/>
            <a:ext cx="573120" cy="5047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"/>
          <p:cNvGrpSpPr/>
          <p:nvPr/>
        </p:nvGrpSpPr>
        <p:grpSpPr>
          <a:xfrm>
            <a:off x="420840" y="3182760"/>
            <a:ext cx="2417760" cy="3456000"/>
            <a:chOff x="420840" y="3182760"/>
            <a:chExt cx="2417760" cy="3456000"/>
          </a:xfrm>
        </p:grpSpPr>
        <p:pic>
          <p:nvPicPr>
            <p:cNvPr id="243" name="Рисунок 6" descr=""/>
            <p:cNvPicPr/>
            <p:nvPr/>
          </p:nvPicPr>
          <p:blipFill>
            <a:blip r:embed="rId3"/>
            <a:stretch/>
          </p:blipFill>
          <p:spPr>
            <a:xfrm>
              <a:off x="420840" y="3182760"/>
              <a:ext cx="186372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Рисунок 6" descr=""/>
            <p:cNvPicPr/>
            <p:nvPr/>
          </p:nvPicPr>
          <p:blipFill>
            <a:blip r:embed="rId4"/>
            <a:stretch/>
          </p:blipFill>
          <p:spPr>
            <a:xfrm>
              <a:off x="2083680" y="4885560"/>
              <a:ext cx="754920" cy="37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Рисунок 2" descr=""/>
          <p:cNvPicPr/>
          <p:nvPr/>
        </p:nvPicPr>
        <p:blipFill>
          <a:blip r:embed="rId5"/>
          <a:stretch/>
        </p:blipFill>
        <p:spPr>
          <a:xfrm>
            <a:off x="4633920" y="3767040"/>
            <a:ext cx="264636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"/>
          <p:cNvSpPr/>
          <p:nvPr/>
        </p:nvSpPr>
        <p:spPr>
          <a:xfrm>
            <a:off x="7280280" y="403560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дготовила :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ДОУ «ЦРР-детский сад №58»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альцева М.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25E-006 -7.40741E-007 L -1.25E-006 -0.25 E">
                                      <p:cBhvr>
                                        <p:cTn id="1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25E-006 1.48148E-006 L -0.19362 0.00648 E">
                                      <p:cBhvr>
                                        <p:cTn id="14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5E-006 4.81481E-006 C 0.00443 -0.00741 0.01992 -0.01413 0.02565 -0.01413 C 0.06016 -0.01413 0.09584 0.09884 0.09584 0.21203 C 0.09584 0.15486 0.1138 0.09884 0.13047 0.09884 C 0.14831 0.09884 0.16498 0.15555 0.16498 0.21203 C 0.16498 0.18379 0.17383 0.15486 0.18282 0.15486 C 0.19167 0.15486 0.20065 0.18287 0.20065 0.21203 C 0.20065 0.19722 0.20521 0.18379 0.20951 0.18379 C 0.21407 0.18379 0.21836 0.19814 0.21836 0.21203 C 0.21836 0.20439 0.22058 0.19722 0.22292 0.19722 C 0.22409 0.19722 0.22735 0.20486 0.22735 0.21203 C 0.22735 0.2081 0.22852 0.20439 0.22956 0.20439 C 0.22956 0.20532 0.23177 0.20787 0.23177 0.21203 C 0.23177 0.20995 0.23177 0.2081 0.23295 0.2081 C 0.23295 0.20902 0.23412 0.21018 0.23412 0.21203 C 0.23412 0.21111 0.23412 0.20995 0.23412 0.20902 C 0.23529 0.20902 0.23529 0.20995 0.23529 0.21111 C 0.23646 0.21111 0.23646 0.21018 0.23646 0.20902 C 0.23763 0.20902 0.23763 0.20995 0.23763 0.21111 E">
                                      <p:cBhvr>
                                        <p:cTn id="16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87320" y="385560"/>
            <a:ext cx="5365800" cy="600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В рамках Общенациональной информационной компании по противодействию жестокому обращению с детьми Фондом поддержки детей, находящихся в трудной жизненной ситуации, совместно с субъектами Российской Федерации, был создан единый общероссийский номер детского телефона доверия: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-800-2000-122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1"/>
          <a:stretch/>
        </p:blipFill>
        <p:spPr>
          <a:xfrm>
            <a:off x="520560" y="2585880"/>
            <a:ext cx="2416320" cy="3456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"/>
          <p:cNvPicPr/>
          <p:nvPr/>
        </p:nvPicPr>
        <p:blipFill>
          <a:blip r:embed="rId2"/>
          <a:stretch/>
        </p:blipFill>
        <p:spPr>
          <a:xfrm>
            <a:off x="9364680" y="2897280"/>
            <a:ext cx="2114640" cy="314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92360" y="461520"/>
            <a:ext cx="5367600" cy="51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ДЕТСКИЙ ТЕЛЕФОН ДОВЕРИЯ – </a:t>
            </a:r>
            <a:br>
              <a:rPr sz="4000"/>
            </a:br>
            <a:r>
              <a:rPr b="0" lang="ru-RU" sz="4000" spc="-1" strike="noStrike">
                <a:solidFill>
                  <a:srgbClr val="2e75b6"/>
                </a:solidFill>
                <a:latin typeface="Calibri Light"/>
              </a:rPr>
              <a:t>бесплатная анонимная служба экстренной психологической помощи детям и подросткам по телефону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1" name="Рисунок 5" descr=""/>
          <p:cNvPicPr/>
          <p:nvPr/>
        </p:nvPicPr>
        <p:blipFill>
          <a:blip r:embed="rId1"/>
          <a:stretch/>
        </p:blipFill>
        <p:spPr>
          <a:xfrm>
            <a:off x="590400" y="3040200"/>
            <a:ext cx="2298960" cy="32986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"/>
          <p:cNvPicPr/>
          <p:nvPr/>
        </p:nvPicPr>
        <p:blipFill>
          <a:blip r:embed="rId2"/>
          <a:stretch/>
        </p:blipFill>
        <p:spPr>
          <a:xfrm>
            <a:off x="9462960" y="2585880"/>
            <a:ext cx="164304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46200" y="140760"/>
            <a:ext cx="5367240" cy="655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У каждого ребенка, как и взрослого, возникают сложности и проблемы, вопросы. </a:t>
            </a:r>
            <a:br>
              <a:rPr sz="2800"/>
            </a:br>
            <a:r>
              <a:rPr b="0" lang="ru-RU" sz="28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Телефон доверия – служба, «работающая» на безопасность детей. Телефон доверия позволяет ребенку в доступной форме обратиться за помощью, советом, решением жизненных трудностей в ситуации, когда по какой-то причине он не может получить это от близких или знакомых. Телефон доверия дает ребенку возможность позвать взрослых на помощь, оказавшись в беде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820800" y="2787480"/>
            <a:ext cx="1461960" cy="3643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"/>
          <p:cNvPicPr/>
          <p:nvPr/>
        </p:nvPicPr>
        <p:blipFill>
          <a:blip r:embed="rId2"/>
          <a:stretch/>
        </p:blipFill>
        <p:spPr>
          <a:xfrm>
            <a:off x="9513720" y="2708280"/>
            <a:ext cx="2001960" cy="37227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"/>
          <p:cNvPicPr/>
          <p:nvPr/>
        </p:nvPicPr>
        <p:blipFill>
          <a:blip r:embed="rId3"/>
          <a:stretch/>
        </p:blipFill>
        <p:spPr>
          <a:xfrm>
            <a:off x="9112320" y="2336760"/>
            <a:ext cx="40968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0833E-006 -4.07407E-006 C -0.06419 -0.00926 -0.12356 -0.03263 -0.19192 -0.02708 C -0.24049 -0.0206 -0.2862 -0.01666 -0.33294 0.02848 C -0.38672 0.08033 -0.42734 0.13403 -0.44922 0.19561 L -0.55403 0.48033 E">
                                      <p:cBhvr>
                                        <p:cTn id="51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2200" y="385920"/>
            <a:ext cx="11204640" cy="158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устроен телефон доверия?</a:t>
            </a:r>
            <a:br>
              <a:rPr sz="3600"/>
            </a:br>
            <a:r>
              <a:rPr b="0" lang="ru-RU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На телефонах доверия работают специально обученные специалисты </a:t>
            </a:r>
            <a:r>
              <a:rPr b="0" lang="ru-RU" sz="40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–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1712880" y="2060640"/>
            <a:ext cx="8705880" cy="407340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Телефон Доверия дает возможность ребенку, переживающему какие-либо трудности, получить поддерж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- Телефон доверия открыт для кажд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С консультантом Телефона Доверия можно поделиться любой беспокоящей пробл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- Помощь на Телефоне Доверия всегда аноним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Обращаясь на Телефон Доверия, ребенок может получить интересующую его информ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75b6"/>
                </a:solidFill>
                <a:latin typeface="Calibri"/>
              </a:rPr>
              <a:t>-Телефон Доверия работает в своем определенном режиме - круглосуточно или по распис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Рисунок 6" descr=""/>
          <p:cNvPicPr/>
          <p:nvPr/>
        </p:nvPicPr>
        <p:blipFill>
          <a:blip r:embed="rId1"/>
          <a:stretch/>
        </p:blipFill>
        <p:spPr>
          <a:xfrm>
            <a:off x="9512280" y="2851200"/>
            <a:ext cx="2575080" cy="38624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"/>
          <p:cNvPicPr/>
          <p:nvPr/>
        </p:nvPicPr>
        <p:blipFill>
          <a:blip r:embed="rId2"/>
          <a:stretch/>
        </p:blipFill>
        <p:spPr>
          <a:xfrm>
            <a:off x="330120" y="3011400"/>
            <a:ext cx="217656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7,17,-1)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75,-1)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87320" y="385560"/>
            <a:ext cx="5365800" cy="577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75b6"/>
                </a:solidFill>
                <a:latin typeface="Calibri Light"/>
              </a:rPr>
              <a:t>Принципы работы службы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«Телефон доверия»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Доступность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Анонимность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Доверительность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Конфиденциа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87320" y="385920"/>
            <a:ext cx="5365800" cy="624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52d0d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ОМОЩЬ ПО ТЕЛЕФОНУ ДОВЕРИЯ ОКАЗЫВАЕТСЯ КРУГЛОСУТОЧНО, АНОНИМНО, КОНФИДЕНЦИАЛЬНО И БЕСПЛАТНО!</a:t>
            </a:r>
            <a:br>
              <a:rPr sz="4000"/>
            </a:br>
            <a:br>
              <a:rPr sz="4000"/>
            </a:br>
            <a:r>
              <a:rPr b="1" lang="ru-RU" sz="59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ru-RU" sz="5900" spc="-1" strike="noStrike" u="sng">
                <a:solidFill>
                  <a:srgbClr val="ff0000"/>
                </a:solidFill>
                <a:uFillTx/>
                <a:latin typeface="Calibri Light"/>
              </a:rPr>
              <a:t>8-800-2000-122</a:t>
            </a:r>
            <a:r>
              <a:rPr b="1" lang="ru-RU" sz="5900" spc="-1" strike="noStrike">
                <a:solidFill>
                  <a:srgbClr val="ff0000"/>
                </a:solidFill>
                <a:latin typeface="Calibri Light"/>
              </a:rPr>
              <a:t> 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12560" y="385920"/>
            <a:ext cx="91314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ирование о телефоне доверия – шаг к безопасности ребенка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3349800" y="2214720"/>
            <a:ext cx="569088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5T12:14:24Z</dcterms:created>
  <dc:creator/>
  <dc:description/>
  <dc:language>en-US</dc:language>
  <cp:lastModifiedBy/>
  <dcterms:modified xsi:type="dcterms:W3CDTF">2017-10-07T14:41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9AC5EAA778EFE4AB81F53BA0C48C9BB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