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20FC-338E-4B6D-B431-4029220A60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5F3D-23C4-427E-95AE-DC76A1D70C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EEB0-A330-41BA-BC0B-30A390CE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80F8-1DFC-408F-8497-D7D97E24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B2BA-DDDC-49E2-86E1-2F26490C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8ACB-DA83-4D0B-9CA7-0BF75FDC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D7A1-A3ED-42E9-9BEB-9B535DB1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DDCB-F4E0-4BD2-A370-B5AB23BB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0236-80E1-443A-8681-39BBA532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011-6B7C-4656-A5A2-198287D1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8E5A-1EA5-40FD-8474-B6C42A0F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9609-685A-4BB7-86BB-8FDA542E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9427-5069-4F6B-8539-E25DBC80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C9B-0D11-4424-82F4-FB6EAAC9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FE8D-B182-41D8-BDF2-0CF2FF523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32523"/>
                </a:solidFill>
                <a:latin typeface="Monotype Corsiva"/>
              </a:rPr>
              <a:t>Анализ стихотворени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2743200" y="3200400"/>
            <a:ext cx="42260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440" y="456840"/>
            <a:ext cx="80010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32523"/>
                </a:solidFill>
                <a:uFillTx/>
                <a:latin typeface="Calibri"/>
              </a:rPr>
              <a:t>Композиция</a:t>
            </a: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 – расположение, соотношение частей в художественном произвед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32523"/>
                </a:solidFill>
                <a:uFillTx/>
                <a:latin typeface="Calibri"/>
              </a:rPr>
              <a:t>Метафора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– скрытое сравнение, в основе которого лежит переносное значение слова, союз (как, словно, как будто) при этом отсутствует, но подразумева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632523"/>
                </a:solidFill>
                <a:latin typeface="Monotype Corsiva"/>
              </a:rPr>
              <a:t>«В саду </a:t>
            </a:r>
            <a:r>
              <a:rPr b="1" lang="ru-RU" sz="3200" spc="-1" strike="noStrike">
                <a:solidFill>
                  <a:srgbClr val="632523"/>
                </a:solidFill>
                <a:latin typeface="Monotype Corsiva"/>
              </a:rPr>
              <a:t>горит костёр рябины красной</a:t>
            </a:r>
            <a:r>
              <a:rPr b="0" lang="ru-RU" sz="3200" spc="-1" strike="noStrike">
                <a:solidFill>
                  <a:srgbClr val="632523"/>
                </a:solidFill>
                <a:latin typeface="Monotype Corsiva"/>
              </a:rPr>
              <a:t>, но   никого не может он согреть» (С.А.Есенин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457200" y="4876920"/>
            <a:ext cx="23288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32523"/>
                </a:solidFill>
                <a:uFillTx/>
                <a:latin typeface="Calibri"/>
              </a:rPr>
              <a:t>Эпитет</a:t>
            </a: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 - - это красочное определение чего-либо (в основном прилагательны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632523"/>
                </a:solidFill>
                <a:uFillTx/>
                <a:latin typeface="Calibri"/>
              </a:rPr>
              <a:t>Олицетворение</a:t>
            </a: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 - художественный приём, основанный на наделении неодушевлённых предметов человеческими качествами и чувств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632523"/>
                </a:solidFill>
                <a:latin typeface="Monotype Corsiva"/>
              </a:rPr>
              <a:t>«И вот </a:t>
            </a:r>
            <a:r>
              <a:rPr b="1" lang="ru-RU" sz="3200" spc="-1" strike="noStrike">
                <a:solidFill>
                  <a:srgbClr val="632523"/>
                </a:solidFill>
                <a:latin typeface="Monotype Corsiva"/>
              </a:rPr>
              <a:t>начинают шептаться</a:t>
            </a:r>
            <a:r>
              <a:rPr b="0" lang="ru-RU" sz="3200" spc="-1" strike="noStrike">
                <a:solidFill>
                  <a:srgbClr val="632523"/>
                </a:solidFill>
                <a:latin typeface="Monotype Corsiva"/>
              </a:rPr>
              <a:t> между собой </a:t>
            </a:r>
            <a:r>
              <a:rPr b="1" lang="ru-RU" sz="3200" spc="-1" strike="noStrike">
                <a:solidFill>
                  <a:srgbClr val="632523"/>
                </a:solidFill>
                <a:latin typeface="Monotype Corsiva"/>
              </a:rPr>
              <a:t>деревья</a:t>
            </a:r>
            <a:r>
              <a:rPr b="0" lang="ru-RU" sz="3200" spc="-1" strike="noStrike">
                <a:solidFill>
                  <a:srgbClr val="632523"/>
                </a:solidFill>
                <a:latin typeface="Monotype Corsiva"/>
              </a:rPr>
              <a:t>: берёза белая с другой берёзой белой издали </a:t>
            </a:r>
            <a:r>
              <a:rPr b="1" lang="ru-RU" sz="3200" spc="-1" strike="noStrike">
                <a:solidFill>
                  <a:srgbClr val="632523"/>
                </a:solidFill>
                <a:latin typeface="Monotype Corsiva"/>
              </a:rPr>
              <a:t>перекликаются</a:t>
            </a:r>
            <a:r>
              <a:rPr b="0" lang="ru-RU" sz="3200" spc="-1" strike="noStrike">
                <a:solidFill>
                  <a:srgbClr val="632523"/>
                </a:solidFill>
                <a:latin typeface="Monotype Corsiva"/>
              </a:rPr>
              <a:t>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1066680" y="434340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09480" y="20574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32523"/>
                </a:solidFill>
                <a:uFillTx/>
                <a:latin typeface="Calibri"/>
              </a:rPr>
              <a:t>Лирический герой </a:t>
            </a: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- лицо в лирической поэзии, переживания, мысли и чувства которого выражены в стихотворении, от имени которого оно написа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5029200" y="3886200"/>
            <a:ext cx="2836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Dagestan</cp:lastModifiedBy>
  <dcterms:modified xsi:type="dcterms:W3CDTF">2016-01-20T15:48:07Z</dcterms:modified>
  <cp:revision>6</cp:revision>
  <dc:subject/>
  <dc:title>Название презентации</dc:title>
</cp:coreProperties>
</file>