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3EF4-F91C-441D-B67B-2617EFE071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E570-80F8-4ABF-B971-7EEC86D2DF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3AD-83E6-4D92-AF48-3D46A573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945D-2EEE-4DB5-96F4-91975F44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C20-7046-44C6-A4E7-0BFCA0D7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0A41-45B8-46B0-9B53-D8E606A01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56B-F804-44B1-9A6A-1F7E45BB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A76-9481-4D0D-A189-620910FA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ED18-2A52-4443-B6A1-7BB6FFCD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BF6-E97E-4A0E-AC68-981C6FD2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9A16-2CA6-4C5E-8D8D-B0834BF0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0CC1-3484-47AB-B76D-C907A8C2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9D0-7F02-4929-B12C-2AEF37EF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157-BA71-4368-A3A6-972A7382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9497-1279-443D-9CB4-061E7BE1F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32523"/>
                </a:solidFill>
                <a:latin typeface="Monotype Corsiva"/>
              </a:rPr>
              <a:t>Анализ стихотвор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42260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440" y="456840"/>
            <a:ext cx="80010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Композиция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– расположение, соотношение частей в художественном произведен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Метафора</a:t>
            </a: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 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– скрытое сравнение, в основе которого лежит переносное значение слова, союз (как, словно, как будто) при этом отсутствует, но подразумев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«В саду </a:t>
            </a:r>
            <a:r>
              <a:rPr b="1" lang="ru-RU" sz="3200" spc="-1" strike="noStrike">
                <a:solidFill>
                  <a:srgbClr val="632523"/>
                </a:solidFill>
                <a:latin typeface="Monotype Corsiva"/>
              </a:rPr>
              <a:t>горит костёр рябины красной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, но   никого не может он согреть» (С.А.Есенин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457200" y="4876920"/>
            <a:ext cx="23288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Эпитет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- - это красочное определение чего-либо (в основном прилагательны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Олицетворение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 - художественный приём, основанный на наделении неодушевлённых предметов человеческими качествами и чувств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    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«И вот </a:t>
            </a:r>
            <a:r>
              <a:rPr b="1" lang="ru-RU" sz="3200" spc="-1" strike="noStrike">
                <a:solidFill>
                  <a:srgbClr val="632523"/>
                </a:solidFill>
                <a:latin typeface="Monotype Corsiva"/>
              </a:rPr>
              <a:t>начинают шептаться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 между собой </a:t>
            </a:r>
            <a:r>
              <a:rPr b="1" lang="ru-RU" sz="3200" spc="-1" strike="noStrike">
                <a:solidFill>
                  <a:srgbClr val="632523"/>
                </a:solidFill>
                <a:latin typeface="Monotype Corsiva"/>
              </a:rPr>
              <a:t>деревья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: берёза белая с другой берёзой белой издали </a:t>
            </a:r>
            <a:r>
              <a:rPr b="1" lang="ru-RU" sz="3200" spc="-1" strike="noStrike">
                <a:solidFill>
                  <a:srgbClr val="632523"/>
                </a:solidFill>
                <a:latin typeface="Monotype Corsiva"/>
              </a:rPr>
              <a:t>перекликаются</a:t>
            </a:r>
            <a:r>
              <a:rPr b="0" lang="ru-RU" sz="3200" spc="-1" strike="noStrike">
                <a:solidFill>
                  <a:srgbClr val="632523"/>
                </a:solidFill>
                <a:latin typeface="Monotype Corsiva"/>
              </a:rPr>
              <a:t>…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1066680" y="4343400"/>
            <a:ext cx="2210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20574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32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32523"/>
                </a:solidFill>
                <a:uFillTx/>
                <a:latin typeface="Calibri"/>
              </a:rPr>
              <a:t>Лирический герой </a:t>
            </a:r>
            <a:r>
              <a:rPr b="0" lang="ru-RU" sz="3200" spc="-1" strike="noStrike">
                <a:solidFill>
                  <a:srgbClr val="632523"/>
                </a:solidFill>
                <a:latin typeface="Calibri"/>
              </a:rPr>
              <a:t>- лицо в лирической поэзии, переживания, мысли и чувства которого выражены в стихотворении, от имени которого оно написа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1"/>
          <a:stretch/>
        </p:blipFill>
        <p:spPr>
          <a:xfrm>
            <a:off x="5029200" y="3886200"/>
            <a:ext cx="28368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Dagestan</cp:lastModifiedBy>
  <dcterms:modified xsi:type="dcterms:W3CDTF">2016-01-20T15:48:07Z</dcterms:modified>
  <cp:revision>6</cp:revision>
  <dc:subject/>
  <dc:title>Название презентации</dc:title>
</cp:coreProperties>
</file>