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64AC-141C-4954-B473-B9330EBAD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68E3-B6FF-4698-8866-A76390418F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90F-B2F7-4955-B664-946E8CDD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9EE-9567-4866-B1DF-AA75C3A2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CC1-04EB-4C17-B493-E4C05683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C3A-2C6B-44AF-A4D9-B2559589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424-5EAB-4258-96C5-0226A908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599-D472-4F77-8D62-7F81BFB0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486-F413-43CD-9EC9-FED1554A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EFB-AFDA-45EC-AC23-B18B92C6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3CF-130E-4A9B-8E36-AB4DC83A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66E-124F-4455-B67C-D588B56D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4E8-3259-4764-9C1D-44532678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6D5-6F59-41AA-82DE-B833E030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88E4-3674-4372-97F2-0D15634C2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15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55640" y="836640"/>
            <a:ext cx="48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1 сентября – День знан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95280" y="522936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воспитатель 1 кв.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вичева Наталь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shool_autumn_m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pic"/>
          <p:cNvPicPr/>
          <p:nvPr/>
        </p:nvPicPr>
        <p:blipFill>
          <a:blip r:embed="rId2"/>
          <a:stretch/>
        </p:blipFill>
        <p:spPr>
          <a:xfrm>
            <a:off x="1835280" y="260280"/>
            <a:ext cx="5524200" cy="3686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971640" y="414972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кольники учатся в классе, сидят за партами, учитель пишет на дос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826920" y="50846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урок зовет зво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www.gifmania.ru/Animated-Gifs-Rozhdestvo-Khristovo/Animations-Christmas-Bells/Christmas-Bells-44489.gif"/>
          <p:cNvPicPr/>
          <p:nvPr/>
        </p:nvPicPr>
        <p:blipFill>
          <a:blip r:embed="rId2"/>
          <a:stretch/>
        </p:blipFill>
        <p:spPr>
          <a:xfrm>
            <a:off x="1908000" y="-171360"/>
            <a:ext cx="51120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0998"/>
          <p:cNvPicPr/>
          <p:nvPr/>
        </p:nvPicPr>
        <p:blipFill>
          <a:blip r:embed="rId2"/>
          <a:stretch/>
        </p:blipFill>
        <p:spPr>
          <a:xfrm>
            <a:off x="1258920" y="0"/>
            <a:ext cx="6900840" cy="5175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116000" y="508464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ду уроками в школе перем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755640" y="53737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детском саду детей встречает воспита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http://bdou94.ucoz.ru/ltnb.jpg"/>
          <p:cNvPicPr/>
          <p:nvPr/>
        </p:nvPicPr>
        <p:blipFill>
          <a:blip r:embed="rId2"/>
          <a:stretch/>
        </p:blipFill>
        <p:spPr>
          <a:xfrm>
            <a:off x="798480" y="333360"/>
            <a:ext cx="76201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846000" y="526248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сентября также, как и в школе, начинаются занят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http://i47.fastpic.ru/big/2012/1110/c1/9b50859cc54fc660ab7be6d7e32a2fc1.jpg"/>
          <p:cNvPicPr/>
          <p:nvPr/>
        </p:nvPicPr>
        <p:blipFill>
          <a:blip r:embed="rId2"/>
          <a:srcRect l="4494" t="0" r="0" b="4153"/>
          <a:stretch/>
        </p:blipFill>
        <p:spPr>
          <a:xfrm>
            <a:off x="1187280" y="-6480"/>
            <a:ext cx="7170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3-700-news-595428"/>
          <p:cNvPicPr/>
          <p:nvPr/>
        </p:nvPicPr>
        <p:blipFill>
          <a:blip r:embed="rId2"/>
          <a:stretch/>
        </p:blipFill>
        <p:spPr>
          <a:xfrm>
            <a:off x="900000" y="260280"/>
            <a:ext cx="6815160" cy="5112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611280" y="5300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спитанники сидят за столами, а не за пар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297196729_aw3-28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img_14"/>
          <p:cNvPicPr/>
          <p:nvPr/>
        </p:nvPicPr>
        <p:blipFill>
          <a:blip r:embed="rId2"/>
          <a:stretch/>
        </p:blipFill>
        <p:spPr>
          <a:xfrm>
            <a:off x="900000" y="189000"/>
            <a:ext cx="7151760" cy="4768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116000" y="511812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группе тоже есть доска, но меньше чем в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55640" y="544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сле занятий дети гуляют с воспитателем на ули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http://mamulchik.ru/uploads/posts/2012-06/1339492425_2-pervyy-den-v-lc.jpg"/>
          <p:cNvPicPr/>
          <p:nvPr/>
        </p:nvPicPr>
        <p:blipFill>
          <a:blip r:embed="rId2"/>
          <a:stretch/>
        </p:blipFill>
        <p:spPr>
          <a:xfrm>
            <a:off x="1042920" y="189000"/>
            <a:ext cx="68277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684360" y="501336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школе ученики не спят, а в детском саду отдыхают после обе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1265885879"/>
          <p:cNvPicPr/>
          <p:nvPr/>
        </p:nvPicPr>
        <p:blipFill>
          <a:blip r:embed="rId2"/>
          <a:stretch/>
        </p:blipFill>
        <p:spPr>
          <a:xfrm>
            <a:off x="1692360" y="260280"/>
            <a:ext cx="618624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-19080" y="27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йдет немного времени, и вы станете первоклашками, для вас прозвенит ваш первый зво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http://kursksad92.ru/wp-content/uploads/2015/11/image005.jpg"/>
          <p:cNvPicPr/>
          <p:nvPr/>
        </p:nvPicPr>
        <p:blipFill>
          <a:blip r:embed="rId2"/>
          <a:srcRect l="0" t="20220" r="0" b="7994"/>
          <a:stretch/>
        </p:blipFill>
        <p:spPr>
          <a:xfrm>
            <a:off x="719280" y="1989000"/>
            <a:ext cx="770724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313461276_1-september-plakat-a1-500"/>
          <p:cNvPicPr/>
          <p:nvPr/>
        </p:nvPicPr>
        <p:blipFill>
          <a:blip r:embed="rId2"/>
          <a:srcRect l="0" t="12484" r="43435" b="6017"/>
          <a:stretch/>
        </p:blipFill>
        <p:spPr>
          <a:xfrm>
            <a:off x="262080" y="476280"/>
            <a:ext cx="5238720" cy="53290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5519880" y="1197000"/>
            <a:ext cx="322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класснику семь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плечами ранец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 руках большой бук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щеках румяне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за праздничная да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йте-ка, ребят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2" descr=""/>
          <p:cNvPicPr/>
          <p:nvPr/>
        </p:nvPicPr>
        <p:blipFill>
          <a:blip r:embed="rId2"/>
          <a:stretch/>
        </p:blipFill>
        <p:spPr>
          <a:xfrm>
            <a:off x="12600" y="2305080"/>
            <a:ext cx="9423360" cy="1644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http://nachschool1.ucoz.ru/school2102.jpg"/>
          <p:cNvPicPr/>
          <p:nvPr/>
        </p:nvPicPr>
        <p:blipFill>
          <a:blip r:embed="rId3"/>
          <a:stretch/>
        </p:blipFill>
        <p:spPr>
          <a:xfrm>
            <a:off x="539640" y="260280"/>
            <a:ext cx="80298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hool_autumn_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1116000" y="508464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школьники страны в этот день идут в шко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48"/>
          <p:cNvPicPr/>
          <p:nvPr/>
        </p:nvPicPr>
        <p:blipFill>
          <a:blip r:embed="rId2"/>
          <a:stretch/>
        </p:blipFill>
        <p:spPr>
          <a:xfrm>
            <a:off x="1547640" y="11592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hool_autumn_m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12827972142012"/>
          <p:cNvPicPr/>
          <p:nvPr/>
        </p:nvPicPr>
        <p:blipFill>
          <a:blip r:embed="rId2"/>
          <a:stretch/>
        </p:blipFill>
        <p:spPr>
          <a:xfrm>
            <a:off x="923760" y="189000"/>
            <a:ext cx="7007400" cy="5256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971640" y="5445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и идут в форме и с цве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hool_autumn_m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SC074961370872994_thumb_medium250_168 (1)"/>
          <p:cNvPicPr/>
          <p:nvPr/>
        </p:nvPicPr>
        <p:blipFill>
          <a:blip r:embed="rId2"/>
          <a:stretch/>
        </p:blipFill>
        <p:spPr>
          <a:xfrm>
            <a:off x="1763640" y="333360"/>
            <a:ext cx="5832720" cy="3919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1042920" y="4292640"/>
            <a:ext cx="6842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то встречает детей  в школ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чи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hool_autumn_m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151385"/>
          <p:cNvPicPr/>
          <p:nvPr/>
        </p:nvPicPr>
        <p:blipFill>
          <a:blip r:embed="rId2"/>
          <a:stretch/>
        </p:blipFill>
        <p:spPr>
          <a:xfrm>
            <a:off x="971640" y="189000"/>
            <a:ext cx="7103880" cy="4862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611280" y="4869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сентября для первоклашек звучит первый зво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4ff33281cb81e8dab966721e3bc"/>
          <p:cNvPicPr/>
          <p:nvPr/>
        </p:nvPicPr>
        <p:blipFill>
          <a:blip r:embed="rId2"/>
          <a:stretch/>
        </p:blipFill>
        <p:spPr>
          <a:xfrm>
            <a:off x="1187280" y="115920"/>
            <a:ext cx="6839280" cy="46483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900000" y="4869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берут школьники с собой в школу? Портф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1346823337_zakon-ob-obrazovanii"/>
          <p:cNvPicPr/>
          <p:nvPr/>
        </p:nvPicPr>
        <p:blipFill>
          <a:blip r:embed="rId2"/>
          <a:stretch/>
        </p:blipFill>
        <p:spPr>
          <a:xfrm>
            <a:off x="1908000" y="0"/>
            <a:ext cx="6121440" cy="4757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1258920" y="46530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ребята несут в портфеле? Учеб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1280716211"/>
          <p:cNvPicPr/>
          <p:nvPr/>
        </p:nvPicPr>
        <p:blipFill>
          <a:blip r:embed="rId2"/>
          <a:stretch/>
        </p:blipFill>
        <p:spPr>
          <a:xfrm>
            <a:off x="1619280" y="260280"/>
            <a:ext cx="6197400" cy="4292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116000" y="4869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школьные принадлеж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18:16:00Z</dcterms:created>
  <dc:creator>Пользователь</dc:creator>
  <dc:description/>
  <dc:language>en-US</dc:language>
  <cp:lastModifiedBy>Пользователь Windows</cp:lastModifiedBy>
  <dcterms:modified xsi:type="dcterms:W3CDTF">2016-09-25T19:33:38Z</dcterms:modified>
  <cp:revision>10</cp:revision>
  <dc:subject/>
  <dc:title>Слайд 1</dc:title>
</cp:coreProperties>
</file>