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8E2-C621-4D0F-8EBD-8367DBF613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5779-91CD-47B6-B6C6-9D52F29AD2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80A-F783-4A8E-B096-BA7EFC65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8D18-1BED-40BC-94A4-20F499D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EBA5-BCB3-4BC5-A5BF-87E2228C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09EA-C216-4B38-8DD5-3977F3F9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3A3-549A-4BFF-BD32-7D4E4356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8043-BC2B-405E-B485-34F9711E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E4D-0555-4B89-9D08-6BFD978B3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A67-7F13-4461-B876-9D8F9AA8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75F-CD5D-460F-ACF0-9C0D7541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B083-3DA8-41F4-939E-5CEE3E62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080B-7203-4CDF-8BDA-A7F02035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9F4E-2A3A-4A7F-9877-51E2DF41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8DCC-5548-4769-B42E-908654FD07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015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55640" y="836640"/>
            <a:ext cx="482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1 сентября – День знан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95280" y="5229360"/>
            <a:ext cx="54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 воспитатель 1 кв. 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вичева Наталья Серг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shool_autumn_m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pic"/>
          <p:cNvPicPr/>
          <p:nvPr/>
        </p:nvPicPr>
        <p:blipFill>
          <a:blip r:embed="rId2"/>
          <a:stretch/>
        </p:blipFill>
        <p:spPr>
          <a:xfrm>
            <a:off x="1835280" y="260280"/>
            <a:ext cx="5524200" cy="36864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971640" y="414972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Школьники учатся в классе, сидят за партами, учитель пишет на дос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7"/>
          <p:cNvSpPr/>
          <p:nvPr/>
        </p:nvSpPr>
        <p:spPr>
          <a:xfrm>
            <a:off x="826920" y="5084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 урок зовет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http://www.gifmania.ru/Animated-Gifs-Rozhdestvo-Khristovo/Animations-Christmas-Bells/Christmas-Bells-44489.gif"/>
          <p:cNvPicPr/>
          <p:nvPr/>
        </p:nvPicPr>
        <p:blipFill>
          <a:blip r:embed="rId2"/>
          <a:stretch/>
        </p:blipFill>
        <p:spPr>
          <a:xfrm>
            <a:off x="1908000" y="-171360"/>
            <a:ext cx="51120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0998"/>
          <p:cNvPicPr/>
          <p:nvPr/>
        </p:nvPicPr>
        <p:blipFill>
          <a:blip r:embed="rId2"/>
          <a:stretch/>
        </p:blipFill>
        <p:spPr>
          <a:xfrm>
            <a:off x="1258920" y="0"/>
            <a:ext cx="6900840" cy="51753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508464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жду уроками в школе переме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6"/>
          <p:cNvSpPr/>
          <p:nvPr/>
        </p:nvSpPr>
        <p:spPr>
          <a:xfrm>
            <a:off x="755640" y="537372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детском саду детей встречает воспит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http://bdou94.ucoz.ru/ltnb.jpg"/>
          <p:cNvPicPr/>
          <p:nvPr/>
        </p:nvPicPr>
        <p:blipFill>
          <a:blip r:embed="rId2"/>
          <a:stretch/>
        </p:blipFill>
        <p:spPr>
          <a:xfrm>
            <a:off x="798480" y="333360"/>
            <a:ext cx="762012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846000" y="5262480"/>
            <a:ext cx="77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также, как и в школе, начинаются занят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http://i47.fastpic.ru/big/2012/1110/c1/9b50859cc54fc660ab7be6d7e32a2fc1.jpg"/>
          <p:cNvPicPr/>
          <p:nvPr/>
        </p:nvPicPr>
        <p:blipFill>
          <a:blip r:embed="rId2"/>
          <a:srcRect l="4494" t="0" r="0" b="4153"/>
          <a:stretch/>
        </p:blipFill>
        <p:spPr>
          <a:xfrm>
            <a:off x="1187280" y="-6480"/>
            <a:ext cx="717084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2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3-700-news-595428"/>
          <p:cNvPicPr/>
          <p:nvPr/>
        </p:nvPicPr>
        <p:blipFill>
          <a:blip r:embed="rId2"/>
          <a:stretch/>
        </p:blipFill>
        <p:spPr>
          <a:xfrm>
            <a:off x="900000" y="260280"/>
            <a:ext cx="6815160" cy="5112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7"/>
          <p:cNvSpPr/>
          <p:nvPr/>
        </p:nvSpPr>
        <p:spPr>
          <a:xfrm>
            <a:off x="611280" y="5300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спитанники сидят за столами, а не за пар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1297196729_aw3-28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img_14"/>
          <p:cNvPicPr/>
          <p:nvPr/>
        </p:nvPicPr>
        <p:blipFill>
          <a:blip r:embed="rId2"/>
          <a:stretch/>
        </p:blipFill>
        <p:spPr>
          <a:xfrm>
            <a:off x="900000" y="189000"/>
            <a:ext cx="7151760" cy="4768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1116000" y="511812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группе тоже есть доска, но меньше чем в школ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755640" y="544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 занятий дети гуляют с воспитателем на улиц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http://mamulchik.ru/uploads/posts/2012-06/1339492425_2-pervyy-den-v-lc.jpg"/>
          <p:cNvPicPr/>
          <p:nvPr/>
        </p:nvPicPr>
        <p:blipFill>
          <a:blip r:embed="rId2"/>
          <a:stretch/>
        </p:blipFill>
        <p:spPr>
          <a:xfrm>
            <a:off x="1042920" y="189000"/>
            <a:ext cx="682776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2000" fill="hold"/>
                                        <p:tgtEl>
                                          <p:spTgt spid="1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684360" y="501336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школе ученики не спят, а в детском саду отдыхают после обе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1265885879"/>
          <p:cNvPicPr/>
          <p:nvPr/>
        </p:nvPicPr>
        <p:blipFill>
          <a:blip r:embed="rId2"/>
          <a:stretch/>
        </p:blipFill>
        <p:spPr>
          <a:xfrm>
            <a:off x="1692360" y="260280"/>
            <a:ext cx="61862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-19080" y="27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йдет немного времени, и вы станете первоклашками, для вас прозвенит ваш первый зво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http://kursksad92.ru/wp-content/uploads/2015/11/image005.jpg"/>
          <p:cNvPicPr/>
          <p:nvPr/>
        </p:nvPicPr>
        <p:blipFill>
          <a:blip r:embed="rId2"/>
          <a:srcRect l="0" t="20220" r="0" b="7994"/>
          <a:stretch/>
        </p:blipFill>
        <p:spPr>
          <a:xfrm>
            <a:off x="719280" y="1989000"/>
            <a:ext cx="770724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1313461276_1-september-plakat-a1-500"/>
          <p:cNvPicPr/>
          <p:nvPr/>
        </p:nvPicPr>
        <p:blipFill>
          <a:blip r:embed="rId2"/>
          <a:srcRect l="0" t="12484" r="43435" b="6017"/>
          <a:stretch/>
        </p:blipFill>
        <p:spPr>
          <a:xfrm>
            <a:off x="262080" y="476280"/>
            <a:ext cx="5238720" cy="532908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5519880" y="1197000"/>
            <a:ext cx="3228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окласснику семь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плечами ранец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в руках большой бук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щеках румянец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за праздничная да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чайте-ка, ребята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1297196729_aw3-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Прямоугольник 2" descr=""/>
          <p:cNvPicPr/>
          <p:nvPr/>
        </p:nvPicPr>
        <p:blipFill>
          <a:blip r:embed="rId2"/>
          <a:stretch/>
        </p:blipFill>
        <p:spPr>
          <a:xfrm>
            <a:off x="12600" y="2305080"/>
            <a:ext cx="9423360" cy="1644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http://nachschool1.ucoz.ru/school2102.jpg"/>
          <p:cNvPicPr/>
          <p:nvPr/>
        </p:nvPicPr>
        <p:blipFill>
          <a:blip r:embed="rId3"/>
          <a:stretch/>
        </p:blipFill>
        <p:spPr>
          <a:xfrm>
            <a:off x="539640" y="260280"/>
            <a:ext cx="8029800" cy="612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shool_autumn_m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16000" y="5084640"/>
            <a:ext cx="71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се школьники страны в этот день идут в шко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48"/>
          <p:cNvPicPr/>
          <p:nvPr/>
        </p:nvPicPr>
        <p:blipFill>
          <a:blip r:embed="rId2"/>
          <a:stretch/>
        </p:blipFill>
        <p:spPr>
          <a:xfrm>
            <a:off x="1547640" y="11592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hool_autumn_m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12827972142012"/>
          <p:cNvPicPr/>
          <p:nvPr/>
        </p:nvPicPr>
        <p:blipFill>
          <a:blip r:embed="rId2"/>
          <a:stretch/>
        </p:blipFill>
        <p:spPr>
          <a:xfrm>
            <a:off x="923760" y="189000"/>
            <a:ext cx="7007400" cy="5256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97164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ни идут в форме и с цвет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DSC074961370872994_thumb_medium250_168 (1)"/>
          <p:cNvPicPr/>
          <p:nvPr/>
        </p:nvPicPr>
        <p:blipFill>
          <a:blip r:embed="rId2"/>
          <a:stretch/>
        </p:blipFill>
        <p:spPr>
          <a:xfrm>
            <a:off x="1763640" y="333360"/>
            <a:ext cx="5832720" cy="391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1042920" y="4292640"/>
            <a:ext cx="6842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встречает детей  в школ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Учи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shool_autumn_m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151385"/>
          <p:cNvPicPr/>
          <p:nvPr/>
        </p:nvPicPr>
        <p:blipFill>
          <a:blip r:embed="rId2"/>
          <a:stretch/>
        </p:blipFill>
        <p:spPr>
          <a:xfrm>
            <a:off x="971640" y="189000"/>
            <a:ext cx="7103880" cy="48625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611280" y="4869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 сентября для первоклашек звучит первый звонок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4ff33281cb81e8dab966721e3bc"/>
          <p:cNvPicPr/>
          <p:nvPr/>
        </p:nvPicPr>
        <p:blipFill>
          <a:blip r:embed="rId2"/>
          <a:stretch/>
        </p:blipFill>
        <p:spPr>
          <a:xfrm>
            <a:off x="1187280" y="115920"/>
            <a:ext cx="6839280" cy="46483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900000" y="48690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берут школьники с собой в школу? Портф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7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1346823337_zakon-ob-obrazovanii"/>
          <p:cNvPicPr/>
          <p:nvPr/>
        </p:nvPicPr>
        <p:blipFill>
          <a:blip r:embed="rId2"/>
          <a:stretch/>
        </p:blipFill>
        <p:spPr>
          <a:xfrm>
            <a:off x="1908000" y="0"/>
            <a:ext cx="6121440" cy="4757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258920" y="46530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ребята несут в портфеле? Учеб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shool_autumn_m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1280716211"/>
          <p:cNvPicPr/>
          <p:nvPr/>
        </p:nvPicPr>
        <p:blipFill>
          <a:blip r:embed="rId2"/>
          <a:stretch/>
        </p:blipFill>
        <p:spPr>
          <a:xfrm>
            <a:off x="1619280" y="260280"/>
            <a:ext cx="6197400" cy="4292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1116000" y="4869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школьные принадлеж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8T18:16:00Z</dcterms:created>
  <dc:creator>Пользователь</dc:creator>
  <dc:description/>
  <dc:language>en-US</dc:language>
  <cp:lastModifiedBy>Пользователь Windows</cp:lastModifiedBy>
  <dcterms:modified xsi:type="dcterms:W3CDTF">2016-09-25T19:33:38Z</dcterms:modified>
  <cp:revision>10</cp:revision>
  <dc:subject/>
  <dc:title>Слайд 1</dc:title>
</cp:coreProperties>
</file>