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0EC9-74F4-4674-A6A8-54F9B7A42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8DC6-0310-4C63-BF03-8F90D5DF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4064-778C-4F57-AB93-F2DBA602E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690E-10D7-4E93-BD9E-16B733F2C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1136-42A2-4AD2-AFC7-81644F9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0457-97BA-4E15-864E-AAB0AD43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E9DB-B2CC-4A3D-8F92-B05F32EC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CB1-B81C-4BCF-B105-2BE5C323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307-8CC3-4E11-9333-781B4DEC2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A39-29A4-42DE-B817-B3A8B9BD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256F-D09A-4E06-9B61-3442A284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B69-8712-4561-9B53-E0E47AB1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934F-B219-4BDF-8CCD-0C76820DD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etki-konfetki.ucoz.ru/puteshestvennica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d/d6/Garshin_by_Repin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u.wikipedia.org/wiki/14_&#1092;&#1077;&#1074;&#1088;&#1072;&#1083;&#1103;" TargetMode="External"/><Relationship Id="rId3" Type="http://schemas.openxmlformats.org/officeDocument/2006/relationships/hyperlink" Target="http://ru.wikipedia.org/wiki/1855_&#1075;&#1086;&#1076;" TargetMode="External"/><Relationship Id="rId4" Type="http://schemas.openxmlformats.org/officeDocument/2006/relationships/hyperlink" Target="http://ru.wikipedia.org/wiki/&#1045;&#1082;&#1072;&#1090;&#1077;&#1088;&#1080;&#1085;&#1086;&#1089;&#1083;&#1072;&#1074;&#1089;&#1082;&#1072;&#1103;_&#1075;&#1091;&#1073;&#1077;&#1088;&#1085;&#1080;&#1103;" TargetMode="External"/><Relationship Id="rId5" Type="http://schemas.openxmlformats.org/officeDocument/2006/relationships/hyperlink" Target="http://ru.wikipedia.org/wiki/&#1045;&#1082;&#1072;&#1090;&#1077;&#1088;&#1080;&#1085;&#1086;&#1089;&#1083;&#1072;&#1074;&#1089;&#1082;&#1072;&#1103;_&#1075;&#1091;&#1073;&#1077;&#1088;&#1085;&#1080;&#1103;" TargetMode="External"/><Relationship Id="rId6" Type="http://schemas.openxmlformats.org/officeDocument/2006/relationships/hyperlink" Target="http://ru.wikipedia.org/wiki/1888_&#1075;&#1086;&#1076;" TargetMode="External"/><Relationship Id="rId7" Type="http://schemas.openxmlformats.org/officeDocument/2006/relationships/hyperlink" Target="http://ru.wikipedia.org/wiki/&#1057;&#1072;&#1085;&#1082;&#1090;-&#1055;&#1077;&#1090;&#1077;&#1088;&#1073;&#1091;&#1088;&#1075;" TargetMode="Externa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f/f6/Wsewolod_Garschin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c/cb/Garshin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116000" y="907920"/>
            <a:ext cx="67690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ВСЕВОЛОД 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МИХАЙЛОВИЧ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 Black"/>
              </a:rPr>
              <a:t>ГАРШИН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9280" y="476280"/>
            <a:ext cx="8964720" cy="65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Несколько часов он пробыл в сознании, затем его перевезли в больницу Красного Креста, где он, вскоре по прибытии, впал в бессознательное состояние и уже не выходил из него до смерти. 24 марта 1888 года, Всеволод Михайлович Гаршин скончался, не приходя в созна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Картинка 29 из 227"/>
          <p:cNvPicPr/>
          <p:nvPr/>
        </p:nvPicPr>
        <p:blipFill>
          <a:blip r:embed="rId2"/>
          <a:stretch/>
        </p:blipFill>
        <p:spPr>
          <a:xfrm>
            <a:off x="560520" y="0"/>
            <a:ext cx="5141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24360" y="907920"/>
            <a:ext cx="2951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ПРОЖИ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33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1476360" y="981000"/>
            <a:ext cx="6337440" cy="352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ТВОРЧЕСТВО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ВСЕВОЛОДА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АРШИН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Картинка 18 из 22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76280"/>
            <a:ext cx="4602240" cy="597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Картинка 129 из 227"/>
          <p:cNvPicPr/>
          <p:nvPr/>
        </p:nvPicPr>
        <p:blipFill>
          <a:blip r:embed="rId4"/>
          <a:stretch/>
        </p:blipFill>
        <p:spPr>
          <a:xfrm>
            <a:off x="5076720" y="620640"/>
            <a:ext cx="367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Картинка 20 из 227"/>
          <p:cNvPicPr/>
          <p:nvPr/>
        </p:nvPicPr>
        <p:blipFill>
          <a:blip r:embed="rId2"/>
          <a:stretch/>
        </p:blipFill>
        <p:spPr>
          <a:xfrm>
            <a:off x="971640" y="620640"/>
            <a:ext cx="576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Картинка 35 из 227"/>
          <p:cNvPicPr/>
          <p:nvPr/>
        </p:nvPicPr>
        <p:blipFill>
          <a:blip r:embed="rId2"/>
          <a:stretch/>
        </p:blipFill>
        <p:spPr>
          <a:xfrm>
            <a:off x="1042920" y="620640"/>
            <a:ext cx="5761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Картинка 70 из 227"/>
          <p:cNvPicPr/>
          <p:nvPr/>
        </p:nvPicPr>
        <p:blipFill>
          <a:blip r:embed="rId2"/>
          <a:stretch/>
        </p:blipFill>
        <p:spPr>
          <a:xfrm>
            <a:off x="971640" y="620640"/>
            <a:ext cx="47527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620640"/>
            <a:ext cx="777744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В </a:t>
            </a: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2010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ГОДУ ИСПОЛНЯЕТ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3300"/>
                </a:solidFill>
                <a:uFillTx/>
                <a:latin typeface="Arial"/>
              </a:rPr>
              <a:t>155 лет со дня рождения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Всеволода Михайловича Гаршин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Файл:Garshin by Rep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89000"/>
            <a:ext cx="5019840" cy="648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92720" y="1052640"/>
            <a:ext cx="3851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РУССК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00"/>
                </a:solidFill>
                <a:latin typeface="Arial"/>
              </a:rPr>
              <a:t>ПИСАТЕЛ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268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04640"/>
            <a:ext cx="8424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Дата рождения: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 февраля</a:t>
            </a: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Место рождения: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Екатеринославская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губер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Дата смерти:24 марта </a:t>
            </a: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18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Место смер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Санкт-Петербур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5280" y="476280"/>
            <a:ext cx="8209080" cy="61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Род Гаршиных 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старый дворянский род происходящий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по преданию, от мурзы Горшы, выходца из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Золотой Ор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при Иване III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Файл:Wsewolod Garsch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549360"/>
            <a:ext cx="3905280" cy="576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427640" y="404640"/>
            <a:ext cx="45370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же ребёнком Гаршин был крайне нервным и впечатлительным, чему способствовало слишком раннее умственное развитие (впоследствии страдал приступами нервного расстройства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403280" y="907920"/>
            <a:ext cx="42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3280" y="1197000"/>
            <a:ext cx="8640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Учился в Горном институте, но не закончил его. Война с турками прервала его занятия: он поступил добровольцем в действующую армию, был ранен в ногу; выйдя в отставку, отдался литературной деятельност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Файл:Garshi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89000"/>
            <a:ext cx="4341600" cy="5832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292720" y="907920"/>
            <a:ext cx="30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27640" y="549360"/>
            <a:ext cx="4392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В 1880 году, потрясённый смертной казнью молодого революционера, Гаршин заболел психически и был помещён в лечебницу для душевнобо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907920"/>
            <a:ext cx="82803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19 марта 1888 года, Гаршин, после мучительной, бессонной ночи вышел из своей квартиры, спустился этажом ниже и бросился с лестницы в пролёт. Его подняли разбитого, с переломленной ногой, и перенесли в квартир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7T13:41:34Z</dcterms:created>
  <dc:creator>Customer</dc:creator>
  <dc:description/>
  <dc:language>en-US</dc:language>
  <cp:lastModifiedBy>Customer</cp:lastModifiedBy>
  <dcterms:modified xsi:type="dcterms:W3CDTF">2010-02-22T16:07:02Z</dcterms:modified>
  <cp:revision>5</cp:revision>
  <dc:subject/>
  <dc:title>Слайд 1</dc:title>
</cp:coreProperties>
</file>