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498-BA8C-4CE8-ADE3-542A3FB3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613-2081-475C-876F-98A982B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FE1-53E0-423E-859D-22FC35D2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63A-3837-407A-88D6-CDBC8DC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6A2-7DAE-4252-9A99-D4957C62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6A2-89FE-4C11-B311-2E94B27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8A7-6907-430A-B3A9-EB4DA39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198-40F0-4B3A-A877-82A04D4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C34-21CF-42AB-BCBD-502EDCF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9A1-673E-4AF7-A6A8-DB20F1C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649-A778-47B1-B7DD-F00645B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F15-8FB1-4E87-B7A3-B96ACCA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BE4F-02A1-460B-966C-68717DDAD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etki-konfetki.ucoz.ru/puteshestvennica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d/d6/Garshin_by_Repin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14_&#1092;&#1077;&#1074;&#1088;&#1072;&#1083;&#1103;" TargetMode="External"/><Relationship Id="rId3" Type="http://schemas.openxmlformats.org/officeDocument/2006/relationships/hyperlink" Target="http://ru.wikipedia.org/wiki/1855_&#1075;&#1086;&#1076;" TargetMode="External"/><Relationship Id="rId4" Type="http://schemas.openxmlformats.org/officeDocument/2006/relationships/hyperlink" Target="http://ru.wikipedia.org/wiki/&#1045;&#1082;&#1072;&#1090;&#1077;&#1088;&#1080;&#1085;&#1086;&#1089;&#1083;&#1072;&#1074;&#1089;&#1082;&#1072;&#1103;_&#1075;&#1091;&#1073;&#1077;&#1088;&#1085;&#1080;&#1103;" TargetMode="External"/><Relationship Id="rId5" Type="http://schemas.openxmlformats.org/officeDocument/2006/relationships/hyperlink" Target="http://ru.wikipedia.org/wiki/&#1045;&#1082;&#1072;&#1090;&#1077;&#1088;&#1080;&#1085;&#1086;&#1089;&#1083;&#1072;&#1074;&#1089;&#1082;&#1072;&#1103;_&#1075;&#1091;&#1073;&#1077;&#1088;&#1085;&#1080;&#1103;" TargetMode="External"/><Relationship Id="rId6" Type="http://schemas.openxmlformats.org/officeDocument/2006/relationships/hyperlink" Target="http://ru.wikipedia.org/wiki/1888_&#1075;&#1086;&#1076;" TargetMode="External"/><Relationship Id="rId7" Type="http://schemas.openxmlformats.org/officeDocument/2006/relationships/hyperlink" Target="http://ru.wikipedia.org/wiki/&#1057;&#1072;&#1085;&#1082;&#1090;-&#1055;&#1077;&#1090;&#1077;&#1088;&#1073;&#1091;&#1088;&#1075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f/f6/Wsewolod_Garschi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c/cb/Garsh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907920"/>
            <a:ext cx="6769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ВСЕВОЛОД 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МИХАЙЛОВИЧ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ГАРШИН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476280"/>
            <a:ext cx="896472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есколько часов он пробыл в сознании, затем его перевезли в больницу Красного Креста, где он, вскоре по прибытии, впал в бессознательное состояние и уже не выходил из него до смерти. 24 марта 1888 года, Всеволод Михайлович Гаршин скончался, не приходя в созн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29 из 227"/>
          <p:cNvPicPr/>
          <p:nvPr/>
        </p:nvPicPr>
        <p:blipFill>
          <a:blip r:embed="rId2"/>
          <a:stretch/>
        </p:blipFill>
        <p:spPr>
          <a:xfrm>
            <a:off x="5605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24360" y="907920"/>
            <a:ext cx="2951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Ж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476360" y="981000"/>
            <a:ext cx="63374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ВОРЧЕСТВО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СЕВОЛОДА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АРШИН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8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460224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129 из 227"/>
          <p:cNvPicPr/>
          <p:nvPr/>
        </p:nvPicPr>
        <p:blipFill>
          <a:blip r:embed="rId4"/>
          <a:stretch/>
        </p:blipFill>
        <p:spPr>
          <a:xfrm>
            <a:off x="5076720" y="62064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20 из 227"/>
          <p:cNvPicPr/>
          <p:nvPr/>
        </p:nvPicPr>
        <p:blipFill>
          <a:blip r:embed="rId2"/>
          <a:stretch/>
        </p:blipFill>
        <p:spPr>
          <a:xfrm>
            <a:off x="971640" y="620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35 из 227"/>
          <p:cNvPicPr/>
          <p:nvPr/>
        </p:nvPicPr>
        <p:blipFill>
          <a:blip r:embed="rId2"/>
          <a:stretch/>
        </p:blipFill>
        <p:spPr>
          <a:xfrm>
            <a:off x="1042920" y="620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70 из 227"/>
          <p:cNvPicPr/>
          <p:nvPr/>
        </p:nvPicPr>
        <p:blipFill>
          <a:blip r:embed="rId2"/>
          <a:stretch/>
        </p:blipFill>
        <p:spPr>
          <a:xfrm>
            <a:off x="971640" y="620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7777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2010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ГОДУ ИСПОЛНЯ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3300"/>
                </a:solidFill>
                <a:uFillTx/>
                <a:latin typeface="Arial"/>
              </a:rPr>
              <a:t>155 лет со дня рождения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Всеволода Михайловича Гарш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Файл:Garshin by Rep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50198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92720" y="1052640"/>
            <a:ext cx="385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РУС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ПИС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268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04640"/>
            <a:ext cx="8424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ата рождения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 февраля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Место рождения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катеринославская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губер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ата смерти:24 марта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8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Место смер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анкт-Петер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76280"/>
            <a:ext cx="8209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од Гаршиных 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арый дворянский род происходящи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по преданию, от мурзы Горшы, выходца и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олотой Ор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при Иване III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Wsewolod Garsch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390528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27640" y="404640"/>
            <a:ext cx="4537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же ребёнком Гаршин был крайне нервным и впечатлительным, чему способствовало слишком раннее умственное развитие (впоследствии страдал приступами нервного расстройств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90792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3280" y="1197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чился в Горном институте, но не закончил его. Война с турками прервала его занятия: он поступил добровольцем в действующую армию, был ранен в ногу; выйдя в отставку, отдался литератур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Файл:Garsh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4341600" cy="583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92720" y="90792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9360"/>
            <a:ext cx="43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 1880 году, потрясённый смертной казнью молодого революционера, Гаршин заболел психически и был помещён в лечебницу для душевнобо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90792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9 марта 1888 года, Гаршин, после мучительной, бессонной ночи вышел из своей квартиры, спустился этажом ниже и бросился с лестницы в пролёт. Его подняли разбитого, с переломленной ногой, и перенесли в кварти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41:34Z</dcterms:created>
  <dc:creator>Customer</dc:creator>
  <dc:description/>
  <dc:language>en-US</dc:language>
  <cp:lastModifiedBy>Customer</cp:lastModifiedBy>
  <dcterms:modified xsi:type="dcterms:W3CDTF">2010-02-22T16:07:02Z</dcterms:modified>
  <cp:revision>5</cp:revision>
  <dc:subject/>
  <dc:title>Слайд 1</dc:title>
</cp:coreProperties>
</file>