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B33-27DC-48BE-89C8-84537C03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83C-7FBC-4742-924D-6DC5BA0F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327-AED7-415C-B6EE-D7A34E13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0E1-0B6B-40CD-BE17-6865D31F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1D67-B998-4964-95BF-A05C1ADD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27FB-5CE0-4274-9673-B7A2B5EB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5D6D-2AB8-49B1-8414-48348EBC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3DBA-5F56-4A20-BA99-864CDFBF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EC42-FB8F-42F3-950A-FA159B13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5A8B-D3C3-4F31-8240-571BE875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143C-ED51-48BF-A2F7-59EE1960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5FE-D12E-4EC8-A67E-14C8A5C6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8C85-F5A7-4EC1-B3FD-5BBBF857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50FC-00B0-417B-9C9D-B6C9AF0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9123-6BEA-4D7D-8383-28480AC6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3E70-D5D3-436E-BB6C-DFD6A115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4AE8-4A14-454D-BB52-8AC7D613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878-A956-43B1-A644-D0953D37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50A-EEB1-4846-AB4B-C4236434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4A4-A20D-450E-AC61-AFCA5071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F1B-FF17-484B-9C56-91A3E329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A8B-2280-4CE0-9EBF-BA9B44AC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5F8-7FB3-47F6-9A2A-BBDC6451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CEF-E489-44DD-91B4-0DB97E6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D3D0-536B-4563-8495-28A0745E6D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254A-1693-4383-984D-406B07FE8B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Готовность к школьному обучению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детей 6-7 лет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24000" y="836640"/>
            <a:ext cx="8565120" cy="5214600"/>
            <a:chOff x="324000" y="836640"/>
            <a:chExt cx="8565120" cy="5214600"/>
          </a:xfrm>
        </p:grpSpPr>
        <p:cxnSp>
          <p:nvCxnSpPr>
            <p:cNvPr id="101" name="_s20494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583240" y="1944360"/>
              <a:ext cx="1043640" cy="2998440"/>
            </a:xfrm>
            <a:prstGeom prst="bentConnector3">
              <a:avLst>
                <a:gd name="adj1" fmla="val 139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20493"/>
            <p:cNvCxnSpPr>
              <a:stCxn id="105" idx="0"/>
              <a:endCxn id="103" idx="2"/>
            </p:cNvCxnSpPr>
            <p:nvPr/>
          </p:nvCxnSpPr>
          <p:spPr>
            <a:xfrm flipV="1">
              <a:off x="4606200" y="2921760"/>
              <a:ext cx="3240" cy="104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0492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2585520" y="1944360"/>
              <a:ext cx="1043640" cy="2998440"/>
            </a:xfrm>
            <a:prstGeom prst="bentConnector3">
              <a:avLst>
                <a:gd name="adj1" fmla="val 139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20488"/>
            <p:cNvSpPr/>
            <p:nvPr/>
          </p:nvSpPr>
          <p:spPr>
            <a:xfrm>
              <a:off x="3321720" y="83664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Готовность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к школе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0489"/>
            <p:cNvSpPr/>
            <p:nvPr/>
          </p:nvSpPr>
          <p:spPr>
            <a:xfrm>
              <a:off x="32400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Физи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(состоян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здоровья</a:t>
              </a: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490"/>
            <p:cNvSpPr/>
            <p:nvPr/>
          </p:nvSpPr>
          <p:spPr>
            <a:xfrm>
              <a:off x="332172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Психологическ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491"/>
            <p:cNvSpPr/>
            <p:nvPr/>
          </p:nvSpPr>
          <p:spPr>
            <a:xfrm>
              <a:off x="631980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Социальн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взаимоотношени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с окружающими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Отношение к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самому себ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Интеллектуальная готовность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285264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2781360"/>
            <a:ext cx="6769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Развитие памяти,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Аналитическ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Логическое запоми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риентировка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Умение работать по образ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Уровень речев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отивационная готовность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2924280"/>
            <a:ext cx="662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Желание принять новую социальную 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Позитивная информация о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Внутренняя позиция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Мотивы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левая готовность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2924280"/>
            <a:ext cx="5832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пособность ставить цель, принимать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мение длительно выполнять не очень привлекательну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тие произво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оммуникативная готовность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997360"/>
            <a:ext cx="6408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Действия совместно с другими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Умение подчинять свои действия прави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Умение внимательно слушать говорящего и точно выполнять у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Поддержка доброжелательного отношения с окружающ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5:02:02Z</dcterms:created>
  <dc:creator>OEM</dc:creator>
  <dc:description/>
  <dc:language>en-US</dc:language>
  <cp:lastModifiedBy>User</cp:lastModifiedBy>
  <dcterms:modified xsi:type="dcterms:W3CDTF">2010-07-24T04:26:55Z</dcterms:modified>
  <cp:revision>3</cp:revision>
  <dc:subject/>
  <dc:title>Готовность к школьному обучению  детей 6-7 лет </dc:title>
</cp:coreProperties>
</file>