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48CF-CD37-44BC-AAEC-A22E6C004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C190-B1D4-49B3-A67B-E42AF72E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4792-029F-441C-A203-F678363F8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C315-C498-4201-88D6-DF2E6DC93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0B825-4CD5-4F5D-9579-5F7BFF704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CF2E-03D4-45BF-8293-363C4DB8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5A8D2-587D-42DE-9F55-813059A2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834A-404E-4076-A07D-2A7D9156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E9B49-2477-4314-96DE-102C670F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9A98-9F16-4F4A-8035-62A78ED0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AD638-5DD9-45D1-8417-2A1AA00E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7EF9-1FA5-4954-AB47-B368E30E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B3C8-B1D1-419D-B370-289ABB2F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631FB-FA71-465D-844A-3B933EA7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84DB0-05B0-41AE-ADC3-F58AB22B6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97B4D-5CD3-45C9-B24B-BCF482084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413E-FED3-44D1-A656-4C953BE9D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11A0-9207-4E0C-AD89-E208078C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92C5-8BB7-422F-8143-DEA99F3D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6A65-0F46-48AE-917C-8F023F3B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D67A-6EA0-4E8A-A90D-82EAB7BEE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BF93-5086-437E-B1DB-484499BA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5A61-A743-4F91-AC8E-B068A2D0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2556-CEBA-4589-BFB6-6C764D7F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532E3-971D-4436-A06D-BFBF6E66C8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C7BE-5DD1-42EC-B7B3-5829B27C1B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Готовность к школьному обучению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детей 6-7 лет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324000" y="836640"/>
            <a:ext cx="8565120" cy="5214600"/>
            <a:chOff x="324000" y="836640"/>
            <a:chExt cx="8565120" cy="5214600"/>
          </a:xfrm>
        </p:grpSpPr>
        <p:cxnSp>
          <p:nvCxnSpPr>
            <p:cNvPr id="101" name="_s20494"/>
            <p:cNvCxnSpPr>
              <a:stCxn id="102" idx="0"/>
              <a:endCxn id="103" idx="2"/>
            </p:cNvCxnSpPr>
            <p:nvPr/>
          </p:nvCxnSpPr>
          <p:spPr>
            <a:xfrm flipV="1" rot="16200000">
              <a:off x="5583240" y="1944360"/>
              <a:ext cx="1043640" cy="2998440"/>
            </a:xfrm>
            <a:prstGeom prst="bentConnector3">
              <a:avLst>
                <a:gd name="adj1" fmla="val 139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20493"/>
            <p:cNvCxnSpPr>
              <a:stCxn id="105" idx="0"/>
              <a:endCxn id="103" idx="2"/>
            </p:cNvCxnSpPr>
            <p:nvPr/>
          </p:nvCxnSpPr>
          <p:spPr>
            <a:xfrm flipV="1">
              <a:off x="4606200" y="2921760"/>
              <a:ext cx="3240" cy="1043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20492"/>
            <p:cNvCxnSpPr>
              <a:stCxn id="107" idx="0"/>
              <a:endCxn id="103" idx="2"/>
            </p:cNvCxnSpPr>
            <p:nvPr/>
          </p:nvCxnSpPr>
          <p:spPr>
            <a:xfrm flipH="1" flipV="1" rot="5400000">
              <a:off x="2585520" y="1944360"/>
              <a:ext cx="1043640" cy="2998440"/>
            </a:xfrm>
            <a:prstGeom prst="bentConnector3">
              <a:avLst>
                <a:gd name="adj1" fmla="val 139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3" name="_s20488"/>
            <p:cNvSpPr/>
            <p:nvPr/>
          </p:nvSpPr>
          <p:spPr>
            <a:xfrm>
              <a:off x="3321720" y="836640"/>
              <a:ext cx="2569320" cy="208584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0000"/>
                  </a:solidFill>
                  <a:latin typeface="Tahoma"/>
                </a:rPr>
                <a:t>Готовность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1" lang="en-US" sz="3100" spc="-1" strike="noStrike">
                  <a:solidFill>
                    <a:srgbClr val="ff0000"/>
                  </a:solidFill>
                  <a:latin typeface="Tahoma"/>
                </a:rPr>
                <a:t>к школе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20489"/>
            <p:cNvSpPr/>
            <p:nvPr/>
          </p:nvSpPr>
          <p:spPr>
            <a:xfrm>
              <a:off x="324000" y="3965400"/>
              <a:ext cx="2569320" cy="208584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ahoma"/>
                </a:rPr>
                <a:t>Физиологическ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ahoma"/>
                </a:rPr>
                <a:t>(состояние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ahoma"/>
                </a:rPr>
                <a:t>здоровья</a:t>
              </a: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20490"/>
            <p:cNvSpPr/>
            <p:nvPr/>
          </p:nvSpPr>
          <p:spPr>
            <a:xfrm>
              <a:off x="3321720" y="3965400"/>
              <a:ext cx="2569320" cy="208584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Tahoma"/>
                </a:rPr>
                <a:t>Психологическа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20491"/>
            <p:cNvSpPr/>
            <p:nvPr/>
          </p:nvSpPr>
          <p:spPr>
            <a:xfrm>
              <a:off x="6319800" y="3965400"/>
              <a:ext cx="2569320" cy="208584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0000"/>
                  </a:solidFill>
                  <a:latin typeface="Tahoma"/>
                </a:rPr>
                <a:t>Социальна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(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Tahoma"/>
                </a:rPr>
                <a:t>взаимоотношения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ahoma"/>
                </a:rPr>
                <a:t>с окружающими,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ahoma"/>
                </a:rPr>
                <a:t>Отношение к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Tahoma"/>
                </a:rPr>
                <a:t>самому себ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Интеллектуальная готовность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908000" y="2852640"/>
            <a:ext cx="65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50920" y="2781360"/>
            <a:ext cx="67690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Развитие памяти, вним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Аналитическое мыш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Логическое запомин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Ориентировка во времени и простран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Умение работать по образ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Уровень речевого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" dur="2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Мотивационная готовность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979640" y="2924280"/>
            <a:ext cx="6624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Желание принять новую социальную ро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Позитивная информация о шко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Внутренняя позиция шк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Мотивы учеб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олевая готовность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2411280" y="2924280"/>
            <a:ext cx="583272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Способность ставить цель, принимать реш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мение длительно выполнять не очень привлекательную рабо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Развитие произво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3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оммуникативная готовность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195640" y="2997360"/>
            <a:ext cx="640872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Действия совместно с другими деть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Умение подчинять свои действия прави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Умение внимательно слушать говорящего и точно выполнять указ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Поддержка доброжелательного отношения с окружающ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0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" dur="2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05:02:02Z</dcterms:created>
  <dc:creator>OEM</dc:creator>
  <dc:description/>
  <dc:language>en-US</dc:language>
  <cp:lastModifiedBy>User</cp:lastModifiedBy>
  <dcterms:modified xsi:type="dcterms:W3CDTF">2010-07-24T04:26:55Z</dcterms:modified>
  <cp:revision>3</cp:revision>
  <dc:subject/>
  <dc:title>Готовность к школьному обучению  детей 6-7 лет </dc:title>
</cp:coreProperties>
</file>