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93AA-0B3C-4834-ADA2-B32F8726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5CF8-9041-44D5-828A-7D47ABF0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0FC-455B-4B09-AEBE-7D7E9CC8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AFDC-0D25-4994-8CBA-271B6C9D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5E21-940C-4354-9D82-EE8AC305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163-D7CE-4C6D-AC5E-98F633D2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313-BE6C-4B8D-B90A-5C2CD60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AEDD-CFD9-47EA-8A33-A7AD5AD5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CF4-F042-442A-A808-1CAF5504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6D09-B170-4F37-BE99-B08BC89B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91FE-6FAE-4922-A7E6-2ADE134A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8F31-DE47-4CE1-9FB5-FCC95807F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C9DC-06BF-4333-AC6F-4AAD3F34D3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ОЛОДИЛЬНОЕ ОБОРУД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11280" y="486864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МДК 01.01 Основы управления ассортиментом това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.О. Голд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limatvam.ru/UFiles/1768dfgdf975.jpeg"/>
          <p:cNvPicPr/>
          <p:nvPr/>
        </p:nvPicPr>
        <p:blipFill>
          <a:blip r:embed="rId1"/>
          <a:stretch/>
        </p:blipFill>
        <p:spPr>
          <a:xfrm>
            <a:off x="5495760" y="0"/>
            <a:ext cx="3581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4. По степени герметичности охлаждаемого объ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ы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т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5. По расположению холодильного агрега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тро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но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. По степени холодоснаб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ивидуа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ализова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7. По климатическим зонам приме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южных рай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айонов с умеренным клима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ustrojstvo_holodilnogo_shkafa"/>
          <p:cNvPicPr/>
          <p:nvPr/>
        </p:nvPicPr>
        <p:blipFill>
          <a:blip r:embed="rId1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ные буквенно-цифровые индекс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– камер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 – шкаф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 – прилав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– витр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В – прилавки-витр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 – холодиль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– среднетемператур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 – низкотемпературны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ифры после дефиса указывают на расположение холодильного агрега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– встроенный, 2 - вынесенны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второго дефиса внутренний или полезный охлаждаемый объем (в м3 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дующие буквы обозначают способы выкладки товар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 – на полках оборудо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– в контейнерах или таре-оборудования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лее степень герметичности оборудования З – закрыто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открыт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ХС-1-8,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чает камера холодильная среднетемпературная со встроенной холодильной машиной, с внутренним охлаждаемым объемом 8 м3 , предназначенная для хранения товаров в контейнер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age164"/>
          <p:cNvPicPr/>
          <p:nvPr/>
        </p:nvPicPr>
        <p:blipFill>
          <a:blip r:embed="rId1"/>
          <a:stretch/>
        </p:blipFill>
        <p:spPr>
          <a:xfrm>
            <a:off x="3780000" y="4032360"/>
            <a:ext cx="5113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еб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хническ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ргово-эксплуатацион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номически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анитарны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сновные условия бесперебойной работы холодильного оборудова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ледующ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сокое качество монтаж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лифицированное техническое обслужи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ение всех правил эксплуатации персоналом магаз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ильное оборудование должно обеспечива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ный температурный режим хранения това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тимые нормы шума для торговых залов магазин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шний вид, соответствующий интерьеру магази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а пользования для покупателей и продавц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лую теплопроводност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обства для санитарной обработки и технического обслуживания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и эксплуатации холодильного оборудования запрещаетс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ускать посторонних лиц к осмотру, ремонту холодильной машины и регулировке приборов автоматики, а также выполнять эти работы своими сил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касаться к движущимся частям холодильного агрегата во время рабо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далять иней с испарителя механическим способом при помощи скребков, ножей и др. предметов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ромождать холодильный агрегат и проходы посторонними предмет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нение холода в торговле позволя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здать запасы скоропортящихся продукт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величить продолжительность их хране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ранспортировать на любые расстояния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равномерно в течение года продавать товары сезонного производств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низить товарные потери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недрять прогрессивные формы продажи товаров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удовлетворять потребности населения в доброкачественных продовольственных товарах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еспечить высокий уровень торгового обслуживания и санитарного состояния торговых предприятий и д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 эксплуатации холодильного оборуд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ужать оборудование продуктами следует только по достижении нормального температурного режим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о загружаемых продуктов не должно превышать допустимую норму единовременной загрузки обору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ладывают или подвешивают товары неплотно между собой на расстоянии от стенок 8 - 10 с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хранить продукты на испарителях, покрывать решетчатые полки и продукты бумагой, целлофаном и т. 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допускается хранение в охлаждаемом оборудовании посторонних предм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соблюдать товарное сосед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рытые двери должны быть плотно прижаты к корпусу, открывать их следует как можно реже и на короткий с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испарителе не должно быть инея, между его ребрами должен свободно циркулировать холодный возду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аботников торговли должен быть проведен специальный вводный инструктаж по правилам техники безопасности, эксплуатации автоматических хладоновых холодильных установок, электробезопасности и порядку оказания первой помощи при несчастном случа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реже одного раза в 6 мес. должен проводиться инструктаж на рабочем мес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96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холодильного обору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http://remont-holodilnikov-rostov.ru/images/b9a34cb952ec5e491a59113392e9e324.png"/>
          <p:cNvPicPr/>
          <p:nvPr/>
        </p:nvPicPr>
        <p:blipFill>
          <a:blip r:embed="rId1"/>
          <a:stretch/>
        </p:blipFill>
        <p:spPr>
          <a:xfrm>
            <a:off x="2843280" y="2708280"/>
            <a:ext cx="5695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КАФ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оз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i?id=003c522c174ff97680e24c4ba5f12a66&amp;n=33&amp;h=215&amp;w=175"/>
          <p:cNvPicPr/>
          <p:nvPr/>
        </p:nvPicPr>
        <p:blipFill>
          <a:blip r:embed="rId1"/>
          <a:stretch/>
        </p:blipFill>
        <p:spPr>
          <a:xfrm>
            <a:off x="5724360" y="2133720"/>
            <a:ext cx="2708280" cy="332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05a64df43763b65c2742e5ba50afdabb"/>
          <p:cNvPicPr/>
          <p:nvPr/>
        </p:nvPicPr>
        <p:blipFill>
          <a:blip r:embed="rId2"/>
          <a:stretch/>
        </p:blipFill>
        <p:spPr>
          <a:xfrm>
            <a:off x="536400" y="2492280"/>
            <a:ext cx="36324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од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&amp;KHcy;&amp;ocy;&amp;lcy;&amp;ocy;&amp;dcy;&amp;icy;&amp;lcy;&amp;softcy;&amp;ncy;&amp;ycy;&amp;jcy; &amp;shcy;&amp;kcy;&amp;acy;&amp;fcy; &amp;Kcy;&amp;acy;&amp;pcy;&amp;rcy;&amp;icy; 1,5&amp;Mcy; &amp;ncy;&amp;iecy;&amp;rcy;&amp;zhcy;&amp;acy;&amp;vcy;&amp;iecy;&amp;jcy;&amp;kcy;&amp;acy; (&amp;Mcy;&amp;KHcy;&amp;Mcy;)"/>
          <p:cNvPicPr/>
          <p:nvPr/>
        </p:nvPicPr>
        <p:blipFill>
          <a:blip r:embed="rId1"/>
          <a:stretch/>
        </p:blipFill>
        <p:spPr>
          <a:xfrm>
            <a:off x="5148360" y="549360"/>
            <a:ext cx="3254400" cy="393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&amp;KHcy;&amp;ocy;&amp;lcy;&amp;ocy;&amp;dcy;&amp;icy;&amp;lcy;&amp;softcy;&amp;ncy;&amp;ycy;&amp;jcy; &amp;shcy;&amp;kcy;&amp;acy;&amp;fcy; &amp;SHcy;&amp;KHcy;-370&amp;Scy; &amp;scy; &amp;tcy;&amp;iecy;&amp;rcy;&amp;mcy;&amp;ocy;&amp;scy;&amp;tcy;&amp;acy;&amp;tcy;&amp;ocy;&amp;mcy; (&amp;Mcy;&amp;KHcy;&amp;Mcy;)"/>
          <p:cNvPicPr/>
          <p:nvPr/>
        </p:nvPicPr>
        <p:blipFill>
          <a:blip r:embed="rId2"/>
          <a:stretch/>
        </p:blipFill>
        <p:spPr>
          <a:xfrm>
            <a:off x="1146240" y="1125360"/>
            <a:ext cx="268128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дите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i?id=298b39209234f113047c581f671ba77d&amp;n=33&amp;h=215&amp;w=116"/>
          <p:cNvPicPr/>
          <p:nvPr/>
        </p:nvPicPr>
        <p:blipFill>
          <a:blip r:embed="rId1"/>
          <a:stretch/>
        </p:blipFill>
        <p:spPr>
          <a:xfrm>
            <a:off x="4500720" y="620640"/>
            <a:ext cx="30924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&amp;SHcy;&amp;kcy;&amp;acy;&amp;fcy; &amp;dcy;&amp;lcy;&amp;yacy; &amp;vcy;&amp;icy;&amp;ncy;&amp;acy; &amp;ocy;&amp;dcy;&amp;ncy;&amp;ocy;&amp;kcy;&amp;acy;&amp;mcy;&amp;iecy;&amp;rcy;&amp;ncy;&amp;ycy;&amp;jcy; Liebherr"/>
          <p:cNvPicPr/>
          <p:nvPr/>
        </p:nvPicPr>
        <p:blipFill>
          <a:blip r:embed="rId1"/>
          <a:stretch/>
        </p:blipFill>
        <p:spPr>
          <a:xfrm>
            <a:off x="4572000" y="333360"/>
            <a:ext cx="34844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фы шоковой заморозки (шок фризер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&amp;Kcy;&amp;ocy;&amp;mcy;&amp;mcy;&amp;iecy;&amp;rcy;&amp;chcy;&amp;iecy;&amp;scy;&amp;kcy;&amp;icy;&amp;iecy; &amp;kcy;&amp;acy;&amp;mcy;&amp;iecy;&amp;rcy;&amp;ycy;"/>
          <p:cNvPicPr/>
          <p:nvPr/>
        </p:nvPicPr>
        <p:blipFill>
          <a:blip r:embed="rId1"/>
          <a:stretch/>
        </p:blipFill>
        <p:spPr>
          <a:xfrm>
            <a:off x="2916360" y="1484280"/>
            <a:ext cx="4968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кафы полибок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Polybox Irbis"/>
          <p:cNvPicPr/>
          <p:nvPr/>
        </p:nvPicPr>
        <p:blipFill>
          <a:blip r:embed="rId1"/>
          <a:stretch/>
        </p:blipFill>
        <p:spPr>
          <a:xfrm>
            <a:off x="324000" y="1413000"/>
            <a:ext cx="842940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прерывная холодильная цеп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комплекс холодильных средств и мероприятий, которые обеспечивают поддержание оптимального температурного режима на всем пути движения скоропортящихся продуктов от мест их производства и заготовок до предприятий розничной торговой сети и общественного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МЕ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од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i?id=d7b5cf85a9e550a211689141ce9fc928&amp;n=33&amp;h=215&amp;w=215"/>
          <p:cNvPicPr/>
          <p:nvPr/>
        </p:nvPicPr>
        <p:blipFill>
          <a:blip r:embed="rId1"/>
          <a:stretch/>
        </p:blipFill>
        <p:spPr>
          <a:xfrm>
            <a:off x="4140360" y="1916280"/>
            <a:ext cx="46814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оз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xolodilnyie-kameryi2%282%29"/>
          <p:cNvPicPr/>
          <p:nvPr/>
        </p:nvPicPr>
        <p:blipFill>
          <a:blip r:embed="rId1"/>
          <a:stretch/>
        </p:blipFill>
        <p:spPr>
          <a:xfrm>
            <a:off x="1763640" y="1341360"/>
            <a:ext cx="659124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хранения ш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msnb_LowKDU"/>
          <p:cNvPicPr/>
          <p:nvPr/>
        </p:nvPicPr>
        <p:blipFill>
          <a:blip r:embed="rId1"/>
          <a:stretch/>
        </p:blipFill>
        <p:spPr>
          <a:xfrm>
            <a:off x="395280" y="2708280"/>
            <a:ext cx="3813120" cy="3813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kam_shub2"/>
          <p:cNvPicPr/>
          <p:nvPr/>
        </p:nvPicPr>
        <p:blipFill>
          <a:blip r:embed="rId2"/>
          <a:stretch/>
        </p:blipFill>
        <p:spPr>
          <a:xfrm>
            <a:off x="4427640" y="1268280"/>
            <a:ext cx="44528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цв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&amp;Scy; &amp;ocy;&amp;dcy;&amp;ncy;&amp;icy;&amp;mcy; &amp;scy;&amp;tcy;&amp;iecy;&amp;kcy;&amp;lcy;&amp;yacy;&amp;ncy;&amp;ncy;&amp;ycy;&amp;mcy; &amp;fcy;&amp;rcy;&amp;ocy;&amp;ncy;&amp;tcy;&amp;ocy;&amp;mcy;"/>
          <p:cNvPicPr/>
          <p:nvPr/>
        </p:nvPicPr>
        <p:blipFill>
          <a:blip r:embed="rId1"/>
          <a:stretch/>
        </p:blipFill>
        <p:spPr>
          <a:xfrm>
            <a:off x="2771640" y="1197000"/>
            <a:ext cx="51278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ТР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роз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0601f79c54df2a439e06b749e9e2a923"/>
          <p:cNvPicPr/>
          <p:nvPr/>
        </p:nvPicPr>
        <p:blipFill>
          <a:blip r:embed="rId1"/>
          <a:stretch/>
        </p:blipFill>
        <p:spPr>
          <a:xfrm>
            <a:off x="3492360" y="2421000"/>
            <a:ext cx="49802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лоди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VAR1000B"/>
          <p:cNvPicPr/>
          <p:nvPr/>
        </p:nvPicPr>
        <p:blipFill>
          <a:blip r:embed="rId1"/>
          <a:stretch/>
        </p:blipFill>
        <p:spPr>
          <a:xfrm>
            <a:off x="611280" y="1243080"/>
            <a:ext cx="806436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дитерск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451470022_kafe-pod-kluch"/>
          <p:cNvPicPr/>
          <p:nvPr/>
        </p:nvPicPr>
        <p:blipFill>
          <a:blip r:embed="rId1"/>
          <a:stretch/>
        </p:blipFill>
        <p:spPr>
          <a:xfrm>
            <a:off x="684360" y="2019240"/>
            <a:ext cx="806436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ры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e6098505f58f97b95dbc74fd747c3ad2"/>
          <p:cNvPicPr/>
          <p:nvPr/>
        </p:nvPicPr>
        <p:blipFill>
          <a:blip r:embed="rId1"/>
          <a:stretch/>
        </p:blipFill>
        <p:spPr>
          <a:xfrm>
            <a:off x="755640" y="1143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ИЛАВКИ - ВИТР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holodilnye-vitriny"/>
          <p:cNvPicPr/>
          <p:nvPr/>
        </p:nvPicPr>
        <p:blipFill>
          <a:blip r:embed="rId1"/>
          <a:stretch/>
        </p:blipFill>
        <p:spPr>
          <a:xfrm>
            <a:off x="179280" y="1320840"/>
            <a:ext cx="869976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ИСТЕННЫЕ ХОЛОДИЛЬНЫЕ ГОР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sumy-regaly_holodilnye_gorki_COLD_v_assortimente_85836"/>
          <p:cNvPicPr/>
          <p:nvPr/>
        </p:nvPicPr>
        <p:blipFill>
          <a:blip r:embed="rId1"/>
          <a:stretch/>
        </p:blipFill>
        <p:spPr>
          <a:xfrm>
            <a:off x="2700360" y="1628640"/>
            <a:ext cx="571500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енья холодильной цеп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готовительные холодильники оптовых предприят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лодильное оборудование розничных торговых предприят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товые холодиль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13651582"/>
          <p:cNvPicPr/>
          <p:nvPr/>
        </p:nvPicPr>
        <p:blipFill>
          <a:blip r:embed="rId1"/>
          <a:stretch/>
        </p:blipFill>
        <p:spPr>
          <a:xfrm>
            <a:off x="395280" y="4581360"/>
            <a:ext cx="3089160" cy="205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490-morozilnaya-kamera-liebherr-gp-2033"/>
          <p:cNvPicPr/>
          <p:nvPr/>
        </p:nvPicPr>
        <p:blipFill>
          <a:blip r:embed="rId2"/>
          <a:stretch/>
        </p:blipFill>
        <p:spPr>
          <a:xfrm>
            <a:off x="6372360" y="3860640"/>
            <a:ext cx="2328840" cy="232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csc406"/>
          <p:cNvPicPr/>
          <p:nvPr/>
        </p:nvPicPr>
        <p:blipFill>
          <a:blip r:embed="rId3"/>
          <a:stretch/>
        </p:blipFill>
        <p:spPr>
          <a:xfrm>
            <a:off x="3780000" y="4437000"/>
            <a:ext cx="20811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НИЗКОТЕМПЕРАТУРНЫЕ ЛА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i?id=255b2340b8b12d64726590421f320863&amp;n=33&amp;h=215&amp;w=402"/>
          <p:cNvPicPr/>
          <p:nvPr/>
        </p:nvPicPr>
        <p:blipFill>
          <a:blip r:embed="rId1"/>
          <a:stretch/>
        </p:blipFill>
        <p:spPr>
          <a:xfrm>
            <a:off x="250920" y="1557360"/>
            <a:ext cx="8532720" cy="45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Н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&amp;Vcy;&amp;icy;&amp;tcy;&amp;rcy;&amp;icy;&amp;ncy;&amp;ycy; &amp;scy; &amp;vcy;&amp;ycy;&amp;ncy;&amp;ocy;&amp;scy;&amp;ncy;&amp;ycy;&amp;mcy; &amp;acy;&amp;gcy;&amp;rcy;&amp;iecy;&amp;gcy;&amp;acy;&amp;tcy;&amp;ocy;&amp;mcy;"/>
          <p:cNvPicPr/>
          <p:nvPr/>
        </p:nvPicPr>
        <p:blipFill>
          <a:blip r:embed="rId1"/>
          <a:stretch/>
        </p:blipFill>
        <p:spPr>
          <a:xfrm>
            <a:off x="155520" y="46080"/>
            <a:ext cx="1562040" cy="1562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b1"/>
          <p:cNvPicPr/>
          <p:nvPr/>
        </p:nvPicPr>
        <p:blipFill>
          <a:blip r:embed="rId2"/>
          <a:stretch/>
        </p:blipFill>
        <p:spPr>
          <a:xfrm>
            <a:off x="1116000" y="1773360"/>
            <a:ext cx="683748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язь между звеньями холодильной цепи осуществляет холодильный транспор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да-, вагоны-, поезда-, автомобили-холодиль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464"/>
          <p:cNvPicPr/>
          <p:nvPr/>
        </p:nvPicPr>
        <p:blipFill>
          <a:blip r:embed="rId1"/>
          <a:stretch/>
        </p:blipFill>
        <p:spPr>
          <a:xfrm>
            <a:off x="468360" y="3500280"/>
            <a:ext cx="4762440" cy="266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?id=725fc468eb06c922bf76eff672488215&amp;n=33&amp;h=215&amp;w=267"/>
          <p:cNvPicPr/>
          <p:nvPr/>
        </p:nvPicPr>
        <p:blipFill>
          <a:blip r:embed="rId2"/>
          <a:stretch/>
        </p:blipFill>
        <p:spPr>
          <a:xfrm>
            <a:off x="6156360" y="3213000"/>
            <a:ext cx="2543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иды холодильных скла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вый тип – это обычные холодильные склады, фактически представляющие собой морозильные камеры большого разме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торой тип – холодильные склады для хранения молочных продуктов, колбасных изделий, овощей, фруктов, цветов, некоторых лекарст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тий тип – холодильные склады для охлаждения мяса и мясопроду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вертый тип – склады для шоковой заморозки проду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8fda928c9f5c9eee3e32382336968690&amp;n=33&amp;h=215&amp;w=320"/>
          <p:cNvPicPr/>
          <p:nvPr/>
        </p:nvPicPr>
        <p:blipFill>
          <a:blip r:embed="rId1"/>
          <a:stretch/>
        </p:blipFill>
        <p:spPr>
          <a:xfrm>
            <a:off x="4500720" y="2492280"/>
            <a:ext cx="4392360" cy="2951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329a1385fc908d8eab74fafdb1e9287f"/>
          <p:cNvPicPr/>
          <p:nvPr/>
        </p:nvPicPr>
        <p:blipFill>
          <a:blip r:embed="rId2"/>
          <a:stretch/>
        </p:blipFill>
        <p:spPr>
          <a:xfrm>
            <a:off x="190440" y="3284640"/>
            <a:ext cx="45975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лассификац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ви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аф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р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рины-прил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нет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2. По температурному режи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температу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зкотемперату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3. По характеру движения воздух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уд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18:18:48Z</dcterms:created>
  <dc:creator>МКС</dc:creator>
  <dc:description/>
  <dc:language>en-US</dc:language>
  <cp:lastModifiedBy>Пользователь</cp:lastModifiedBy>
  <dcterms:modified xsi:type="dcterms:W3CDTF">2017-09-14T10:20:42Z</dcterms:modified>
  <cp:revision>9</cp:revision>
  <dc:subject/>
  <dc:title>ХОЛОДИЛЬНОЕ ОБОРУДОВАНИЕ</dc:title>
</cp:coreProperties>
</file>