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379-7242-49EB-A3B3-F9D3B614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DB9-5F9E-4D93-9700-D01F8DE2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462-A20C-417C-B5EB-3F0CBA7A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71D-10F9-464F-8570-6EF6B3BA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E0D-4FE4-412A-AA92-35613201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FDE-ABC6-400F-BF49-4E46CCCD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5D9-3143-41DF-956F-ABB94BAB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945-A7D8-4791-87B7-DB773AFA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3AA-FE2F-4B80-96A0-A6E8A666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D5C-BE92-4BDD-9026-DA341EAF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B7E-A1BA-4416-BC37-B655A0FC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E2D-0480-4EAD-82CE-1CEE7BAB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E9F4-ADA3-45E1-BF0D-E6467DF8D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ОЛОДИЛЬНОЕ 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86864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ДК 01.01 Основы управления ассортиментом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.О. Гол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limatvam.ru/UFiles/1768dfgdf975.jpeg"/>
          <p:cNvPicPr/>
          <p:nvPr/>
        </p:nvPicPr>
        <p:blipFill>
          <a:blip r:embed="rId1"/>
          <a:stretch/>
        </p:blipFill>
        <p:spPr>
          <a:xfrm>
            <a:off x="5495760" y="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По степени герметичности охлаждаемого объ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ы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По расположению холодильного агрега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о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о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. По степени холодоснаб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изова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 По климатическим зонам приме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южных рай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айонов с умеренным клима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ustrojstvo_holodilnogo_shkafa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ные буквенно-цифровые индекс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– кам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 – шкаф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– прилав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– витр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В – прилавки-витр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– холодиль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– среднетемператур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 – низкотемператур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фры после дефиса указывают на расположение холодильного агрег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встроенный, 2 - вынесен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второго дефиса внутренний или полезный охлаждаемый объем (в м3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ующие буквы обозначают способы выкладки това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 – на полках оборудо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– в контейнерах или таре-оборудования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степень герметичности оборудования З – закрыт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открыт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ХС-1-8,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чает камера холодильная среднетемпературная со встроенной холодильной машиной, с внутренним охлаждаемым объемом 8 м3 , предназначенная для хранения товаров в контейне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image164"/>
          <p:cNvPicPr/>
          <p:nvPr/>
        </p:nvPicPr>
        <p:blipFill>
          <a:blip r:embed="rId1"/>
          <a:stretch/>
        </p:blipFill>
        <p:spPr>
          <a:xfrm>
            <a:off x="3780000" y="4032360"/>
            <a:ext cx="51130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б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ическ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ргово-эксплуатационн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нитарны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овные условия бесперебойной работы холодильного оборуд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е качество монтаж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лифицированное техническое обслужи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ие всех правил эксплуатации персоналом магаз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лодильное оборудование должно обеспечи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ный температурный режим хранения това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нормы шума для торговых залов магази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ий вид, соответствующий интерьеру магаз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ства пользования для покупателей и продавц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ую теплопровод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ства для санитарной обработки и технического обслуживан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 эксплуатации холодильного оборудования запреща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кать посторонних лиц к осмотру, ремонту холодильной машины и регулировке приборов автоматики, а также выполнять эти работы своими сил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асаться к движущимся частям холодильного агрегата во время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ять иней с испарителя механическим способом при помощи скребков, ножей и др. предмето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омождать холодильный агрегат и проходы посторонними предмет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холода в торговле позволя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здать запасы скоропортящихся продукт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величить продолжительность их хране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ранспортировать на любые расстоя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вномерно в течение года продавать товары сезонного производств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низить товарные потер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недрять прогрессивные формы продажи товар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довлетворять потребности населения в доброкачественных продовольственных товара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еспечить высокий уровень торгового обслуживания и санитарного состояния торговых предприятий и д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 эксплуатации холодильного обору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жать оборудование продуктами следует только по достижении нормального температурного режи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загружаемых продуктов не должно превышать допустимую норму единовременной загрузки обору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ладывают или подвешивают товары неплотно между собой на расстоянии от стенок 8 - 10 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хранить продукты на испарителях, покрывать решетчатые полки и продукты бумагой, целлофаном 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пускается хранение в охлаждаемом оборудовании посторонних предм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ет соблюдать товарное сосед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ытые двери должны быть плотно прижаты к корпусу, открывать их следует как можно реже и на короткий с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испарителе не должно быть инея, между его ребрами должен свободно циркулировать холодный возду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аботников торговли должен быть проведен специальный вводный инструктаж по правилам техники безопасности, эксплуатации автоматических хладоновых холодильных установок, электробезопасности и порядку оказания первой помощи при несчастном случа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реже одного раза в 6 мес. должен проводиться инструктаж на рабочем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96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холодильного обору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remont-holodilnikov-rostov.ru/images/b9a34cb952ec5e491a59113392e9e324.png"/>
          <p:cNvPicPr/>
          <p:nvPr/>
        </p:nvPicPr>
        <p:blipFill>
          <a:blip r:embed="rId1"/>
          <a:stretch/>
        </p:blipFill>
        <p:spPr>
          <a:xfrm>
            <a:off x="2843280" y="2708280"/>
            <a:ext cx="5695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КА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роз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?id=003c522c174ff97680e24c4ba5f12a66&amp;n=33&amp;h=215&amp;w=175"/>
          <p:cNvPicPr/>
          <p:nvPr/>
        </p:nvPicPr>
        <p:blipFill>
          <a:blip r:embed="rId1"/>
          <a:stretch/>
        </p:blipFill>
        <p:spPr>
          <a:xfrm>
            <a:off x="5724360" y="2133720"/>
            <a:ext cx="2708280" cy="332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05a64df43763b65c2742e5ba50afdabb"/>
          <p:cNvPicPr/>
          <p:nvPr/>
        </p:nvPicPr>
        <p:blipFill>
          <a:blip r:embed="rId2"/>
          <a:stretch/>
        </p:blipFill>
        <p:spPr>
          <a:xfrm>
            <a:off x="536400" y="2492280"/>
            <a:ext cx="36324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од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&amp;KHcy;&amp;ocy;&amp;lcy;&amp;ocy;&amp;dcy;&amp;icy;&amp;lcy;&amp;softcy;&amp;ncy;&amp;ycy;&amp;jcy; &amp;shcy;&amp;kcy;&amp;acy;&amp;fcy; &amp;Kcy;&amp;acy;&amp;pcy;&amp;rcy;&amp;icy; 1,5&amp;Mcy; &amp;ncy;&amp;iecy;&amp;rcy;&amp;zhcy;&amp;acy;&amp;vcy;&amp;iecy;&amp;jcy;&amp;kcy;&amp;acy; (&amp;Mcy;&amp;KHcy;&amp;Mcy;)"/>
          <p:cNvPicPr/>
          <p:nvPr/>
        </p:nvPicPr>
        <p:blipFill>
          <a:blip r:embed="rId1"/>
          <a:stretch/>
        </p:blipFill>
        <p:spPr>
          <a:xfrm>
            <a:off x="5148360" y="549360"/>
            <a:ext cx="3254400" cy="3938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&amp;KHcy;&amp;ocy;&amp;lcy;&amp;ocy;&amp;dcy;&amp;icy;&amp;lcy;&amp;softcy;&amp;ncy;&amp;ycy;&amp;jcy; &amp;shcy;&amp;kcy;&amp;acy;&amp;fcy; &amp;SHcy;&amp;KHcy;-370&amp;Scy; &amp;scy; &amp;tcy;&amp;iecy;&amp;rcy;&amp;mcy;&amp;ocy;&amp;scy;&amp;tcy;&amp;acy;&amp;tcy;&amp;ocy;&amp;mcy; (&amp;Mcy;&amp;KHcy;&amp;Mcy;)"/>
          <p:cNvPicPr/>
          <p:nvPr/>
        </p:nvPicPr>
        <p:blipFill>
          <a:blip r:embed="rId2"/>
          <a:stretch/>
        </p:blipFill>
        <p:spPr>
          <a:xfrm>
            <a:off x="1146240" y="1125360"/>
            <a:ext cx="26812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дитер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i?id=298b39209234f113047c581f671ba77d&amp;n=33&amp;h=215&amp;w=116"/>
          <p:cNvPicPr/>
          <p:nvPr/>
        </p:nvPicPr>
        <p:blipFill>
          <a:blip r:embed="rId1"/>
          <a:stretch/>
        </p:blipFill>
        <p:spPr>
          <a:xfrm>
            <a:off x="4500720" y="620640"/>
            <a:ext cx="3092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&amp;SHcy;&amp;kcy;&amp;acy;&amp;fcy; &amp;dcy;&amp;lcy;&amp;yacy; &amp;vcy;&amp;icy;&amp;ncy;&amp;acy; &amp;ocy;&amp;dcy;&amp;ncy;&amp;ocy;&amp;kcy;&amp;acy;&amp;mcy;&amp;iecy;&amp;rcy;&amp;ncy;&amp;ycy;&amp;jcy; Liebherr"/>
          <p:cNvPicPr/>
          <p:nvPr/>
        </p:nvPicPr>
        <p:blipFill>
          <a:blip r:embed="rId1"/>
          <a:stretch/>
        </p:blipFill>
        <p:spPr>
          <a:xfrm>
            <a:off x="4572000" y="333360"/>
            <a:ext cx="3484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афы шоковой заморозки (шок фризе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&amp;Kcy;&amp;ocy;&amp;mcy;&amp;mcy;&amp;iecy;&amp;rcy;&amp;chcy;&amp;iecy;&amp;scy;&amp;kcy;&amp;icy;&amp;iecy; &amp;kcy;&amp;acy;&amp;mcy;&amp;iecy;&amp;rcy;&amp;ycy;"/>
          <p:cNvPicPr/>
          <p:nvPr/>
        </p:nvPicPr>
        <p:blipFill>
          <a:blip r:embed="rId1"/>
          <a:stretch/>
        </p:blipFill>
        <p:spPr>
          <a:xfrm>
            <a:off x="2916360" y="148428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афы полибо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lybox Irbis"/>
          <p:cNvPicPr/>
          <p:nvPr/>
        </p:nvPicPr>
        <p:blipFill>
          <a:blip r:embed="rId1"/>
          <a:stretch/>
        </p:blipFill>
        <p:spPr>
          <a:xfrm>
            <a:off x="324000" y="1413000"/>
            <a:ext cx="84294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ерывная холодильная цеп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комплекс холодильных средств и мероприятий, которые обеспечивают поддержание оптимального температурного режима на всем пути движения скоропортящихся продуктов от мест их производства и заготовок до предприятий розничной торговой сети и общественного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од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i?id=d7b5cf85a9e550a211689141ce9fc928&amp;n=33&amp;h=215&amp;w=215"/>
          <p:cNvPicPr/>
          <p:nvPr/>
        </p:nvPicPr>
        <p:blipFill>
          <a:blip r:embed="rId1"/>
          <a:stretch/>
        </p:blipFill>
        <p:spPr>
          <a:xfrm>
            <a:off x="4140360" y="1916280"/>
            <a:ext cx="468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роз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xolodilnyie-kameryi2%282%29"/>
          <p:cNvPicPr/>
          <p:nvPr/>
        </p:nvPicPr>
        <p:blipFill>
          <a:blip r:embed="rId1"/>
          <a:stretch/>
        </p:blipFill>
        <p:spPr>
          <a:xfrm>
            <a:off x="1763640" y="1341360"/>
            <a:ext cx="659124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хранения ш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snb_LowKDU"/>
          <p:cNvPicPr/>
          <p:nvPr/>
        </p:nvPicPr>
        <p:blipFill>
          <a:blip r:embed="rId1"/>
          <a:stretch/>
        </p:blipFill>
        <p:spPr>
          <a:xfrm>
            <a:off x="395280" y="2708280"/>
            <a:ext cx="3813120" cy="3813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kam_shub2"/>
          <p:cNvPicPr/>
          <p:nvPr/>
        </p:nvPicPr>
        <p:blipFill>
          <a:blip r:embed="rId2"/>
          <a:stretch/>
        </p:blipFill>
        <p:spPr>
          <a:xfrm>
            <a:off x="4427640" y="1268280"/>
            <a:ext cx="44528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ц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&amp;Scy; &amp;ocy;&amp;dcy;&amp;ncy;&amp;icy;&amp;mcy; &amp;scy;&amp;tcy;&amp;iecy;&amp;kcy;&amp;lcy;&amp;yacy;&amp;ncy;&amp;ncy;&amp;ycy;&amp;mcy; &amp;fcy;&amp;rcy;&amp;ocy;&amp;ncy;&amp;tcy;&amp;ocy;&amp;mcy;"/>
          <p:cNvPicPr/>
          <p:nvPr/>
        </p:nvPicPr>
        <p:blipFill>
          <a:blip r:embed="rId1"/>
          <a:stretch/>
        </p:blipFill>
        <p:spPr>
          <a:xfrm>
            <a:off x="2771640" y="1197000"/>
            <a:ext cx="5127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ТР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роз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0601f79c54df2a439e06b749e9e2a923"/>
          <p:cNvPicPr/>
          <p:nvPr/>
        </p:nvPicPr>
        <p:blipFill>
          <a:blip r:embed="rId1"/>
          <a:stretch/>
        </p:blipFill>
        <p:spPr>
          <a:xfrm>
            <a:off x="3492360" y="2421000"/>
            <a:ext cx="49802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од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VAR1000B"/>
          <p:cNvPicPr/>
          <p:nvPr/>
        </p:nvPicPr>
        <p:blipFill>
          <a:blip r:embed="rId1"/>
          <a:stretch/>
        </p:blipFill>
        <p:spPr>
          <a:xfrm>
            <a:off x="611280" y="1243080"/>
            <a:ext cx="80643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дитер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451470022_kafe-pod-kluch"/>
          <p:cNvPicPr/>
          <p:nvPr/>
        </p:nvPicPr>
        <p:blipFill>
          <a:blip r:embed="rId1"/>
          <a:stretch/>
        </p:blipFill>
        <p:spPr>
          <a:xfrm>
            <a:off x="684360" y="2019240"/>
            <a:ext cx="8064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ры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e6098505f58f97b95dbc74fd747c3ad2"/>
          <p:cNvPicPr/>
          <p:nvPr/>
        </p:nvPicPr>
        <p:blipFill>
          <a:blip r:embed="rId1"/>
          <a:stretch/>
        </p:blipFill>
        <p:spPr>
          <a:xfrm>
            <a:off x="75564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ЛАВКИ - ВИТР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olodilnye-vitriny"/>
          <p:cNvPicPr/>
          <p:nvPr/>
        </p:nvPicPr>
        <p:blipFill>
          <a:blip r:embed="rId1"/>
          <a:stretch/>
        </p:blipFill>
        <p:spPr>
          <a:xfrm>
            <a:off x="179280" y="1320840"/>
            <a:ext cx="869976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СТЕННЫЕ ХОЛОДИЛЬНЫЕ Г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sumy-regaly_holodilnye_gorki_COLD_v_assortimente_85836"/>
          <p:cNvPicPr/>
          <p:nvPr/>
        </p:nvPicPr>
        <p:blipFill>
          <a:blip r:embed="rId1"/>
          <a:stretch/>
        </p:blipFill>
        <p:spPr>
          <a:xfrm>
            <a:off x="2700360" y="1628640"/>
            <a:ext cx="57150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енья холодильной це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товительные холодильники оптовых предприят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ильное оборудование розничных торговых предприят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овые холодиль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13651582"/>
          <p:cNvPicPr/>
          <p:nvPr/>
        </p:nvPicPr>
        <p:blipFill>
          <a:blip r:embed="rId1"/>
          <a:stretch/>
        </p:blipFill>
        <p:spPr>
          <a:xfrm>
            <a:off x="395280" y="4581360"/>
            <a:ext cx="3089160" cy="205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490-morozilnaya-kamera-liebherr-gp-2033"/>
          <p:cNvPicPr/>
          <p:nvPr/>
        </p:nvPicPr>
        <p:blipFill>
          <a:blip r:embed="rId2"/>
          <a:stretch/>
        </p:blipFill>
        <p:spPr>
          <a:xfrm>
            <a:off x="6372360" y="3860640"/>
            <a:ext cx="2328840" cy="232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sc406"/>
          <p:cNvPicPr/>
          <p:nvPr/>
        </p:nvPicPr>
        <p:blipFill>
          <a:blip r:embed="rId3"/>
          <a:stretch/>
        </p:blipFill>
        <p:spPr>
          <a:xfrm>
            <a:off x="3780000" y="4437000"/>
            <a:ext cx="20811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ЗКОТЕМПЕРАТУРНЫЕ ЛА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i?id=255b2340b8b12d64726590421f320863&amp;n=33&amp;h=215&amp;w=402"/>
          <p:cNvPicPr/>
          <p:nvPr/>
        </p:nvPicPr>
        <p:blipFill>
          <a:blip r:embed="rId1"/>
          <a:stretch/>
        </p:blipFill>
        <p:spPr>
          <a:xfrm>
            <a:off x="250920" y="1557360"/>
            <a:ext cx="85327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О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&amp;Vcy;&amp;icy;&amp;tcy;&amp;rcy;&amp;icy;&amp;ncy;&amp;ycy; &amp;scy; &amp;vcy;&amp;ycy;&amp;ncy;&amp;ocy;&amp;scy;&amp;ncy;&amp;ycy;&amp;mcy; &amp;acy;&amp;gcy;&amp;rcy;&amp;iecy;&amp;gcy;&amp;acy;&amp;tcy;&amp;ocy;&amp;mcy;"/>
          <p:cNvPicPr/>
          <p:nvPr/>
        </p:nvPicPr>
        <p:blipFill>
          <a:blip r:embed="rId1"/>
          <a:stretch/>
        </p:blipFill>
        <p:spPr>
          <a:xfrm>
            <a:off x="155520" y="4608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1"/>
          <p:cNvPicPr/>
          <p:nvPr/>
        </p:nvPicPr>
        <p:blipFill>
          <a:blip r:embed="rId2"/>
          <a:stretch/>
        </p:blipFill>
        <p:spPr>
          <a:xfrm>
            <a:off x="1116000" y="1773360"/>
            <a:ext cx="683748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ь между звеньями холодильной цепи осуществляет холодильный транспор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да-, вагоны-, поезда-, автомобили-холодиль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464"/>
          <p:cNvPicPr/>
          <p:nvPr/>
        </p:nvPicPr>
        <p:blipFill>
          <a:blip r:embed="rId1"/>
          <a:stretch/>
        </p:blipFill>
        <p:spPr>
          <a:xfrm>
            <a:off x="468360" y="3500280"/>
            <a:ext cx="4762440" cy="266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?id=725fc468eb06c922bf76eff672488215&amp;n=33&amp;h=215&amp;w=267"/>
          <p:cNvPicPr/>
          <p:nvPr/>
        </p:nvPicPr>
        <p:blipFill>
          <a:blip r:embed="rId2"/>
          <a:stretch/>
        </p:blipFill>
        <p:spPr>
          <a:xfrm>
            <a:off x="6156360" y="3213000"/>
            <a:ext cx="2543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холодильных скла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тип – это обычные холодильные склады, фактически представляющие собой морозильные камеры большого разм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тип – холодильные склады для хранения молочных продуктов, колбасных изделий, овощей, фруктов, цветов, некоторых лекар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тип – холодильные склады для охлаждения мяса и мясопроду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тый тип – склады для шоковой заморозки проду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?id=8fda928c9f5c9eee3e32382336968690&amp;n=33&amp;h=215&amp;w=320"/>
          <p:cNvPicPr/>
          <p:nvPr/>
        </p:nvPicPr>
        <p:blipFill>
          <a:blip r:embed="rId1"/>
          <a:stretch/>
        </p:blipFill>
        <p:spPr>
          <a:xfrm>
            <a:off x="4500720" y="2492280"/>
            <a:ext cx="4392360" cy="295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329a1385fc908d8eab74fafdb1e9287f"/>
          <p:cNvPicPr/>
          <p:nvPr/>
        </p:nvPicPr>
        <p:blipFill>
          <a:blip r:embed="rId2"/>
          <a:stretch/>
        </p:blipFill>
        <p:spPr>
          <a:xfrm>
            <a:off x="190440" y="3284640"/>
            <a:ext cx="45975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ви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аф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р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рины-прил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нет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По температурному режи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етемперату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отемперату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По характеру движения воздух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уд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8:18:48Z</dcterms:created>
  <dc:creator>МКС</dc:creator>
  <dc:description/>
  <dc:language>en-US</dc:language>
  <cp:lastModifiedBy>Пользователь</cp:lastModifiedBy>
  <dcterms:modified xsi:type="dcterms:W3CDTF">2017-09-14T10:20:42Z</dcterms:modified>
  <cp:revision>9</cp:revision>
  <dc:subject/>
  <dc:title>ХОЛОДИЛЬНОЕ ОБОРУДОВАНИЕ</dc:title>
</cp:coreProperties>
</file>