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682-95B8-4B67-961E-CCAA6901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008A-F753-4257-BF77-F4B6E812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0B56-A01B-4D1B-9F0E-4BA58FB7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F6C-5589-4BB0-A4F6-343B0017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5D84-6D3B-4FA3-8076-ECE2380D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6A9A-3E88-41D7-AA9B-7D74A473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730-8881-45CE-BA4C-AEC9B640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3F8F-682E-43A0-9FD5-EEDECF7A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AD04-5082-4E88-B14C-74399FDE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ECA-8495-4935-BED0-D700B852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03AB-B3A0-4787-9C66-9C4AFBAF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5AB-CFBA-4202-A091-1E48BF95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da9c"/>
                </a:solidFill>
                <a:latin typeface="Microsoft New Tai Lue"/>
              </a:rPr>
              <a:t>Click to edit the title text format</a:t>
            </a: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1" marL="668520" indent="-257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2" marL="1028520" indent="-205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3" marL="1440000" indent="-205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4" marL="1851480" indent="-205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5B21-4709-4F06-A237-890C2A2B0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920880" y="146160"/>
            <a:ext cx="7497720" cy="2401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785920" y="4714560"/>
            <a:ext cx="3186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New Tai Lue"/>
              </a:rPr>
              <a:t>Фисенко Эльвира Николаевна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43" name="Picture 2" descr="F:\док-ты ДШИ\фото\ДШИ 1.jpg"/>
          <p:cNvPicPr/>
          <p:nvPr/>
        </p:nvPicPr>
        <p:blipFill>
          <a:blip r:embed="rId2"/>
          <a:stretch/>
        </p:blipFill>
        <p:spPr>
          <a:xfrm>
            <a:off x="2779560" y="2706840"/>
            <a:ext cx="372456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69" name="Picture 2" descr="F:\Доклад для библиотеки\Полетаева\Новая папка\DSCN60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F:\Доклад для библиотеки\0009-009-Sbornik-stikhov-Aleksandra-Tvardovskogo-Vasilij-Tjorkin-na-tom-svete.jpg"/>
          <p:cNvPicPr/>
          <p:nvPr/>
        </p:nvPicPr>
        <p:blipFill>
          <a:blip r:embed="rId2"/>
          <a:stretch/>
        </p:blipFill>
        <p:spPr>
          <a:xfrm>
            <a:off x="0" y="0"/>
            <a:ext cx="21636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72" name="Picture 2" descr="F:\Доклад для библиотеки\Полетаева\Новая папка\DSC040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F:\Доклад для библиотеки\загруженное.jpg"/>
          <p:cNvPicPr/>
          <p:nvPr/>
        </p:nvPicPr>
        <p:blipFill>
          <a:blip r:embed="rId2"/>
          <a:stretch/>
        </p:blipFill>
        <p:spPr>
          <a:xfrm>
            <a:off x="6858000" y="4051440"/>
            <a:ext cx="22860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F:\док-ты ДШИ\фото\мои дети\2012-2013\итоговое мероприятие 24.05.2013\DSC01133.JPG"/>
          <p:cNvPicPr/>
          <p:nvPr/>
        </p:nvPicPr>
        <p:blipFill>
          <a:blip r:embed="rId2"/>
          <a:stretch/>
        </p:blipFill>
        <p:spPr>
          <a:xfrm>
            <a:off x="1000080" y="1214280"/>
            <a:ext cx="7500960" cy="5156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F:\Доклад для библиотеки\987e9fdb5488ee5ebe5be087256a3b4b.jpg"/>
          <p:cNvPicPr/>
          <p:nvPr/>
        </p:nvPicPr>
        <p:blipFill>
          <a:blip r:embed="rId3"/>
          <a:stretch/>
        </p:blipFill>
        <p:spPr>
          <a:xfrm>
            <a:off x="0" y="4143240"/>
            <a:ext cx="21146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78" name="Picture 2" descr="F:\док-ты ДШИ\фото\мои дети\2012-2013\DSC007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71680" y="78552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New Tai Lue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Microsoft New Tai Lue"/>
              </a:rPr>
              <a:t>«Границы отдельных искусств отнюдь не столь абсолютны и замкнуты…, искусства ежеминутно переходят одно в другое, один род искусства находит свое продолжение и завершение в другом.»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New Tai Lue"/>
              </a:rPr>
              <a:t>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Microsoft New Tai Lue"/>
              </a:rPr>
              <a:t>Роллан Ромен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46" name="Picture 2" descr="F:\док-ты ДШИ\фото\мои дети\2012-2013\итоговое мероприятие 24.05.2013\DSC011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14200" y="4714920"/>
            <a:ext cx="285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F:\Доклад для библиотеки\1012155375.jpg"/>
          <p:cNvPicPr/>
          <p:nvPr/>
        </p:nvPicPr>
        <p:blipFill>
          <a:blip r:embed="rId2"/>
          <a:stretch/>
        </p:blipFill>
        <p:spPr>
          <a:xfrm>
            <a:off x="0" y="0"/>
            <a:ext cx="225576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50" name="Picture 2" descr="F:\док-ты ДШИ\фото\мои дети\2012-2013\итоговое мероприятие 24.05.2013\DSC011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F:\Доклад для библиотеки\78583_big.jpg"/>
          <p:cNvPicPr/>
          <p:nvPr/>
        </p:nvPicPr>
        <p:blipFill>
          <a:blip r:embed="rId2"/>
          <a:stretch/>
        </p:blipFill>
        <p:spPr>
          <a:xfrm>
            <a:off x="0" y="4076640"/>
            <a:ext cx="2071800" cy="278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F:\Доклад для библиотеки\ivan-carevich-i-seryj-volk-c6e.jpg"/>
          <p:cNvPicPr/>
          <p:nvPr/>
        </p:nvPicPr>
        <p:blipFill>
          <a:blip r:embed="rId3"/>
          <a:stretch/>
        </p:blipFill>
        <p:spPr>
          <a:xfrm>
            <a:off x="6858000" y="0"/>
            <a:ext cx="20001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54" name="Picture 2" descr="F:\док-ты ДШИ\фото\мои дети\2012-2013\DSC00727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96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F:\Доклад для библиотеки\141135705.jpg"/>
          <p:cNvPicPr/>
          <p:nvPr/>
        </p:nvPicPr>
        <p:blipFill>
          <a:blip r:embed="rId2"/>
          <a:stretch/>
        </p:blipFill>
        <p:spPr>
          <a:xfrm>
            <a:off x="0" y="4419720"/>
            <a:ext cx="1908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57" name="Picture 2" descr="F:\док-ты ДШИ\фото\мои дети\2012-2013\Фото2283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F:\Доклад для библиотеки\Полетаева\Новая папка\DSC04034.JPG"/>
          <p:cNvPicPr/>
          <p:nvPr/>
        </p:nvPicPr>
        <p:blipFill>
          <a:blip r:embed="rId2"/>
          <a:stretch/>
        </p:blipFill>
        <p:spPr>
          <a:xfrm>
            <a:off x="0" y="3714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F:\Доклад для библиотеки\277.jpg"/>
          <p:cNvPicPr/>
          <p:nvPr/>
        </p:nvPicPr>
        <p:blipFill>
          <a:blip r:embed="rId3"/>
          <a:stretch/>
        </p:blipFill>
        <p:spPr>
          <a:xfrm>
            <a:off x="0" y="0"/>
            <a:ext cx="278604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61" name="Picture 3" descr="F:\док-ты ДШИ\фото\мои дети\2012-2013\DSC00754.JPG"/>
          <p:cNvPicPr/>
          <p:nvPr/>
        </p:nvPicPr>
        <p:blipFill>
          <a:blip r:embed="rId1"/>
          <a:stretch/>
        </p:blipFill>
        <p:spPr>
          <a:xfrm>
            <a:off x="0" y="714240"/>
            <a:ext cx="91425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63" name="Picture 2" descr="F:\док-ты ДШИ\фото\мои дети\2012-2013\итоговое мероприятие 24.05.2013\DSC01132.JPG"/>
          <p:cNvPicPr/>
          <p:nvPr/>
        </p:nvPicPr>
        <p:blipFill>
          <a:blip r:embed="rId1"/>
          <a:stretch/>
        </p:blipFill>
        <p:spPr>
          <a:xfrm>
            <a:off x="135720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F:\Доклад для библиотеки\1084257-1.jpg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66" name="Picture 2" descr="F:\док-ты ДШИ\фото\мои дети\2012-2013\итоговое мероприятие 24.05.2013\DSC010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F:\Доклад для библиотеки\02.jpg"/>
          <p:cNvPicPr/>
          <p:nvPr/>
        </p:nvPicPr>
        <p:blipFill>
          <a:blip r:embed="rId2"/>
          <a:stretch/>
        </p:blipFill>
        <p:spPr>
          <a:xfrm>
            <a:off x="6972480" y="3860640"/>
            <a:ext cx="21715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11:46:13Z</dcterms:created>
  <dc:creator>User</dc:creator>
  <dc:description/>
  <dc:language>en-US</dc:language>
  <cp:lastModifiedBy>Фисенко Э Н</cp:lastModifiedBy>
  <dcterms:modified xsi:type="dcterms:W3CDTF">2017-10-08T10:51:40Z</dcterms:modified>
  <cp:revision>45</cp:revision>
  <dc:subject/>
  <dc:title>Название презентации</dc:title>
</cp:coreProperties>
</file>