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089-CFB6-482C-AAC6-EBF9F8D4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80A4-779B-4942-8F9F-5C11426AF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18A6-FBFC-4811-B091-0CD8B49A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1825-5DF1-4BA4-8288-9BF5810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BAD-898C-4E6C-91EC-DE32D4CD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AAE4-3AD4-42F8-B534-BB78F05D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3AE-7F0A-455A-AC6E-D5FD35FE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DD98-5C51-4C9E-9CA7-8353EAF3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72E0-F8F4-4AD8-9B96-D517B654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957-4D39-4DDB-B73D-9325979B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1D65-D444-462E-BB13-4C598A3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741-29D1-486C-BC5D-CC628DC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4da9c"/>
                </a:solidFill>
                <a:latin typeface="Microsoft New Tai Lue"/>
              </a:rPr>
              <a:t>Click to edit the title text format</a:t>
            </a:r>
            <a:endParaRPr b="1" lang="en-US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1" marL="668520" indent="-2570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2" marL="1028520" indent="-205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3" marL="1440000" indent="-2055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4" marL="1851480" indent="-2055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New Tai Lu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6253-A52D-4245-81E9-3C4413317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497720" cy="2401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785920" y="4714560"/>
            <a:ext cx="3186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Microsoft New Tai Lue"/>
              </a:rPr>
              <a:t>Фисенко Эльвира Николаевна</a:t>
            </a:r>
            <a:endParaRPr b="0" lang="en-US" sz="2000" spc="-1" strike="noStrike">
              <a:solidFill>
                <a:srgbClr val="ffffff"/>
              </a:solidFill>
              <a:latin typeface="Microsoft New Tai Lue"/>
            </a:endParaRPr>
          </a:p>
        </p:txBody>
      </p:sp>
      <p:pic>
        <p:nvPicPr>
          <p:cNvPr id="43" name="Picture 2" descr="F:\док-ты ДШИ\фото\ДШИ 1.jpg"/>
          <p:cNvPicPr/>
          <p:nvPr/>
        </p:nvPicPr>
        <p:blipFill>
          <a:blip r:embed="rId2"/>
          <a:stretch/>
        </p:blipFill>
        <p:spPr>
          <a:xfrm>
            <a:off x="2779560" y="2706840"/>
            <a:ext cx="372456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9" name="Picture 2" descr="F:\Доклад для библиотеки\Полетаева\Новая папка\DSCN606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F:\Доклад для библиотеки\0009-009-Sbornik-stikhov-Aleksandra-Tvardovskogo-Vasilij-Tjorkin-na-tom-svete.jpg"/>
          <p:cNvPicPr/>
          <p:nvPr/>
        </p:nvPicPr>
        <p:blipFill>
          <a:blip r:embed="rId2"/>
          <a:stretch/>
        </p:blipFill>
        <p:spPr>
          <a:xfrm>
            <a:off x="0" y="0"/>
            <a:ext cx="21636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2" name="Picture 2" descr="F:\Доклад для библиотеки\Полетаева\Новая папка\DSC0403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F:\Доклад для библиотеки\загруженное.jpg"/>
          <p:cNvPicPr/>
          <p:nvPr/>
        </p:nvPicPr>
        <p:blipFill>
          <a:blip r:embed="rId2"/>
          <a:stretch/>
        </p:blipFill>
        <p:spPr>
          <a:xfrm>
            <a:off x="6858000" y="4051440"/>
            <a:ext cx="228600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F:\док-ты ДШИ\фото\мои дети\2012-2013\итоговое мероприятие 24.05.2013\DSC01133.JPG"/>
          <p:cNvPicPr/>
          <p:nvPr/>
        </p:nvPicPr>
        <p:blipFill>
          <a:blip r:embed="rId2"/>
          <a:stretch/>
        </p:blipFill>
        <p:spPr>
          <a:xfrm>
            <a:off x="1000080" y="1214280"/>
            <a:ext cx="7500960" cy="5156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F:\Доклад для библиотеки\987e9fdb5488ee5ebe5be087256a3b4b.jpg"/>
          <p:cNvPicPr/>
          <p:nvPr/>
        </p:nvPicPr>
        <p:blipFill>
          <a:blip r:embed="rId3"/>
          <a:stretch/>
        </p:blipFill>
        <p:spPr>
          <a:xfrm>
            <a:off x="0" y="4143240"/>
            <a:ext cx="2114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78" name="Picture 2" descr="F:\док-ты ДШИ\фото\мои дети\2012-2013\DSC007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71680" y="78552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«Границы отдельных искусств отнюдь не столь абсолютны и замкнуты…, искусства ежеминутно переходят одно в другое, один род искусства находит свое продолжение и завершение в другом.»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Microsoft New Tai Lue"/>
              </a:rPr>
              <a:t>Роллан Ромен</a:t>
            </a:r>
            <a:endParaRPr b="0" lang="en-US" sz="3200" spc="-1" strike="noStrike">
              <a:solidFill>
                <a:srgbClr val="ffffff"/>
              </a:solidFill>
              <a:latin typeface="Microsoft New Tai Lu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46" name="Picture 2" descr="F:\док-ты ДШИ\фото\мои дети\2012-2013\итоговое мероприятие 24.05.2013\DSC011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14200" y="4714920"/>
            <a:ext cx="285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F:\Доклад для библиотеки\1012155375.jpg"/>
          <p:cNvPicPr/>
          <p:nvPr/>
        </p:nvPicPr>
        <p:blipFill>
          <a:blip r:embed="rId2"/>
          <a:stretch/>
        </p:blipFill>
        <p:spPr>
          <a:xfrm>
            <a:off x="0" y="0"/>
            <a:ext cx="225576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0" name="Picture 2" descr="F:\док-ты ДШИ\фото\мои дети\2012-2013\итоговое мероприятие 24.05.2013\DSC011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F:\Доклад для библиотеки\78583_big.jpg"/>
          <p:cNvPicPr/>
          <p:nvPr/>
        </p:nvPicPr>
        <p:blipFill>
          <a:blip r:embed="rId2"/>
          <a:stretch/>
        </p:blipFill>
        <p:spPr>
          <a:xfrm>
            <a:off x="0" y="4076640"/>
            <a:ext cx="20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F:\Доклад для библиотеки\ivan-carevich-i-seryj-volk-c6e.jpg"/>
          <p:cNvPicPr/>
          <p:nvPr/>
        </p:nvPicPr>
        <p:blipFill>
          <a:blip r:embed="rId3"/>
          <a:stretch/>
        </p:blipFill>
        <p:spPr>
          <a:xfrm>
            <a:off x="6858000" y="0"/>
            <a:ext cx="20001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4" name="Picture 2" descr="F:\док-ты ДШИ\фото\мои дети\2012-2013\DSC00727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596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F:\Доклад для библиотеки\141135705.jpg"/>
          <p:cNvPicPr/>
          <p:nvPr/>
        </p:nvPicPr>
        <p:blipFill>
          <a:blip r:embed="rId2"/>
          <a:stretch/>
        </p:blipFill>
        <p:spPr>
          <a:xfrm>
            <a:off x="0" y="4419720"/>
            <a:ext cx="1908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57" name="Picture 2" descr="F:\док-ты ДШИ\фото\мои дети\2012-2013\Фото2283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F:\Доклад для библиотеки\Полетаева\Новая папка\DSC04034.JPG"/>
          <p:cNvPicPr/>
          <p:nvPr/>
        </p:nvPicPr>
        <p:blipFill>
          <a:blip r:embed="rId2"/>
          <a:stretch/>
        </p:blipFill>
        <p:spPr>
          <a:xfrm>
            <a:off x="0" y="3714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F:\Доклад для библиотеки\277.jpg"/>
          <p:cNvPicPr/>
          <p:nvPr/>
        </p:nvPicPr>
        <p:blipFill>
          <a:blip r:embed="rId3"/>
          <a:stretch/>
        </p:blipFill>
        <p:spPr>
          <a:xfrm>
            <a:off x="0" y="0"/>
            <a:ext cx="27860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1" name="Picture 3" descr="F:\док-ты ДШИ\фото\мои дети\2012-2013\DSC00754.JPG"/>
          <p:cNvPicPr/>
          <p:nvPr/>
        </p:nvPicPr>
        <p:blipFill>
          <a:blip r:embed="rId1"/>
          <a:stretch/>
        </p:blipFill>
        <p:spPr>
          <a:xfrm>
            <a:off x="0" y="714240"/>
            <a:ext cx="914256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3" name="Picture 2" descr="F:\док-ты ДШИ\фото\мои дети\2012-2013\итоговое мероприятие 24.05.2013\DSC01132.JPG"/>
          <p:cNvPicPr/>
          <p:nvPr/>
        </p:nvPicPr>
        <p:blipFill>
          <a:blip r:embed="rId1"/>
          <a:stretch/>
        </p:blipFill>
        <p:spPr>
          <a:xfrm>
            <a:off x="135720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F:\Доклад для библиотеки\1084257-1.jpg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e4da9c"/>
              </a:solidFill>
              <a:latin typeface="Microsoft New Tai Lue"/>
            </a:endParaRPr>
          </a:p>
        </p:txBody>
      </p:sp>
      <p:pic>
        <p:nvPicPr>
          <p:cNvPr id="66" name="Picture 2" descr="F:\док-ты ДШИ\фото\мои дети\2012-2013\итоговое мероприятие 24.05.2013\DSC0106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F:\Доклад для библиотеки\02.jpg"/>
          <p:cNvPicPr/>
          <p:nvPr/>
        </p:nvPicPr>
        <p:blipFill>
          <a:blip r:embed="rId2"/>
          <a:stretch/>
        </p:blipFill>
        <p:spPr>
          <a:xfrm>
            <a:off x="6972480" y="3860640"/>
            <a:ext cx="217152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0:51:40Z</dcterms:modified>
  <cp:revision>45</cp:revision>
  <dc:subject/>
  <dc:title>Название презентации</dc:title>
</cp:coreProperties>
</file>