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2825-01F9-43E2-8E73-25B0C6FFB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5CD-D30C-4E4B-A57A-89180207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521-B84A-44DD-A67F-ED459BFE0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278-5235-412A-B644-16B3B980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DBF-FF8A-41F2-8AFB-932EC6BC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8AE3-7747-4991-80DE-2DB99DCF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8368-9A62-468C-93E1-190CDE12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A56-620A-44F0-ACC4-6608A3D4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F55E-1950-46A5-A0C4-7145376D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0311-9073-4286-BF6B-56EE553E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510F-1A31-4A4B-A99E-C1FC19D5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C76-5980-4A71-803C-C9D57540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da9c"/>
                </a:solidFill>
                <a:latin typeface="Microsoft New Tai Lue"/>
              </a:rPr>
              <a:t>Click to edit the title text format</a:t>
            </a: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028520" indent="-205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440000" indent="-205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DE85-4D95-40ED-BC8D-621876DA4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42" name="Picture 3" descr="F:\док-ты ДШИ\фото\мои дети\2012-2013\итоговое мероприятие 24.05.2013\DSC01135.JPG"/>
          <p:cNvPicPr/>
          <p:nvPr/>
        </p:nvPicPr>
        <p:blipFill>
          <a:blip r:embed="rId1"/>
          <a:stretch/>
        </p:blipFill>
        <p:spPr>
          <a:xfrm>
            <a:off x="0" y="0"/>
            <a:ext cx="93679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2" name="Picture 2" descr="F:\док-ты ДШИ\фото\мои дети\2013-2014\DSC0227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4" name="Picture 2" descr="F:\док-ты ДШИ\фото\мои дети\2012-2013\Фото23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6" name="Picture 2" descr="F:\док-ты ДШИ\фото\мои дети\2012-2013\DSC0078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8" name="Picture 2" descr="F:\док-ты ДШИ\фото\мои дети\2013-2014\DSC02775.JPG"/>
          <p:cNvPicPr/>
          <p:nvPr/>
        </p:nvPicPr>
        <p:blipFill>
          <a:blip r:embed="rId1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F:\Доклад для библиотеки\1427336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45" name="Picture 2" descr="F:\док-ты ДШИ\фото\мои дети\2012-2013\DSC007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F:\Доклад для библиотеки\russkie-bogatyri-978-5-488-02906-4_65a90d0e469f6d4_800x600.jpg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49" name="Picture 2" descr="F:\Доклад для библиотеки\Полетаева\Новая папка\Андрусенко Анастасия.JPG"/>
          <p:cNvPicPr/>
          <p:nvPr/>
        </p:nvPicPr>
        <p:blipFill>
          <a:blip r:embed="rId1"/>
          <a:stretch/>
        </p:blipFill>
        <p:spPr>
          <a:xfrm>
            <a:off x="264312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:\Доклад для библиотеки\multimediabooks_covers1010735582.jpg"/>
          <p:cNvPicPr/>
          <p:nvPr/>
        </p:nvPicPr>
        <p:blipFill>
          <a:blip r:embed="rId2"/>
          <a:stretch/>
        </p:blipFill>
        <p:spPr>
          <a:xfrm>
            <a:off x="0" y="3484440"/>
            <a:ext cx="2203560" cy="33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2" name="Picture 2" descr="F:\док-ты ДШИ\фото\мои дети\2012-2013\DSC00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4" name="Picture 2" descr="F:\док-ты ДШИ\фото\мои дети\2012-2013\итоговое мероприятие 24.05.2013\DSC01468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6" name="Picture 2" descr="F:\док-ты ДШИ\фото\мои дети\2012-2013\Фото236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:\док-ты ДШИ\фото\мои дети\2013-2014\DSC02904.JPG"/>
          <p:cNvPicPr/>
          <p:nvPr/>
        </p:nvPicPr>
        <p:blipFill>
          <a:blip r:embed="rId2"/>
          <a:stretch/>
        </p:blipFill>
        <p:spPr>
          <a:xfrm>
            <a:off x="2286000" y="1500120"/>
            <a:ext cx="4784760" cy="4929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Доклад для библиотеки\d47fd365988d8ac4b60854e64bb3a2ad-255x324.jpg"/>
          <p:cNvPicPr/>
          <p:nvPr/>
        </p:nvPicPr>
        <p:blipFill>
          <a:blip r:embed="rId3"/>
          <a:stretch/>
        </p:blipFill>
        <p:spPr>
          <a:xfrm>
            <a:off x="285840" y="1428840"/>
            <a:ext cx="1743120" cy="2214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F:\Доклад для библиотеки\Новый рисунок (51).png"/>
          <p:cNvPicPr/>
          <p:nvPr/>
        </p:nvPicPr>
        <p:blipFill>
          <a:blip r:embed="rId4"/>
          <a:stretch/>
        </p:blipFill>
        <p:spPr>
          <a:xfrm>
            <a:off x="285840" y="4071960"/>
            <a:ext cx="1668240" cy="2260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F:\Доклад для библиотеки\fb1df5ddcca70ca2ebc93060541.jpg"/>
          <p:cNvPicPr/>
          <p:nvPr/>
        </p:nvPicPr>
        <p:blipFill>
          <a:blip r:embed="rId5"/>
          <a:stretch/>
        </p:blipFill>
        <p:spPr>
          <a:xfrm>
            <a:off x="7358040" y="1500120"/>
            <a:ext cx="1495440" cy="1973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:\Доклад для библиотеки\1427336.jpg"/>
          <p:cNvPicPr/>
          <p:nvPr/>
        </p:nvPicPr>
        <p:blipFill>
          <a:blip r:embed="rId6"/>
          <a:stretch/>
        </p:blipFill>
        <p:spPr>
          <a:xfrm>
            <a:off x="7270920" y="3929040"/>
            <a:ext cx="16635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65" name="Picture 2" descr="F:\док-ты ДШИ\фото\мои дети\2013-2014\DSC0299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Доклад для библиотеки\55d5cf5575ddc.jpg"/>
          <p:cNvPicPr/>
          <p:nvPr/>
        </p:nvPicPr>
        <p:blipFill>
          <a:blip r:embed="rId2"/>
          <a:stretch/>
        </p:blipFill>
        <p:spPr>
          <a:xfrm>
            <a:off x="0" y="4071960"/>
            <a:ext cx="17859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69" name="Picture 3" descr="F:\док-ты ДШИ\фото\мои дети\2013-2014\DSC0299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F:\Доклад для библиотеки\365027-middle.jpg"/>
          <p:cNvPicPr/>
          <p:nvPr/>
        </p:nvPicPr>
        <p:blipFill>
          <a:blip r:embed="rId2"/>
          <a:stretch/>
        </p:blipFill>
        <p:spPr>
          <a:xfrm>
            <a:off x="6858000" y="5753160"/>
            <a:ext cx="22860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1:46:13Z</dcterms:created>
  <dc:creator>User</dc:creator>
  <dc:description/>
  <dc:language>en-US</dc:language>
  <cp:lastModifiedBy>Фисенко Э Н</cp:lastModifiedBy>
  <dcterms:modified xsi:type="dcterms:W3CDTF">2017-10-08T10:54:30Z</dcterms:modified>
  <cp:revision>47</cp:revision>
  <dc:subject/>
  <dc:title>Название презентации</dc:title>
</cp:coreProperties>
</file>