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EB5-DB3F-4E51-9972-75A90F77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1E7-EEE5-4F36-ABBC-7A7879FA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0BB-EC8E-43EA-BA37-3A71F4A2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10E-CB9A-41CA-B996-07227D84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A31-2A24-4FF6-BB4E-6B440334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890-7DA8-4412-A464-EDA23BF1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E3B-0C0C-462D-BE97-5B5C90F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15C-6884-46E0-8F09-0B0A8E72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6AB-1BC9-44A3-9449-597F575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6E2-214D-4E81-AE7A-EA15BEE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65F-87A4-44A7-8B6F-FCE2708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21E-907A-4683-8B0C-844E07E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da9c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028520" indent="-205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0387-9C9D-4B48-8B8B-C410F71F7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2" name="Picture 3" descr="F:\док-ты ДШИ\фото\мои дети\2012-2013\итоговое мероприятие 24.05.2013\DSC01135.JPG"/>
          <p:cNvPicPr/>
          <p:nvPr/>
        </p:nvPicPr>
        <p:blipFill>
          <a:blip r:embed="rId1"/>
          <a:stretch/>
        </p:blipFill>
        <p:spPr>
          <a:xfrm>
            <a:off x="0" y="0"/>
            <a:ext cx="9367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2" name="Picture 2" descr="F:\док-ты ДШИ\фото\мои дети\2013-2014\DSC022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4" name="Picture 2" descr="F:\док-ты ДШИ\фото\мои дети\2012-2013\Фото23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6" name="Picture 2" descr="F:\док-ты ДШИ\фото\мои дети\2012-2013\DSC007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8" name="Picture 2" descr="F:\док-ты ДШИ\фото\мои дети\2013-2014\DSC02775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:\Доклад для библиотеки\1427336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5" name="Picture 2" descr="F:\док-ты ДШИ\фото\мои дети\2012-2013\DSC007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:\Доклад для библиотеки\russkie-bogatyri-978-5-488-02906-4_65a90d0e469f6d4_800x600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49" name="Picture 2" descr="F:\Доклад для библиотеки\Полетаева\Новая папка\Андрусенко Анастасия.JPG"/>
          <p:cNvPicPr/>
          <p:nvPr/>
        </p:nvPicPr>
        <p:blipFill>
          <a:blip r:embed="rId1"/>
          <a:stretch/>
        </p:blipFill>
        <p:spPr>
          <a:xfrm>
            <a:off x="26431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Доклад для библиотеки\multimediabooks_covers1010735582.jpg"/>
          <p:cNvPicPr/>
          <p:nvPr/>
        </p:nvPicPr>
        <p:blipFill>
          <a:blip r:embed="rId2"/>
          <a:stretch/>
        </p:blipFill>
        <p:spPr>
          <a:xfrm>
            <a:off x="0" y="3484440"/>
            <a:ext cx="22035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2" name="Picture 2" descr="F:\док-ты ДШИ\фото\мои дети\2012-2013\DSC00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4" name="Picture 2" descr="F:\док-ты ДШИ\фото\мои дети\2012-2013\итоговое мероприятие 24.05.2013\DSC0146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6" name="Picture 2" descr="F:\док-ты ДШИ\фото\мои дети\2012-2013\Фото23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док-ты ДШИ\фото\мои дети\2013-2014\DSC02904.JPG"/>
          <p:cNvPicPr/>
          <p:nvPr/>
        </p:nvPicPr>
        <p:blipFill>
          <a:blip r:embed="rId2"/>
          <a:stretch/>
        </p:blipFill>
        <p:spPr>
          <a:xfrm>
            <a:off x="2286000" y="1500120"/>
            <a:ext cx="4784760" cy="492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Доклад для библиотеки\d47fd365988d8ac4b60854e64bb3a2ad-255x324.jpg"/>
          <p:cNvPicPr/>
          <p:nvPr/>
        </p:nvPicPr>
        <p:blipFill>
          <a:blip r:embed="rId3"/>
          <a:stretch/>
        </p:blipFill>
        <p:spPr>
          <a:xfrm>
            <a:off x="285840" y="1428840"/>
            <a:ext cx="1743120" cy="221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F:\Доклад для библиотеки\Новый рисунок (51).png"/>
          <p:cNvPicPr/>
          <p:nvPr/>
        </p:nvPicPr>
        <p:blipFill>
          <a:blip r:embed="rId4"/>
          <a:stretch/>
        </p:blipFill>
        <p:spPr>
          <a:xfrm>
            <a:off x="285840" y="4071960"/>
            <a:ext cx="1668240" cy="226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F:\Доклад для библиотеки\fb1df5ddcca70ca2ebc93060541.jpg"/>
          <p:cNvPicPr/>
          <p:nvPr/>
        </p:nvPicPr>
        <p:blipFill>
          <a:blip r:embed="rId5"/>
          <a:stretch/>
        </p:blipFill>
        <p:spPr>
          <a:xfrm>
            <a:off x="7358040" y="1500120"/>
            <a:ext cx="1495440" cy="197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Доклад для библиотеки\1427336.jpg"/>
          <p:cNvPicPr/>
          <p:nvPr/>
        </p:nvPicPr>
        <p:blipFill>
          <a:blip r:embed="rId6"/>
          <a:stretch/>
        </p:blipFill>
        <p:spPr>
          <a:xfrm>
            <a:off x="7270920" y="3929040"/>
            <a:ext cx="16635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65" name="Picture 2" descr="F:\док-ты ДШИ\фото\мои дети\2013-2014\DSC02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Доклад для библиотеки\55d5cf5575ddc.jpg"/>
          <p:cNvPicPr/>
          <p:nvPr/>
        </p:nvPicPr>
        <p:blipFill>
          <a:blip r:embed="rId2"/>
          <a:stretch/>
        </p:blipFill>
        <p:spPr>
          <a:xfrm>
            <a:off x="0" y="4071960"/>
            <a:ext cx="1785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69" name="Picture 3" descr="F:\док-ты ДШИ\фото\мои дети\2013-2014\DSC029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Доклад для библиотеки\365027-middle.jpg"/>
          <p:cNvPicPr/>
          <p:nvPr/>
        </p:nvPicPr>
        <p:blipFill>
          <a:blip r:embed="rId2"/>
          <a:stretch/>
        </p:blipFill>
        <p:spPr>
          <a:xfrm>
            <a:off x="6858000" y="5753160"/>
            <a:ext cx="2286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0:54:30Z</dcterms:modified>
  <cp:revision>47</cp:revision>
  <dc:subject/>
  <dc:title>Название презентации</dc:title>
</cp:coreProperties>
</file>