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8.png" ContentType="image/png"/>
  <Override PartName="/ppt/media/image14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34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D4B-58CF-4C97-ADD6-BE1D1630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FE60-DA5B-469A-9771-5EBD6DAC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0D8B-DD45-4D33-A358-628FA70D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1097-5707-4BDC-AA5C-E3EAE4B3D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D5F5-6A01-47E6-8C39-3F19431D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FCC-E2E5-42B2-84EF-063B23BC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760A-926B-4E35-8919-1A03AD67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47F9-CBAA-4354-83A2-EB47168E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D64-C552-4B78-89E1-E2FD989B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76F-9D51-4D61-AB8F-4AF119FA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701-4B8A-453F-B343-A471C68D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93A-37CA-4CF1-A363-12D212B3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da9c"/>
                </a:solidFill>
                <a:latin typeface="Microsoft New Tai Lue"/>
              </a:rPr>
              <a:t>Click to edit the title text format</a:t>
            </a: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2" marL="1028520" indent="-205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3" marL="1440000" indent="-205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4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3A37-70C7-4987-AEBE-F375B3DDF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42" name="Picture 2" descr="F:\док-ты ДШИ\фото\мои дети\2013-2014\DSC021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F:\Доклад для библиотеки\img1146_42708_big.jpg"/>
          <p:cNvPicPr/>
          <p:nvPr/>
        </p:nvPicPr>
        <p:blipFill>
          <a:blip r:embed="rId2"/>
          <a:stretch/>
        </p:blipFill>
        <p:spPr>
          <a:xfrm>
            <a:off x="7018200" y="4214880"/>
            <a:ext cx="21258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Заголовок 1" descr=""/>
          <p:cNvPicPr/>
          <p:nvPr/>
        </p:nvPicPr>
        <p:blipFill>
          <a:blip r:embed="rId1"/>
          <a:stretch/>
        </p:blipFill>
        <p:spPr>
          <a:xfrm>
            <a:off x="1298520" y="42840"/>
            <a:ext cx="7126200" cy="1889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:\для ДК\Закрытие\Я рожден с душою пылкой\каталог.jpeg"/>
          <p:cNvPicPr/>
          <p:nvPr/>
        </p:nvPicPr>
        <p:blipFill>
          <a:blip r:embed="rId2"/>
          <a:stretch/>
        </p:blipFill>
        <p:spPr>
          <a:xfrm>
            <a:off x="0" y="3214800"/>
            <a:ext cx="2603520" cy="36432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H:\для ДК\Закрытие\Маскалева Маскарад Я рожден с душой пылкой  2013.jpeg"/>
          <p:cNvPicPr/>
          <p:nvPr/>
        </p:nvPicPr>
        <p:blipFill>
          <a:blip r:embed="rId3"/>
          <a:stretch/>
        </p:blipFill>
        <p:spPr>
          <a:xfrm>
            <a:off x="2857680" y="1857240"/>
            <a:ext cx="2512800" cy="35798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C:\Users\Фисенко Э.Н\Desktop\Мильчаков Евгений и Потапова Маргаритта.jpeg"/>
          <p:cNvPicPr/>
          <p:nvPr/>
        </p:nvPicPr>
        <p:blipFill>
          <a:blip r:embed="rId4"/>
          <a:stretch/>
        </p:blipFill>
        <p:spPr>
          <a:xfrm>
            <a:off x="5572080" y="3714840"/>
            <a:ext cx="3357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1639800" y="-55440"/>
            <a:ext cx="7296120" cy="1682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H:\для ДК\Закрытие\Новые имена\каталог.jpeg"/>
          <p:cNvPicPr/>
          <p:nvPr/>
        </p:nvPicPr>
        <p:blipFill>
          <a:blip r:embed="rId2"/>
          <a:stretch/>
        </p:blipFill>
        <p:spPr>
          <a:xfrm>
            <a:off x="0" y="3840120"/>
            <a:ext cx="2000160" cy="3017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H:\для ДК\Закрытие\Новые имена\Маскалева и Елясова.jpeg"/>
          <p:cNvPicPr/>
          <p:nvPr/>
        </p:nvPicPr>
        <p:blipFill>
          <a:blip r:embed="rId3"/>
          <a:stretch/>
        </p:blipFill>
        <p:spPr>
          <a:xfrm>
            <a:off x="5578560" y="200016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H:\для ДК\Закрытие\Новые имена\Маскалева и Елясова.jpeg"/>
          <p:cNvPicPr/>
          <p:nvPr/>
        </p:nvPicPr>
        <p:blipFill>
          <a:blip r:embed="rId4"/>
          <a:stretch/>
        </p:blipFill>
        <p:spPr>
          <a:xfrm>
            <a:off x="2714760" y="2643120"/>
            <a:ext cx="252072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Заголовок 1" descr=""/>
          <p:cNvPicPr/>
          <p:nvPr/>
        </p:nvPicPr>
        <p:blipFill>
          <a:blip r:embed="rId1"/>
          <a:stretch/>
        </p:blipFill>
        <p:spPr>
          <a:xfrm>
            <a:off x="1494000" y="-6480"/>
            <a:ext cx="7076880" cy="2170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692360" y="2204640"/>
            <a:ext cx="410832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83" name="Picture 2" descr="I:\док-ты ДШИ\фото\2014-2015\12 -20.02.1015 художественная олимпиада\20150220_112605.jpg"/>
          <p:cNvPicPr/>
          <p:nvPr/>
        </p:nvPicPr>
        <p:blipFill>
          <a:blip r:embed="rId2"/>
          <a:stretch/>
        </p:blipFill>
        <p:spPr>
          <a:xfrm>
            <a:off x="3643200" y="2214720"/>
            <a:ext cx="2921040" cy="43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494000" y="353880"/>
            <a:ext cx="6864120" cy="1724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I:\док-ты ДШИ\фото\2014-2015\8-24.01.2015музыкально-теоретическая олимпиада\SAM_0265.JPG"/>
          <p:cNvPicPr/>
          <p:nvPr/>
        </p:nvPicPr>
        <p:blipFill>
          <a:blip r:embed="rId2"/>
          <a:stretch/>
        </p:blipFill>
        <p:spPr>
          <a:xfrm>
            <a:off x="214200" y="2143080"/>
            <a:ext cx="6000840" cy="400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I:\док-ты ДШИ\фото\2014-2015\8-24.01.2015музыкально-теоретическая олимпиада\SAM_0251.JPG"/>
          <p:cNvPicPr/>
          <p:nvPr/>
        </p:nvPicPr>
        <p:blipFill>
          <a:blip r:embed="rId3"/>
          <a:stretch/>
        </p:blipFill>
        <p:spPr>
          <a:xfrm>
            <a:off x="6572160" y="2643120"/>
            <a:ext cx="210528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88" name="Picture 2" descr="F:\док-ты ДШИ\фото\2014-2015\8-24.01.2015музыкально-теоретическая олимпиада\SAM_0265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45" name="Picture 2" descr="F:\док-ты ДШИ\фото\мои дети\2013-2014\DSC021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F:\Доклад для библиотеки\272302.jpg"/>
          <p:cNvPicPr/>
          <p:nvPr/>
        </p:nvPicPr>
        <p:blipFill>
          <a:blip r:embed="rId2"/>
          <a:stretch/>
        </p:blipFill>
        <p:spPr>
          <a:xfrm>
            <a:off x="6357960" y="4214880"/>
            <a:ext cx="20826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49" name="Picture 2" descr="F:\Доклад для библиотеки\Полетаева\Новая папка\DSCN60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F:\Доклад для библиотеки\0c99111932cdc8a171c323fd332ab067.jpg"/>
          <p:cNvPicPr/>
          <p:nvPr/>
        </p:nvPicPr>
        <p:blipFill>
          <a:blip r:embed="rId2"/>
          <a:stretch/>
        </p:blipFill>
        <p:spPr>
          <a:xfrm>
            <a:off x="0" y="4429080"/>
            <a:ext cx="1577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F:\док-ты ДШИ\фото\мои дети\2014-2015\школа 6\20150516_125036.jpg"/>
          <p:cNvPicPr/>
          <p:nvPr/>
        </p:nvPicPr>
        <p:blipFill>
          <a:blip r:embed="rId2"/>
          <a:stretch/>
        </p:blipFill>
        <p:spPr>
          <a:xfrm>
            <a:off x="642960" y="1285920"/>
            <a:ext cx="3786120" cy="4753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F:\док-ты ДШИ\фото\мои дети\2014-2015\школа 6\20150516_125047.jpg"/>
          <p:cNvPicPr/>
          <p:nvPr/>
        </p:nvPicPr>
        <p:blipFill>
          <a:blip r:embed="rId3"/>
          <a:stretch/>
        </p:blipFill>
        <p:spPr>
          <a:xfrm>
            <a:off x="5286240" y="1428840"/>
            <a:ext cx="3565800" cy="464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F:\Доклад для библиотеки\1012149959.jpg"/>
          <p:cNvPicPr/>
          <p:nvPr/>
        </p:nvPicPr>
        <p:blipFill>
          <a:blip r:embed="rId4"/>
          <a:stretch/>
        </p:blipFill>
        <p:spPr>
          <a:xfrm>
            <a:off x="3786120" y="3857760"/>
            <a:ext cx="20145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56" name="Picture 2" descr="F:\док-ты ДШИ\фото\мои дети\2013-2014\DSC020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5000760" y="571500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имся успех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60" name="Picture 3" descr="F:\док-ты ДШИ\фото\2014-2015\9-06.02.2015 закрытие выставки в ДТ\20150206_145841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62" name="Picture 2" descr="F:\док-ты ДШИ\фото\мои дети\2013-2014\DSC024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64" name="Picture 2" descr="F:\док-ты ДШИ\фото\2015-2016\9 25.09.2015 Мирный тихий океан\Мирный Тихий награждение\DSCN1571.JPG"/>
          <p:cNvPicPr/>
          <p:nvPr/>
        </p:nvPicPr>
        <p:blipFill>
          <a:blip r:embed="rId1"/>
          <a:stretch/>
        </p:blipFill>
        <p:spPr>
          <a:xfrm>
            <a:off x="0" y="0"/>
            <a:ext cx="5160960" cy="35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F:\док-ты ДШИ\фото\2015-2016\9 25.09.2015 Мирный тихий океан\Мирный Тихий награждение\DSCN1572.JPG"/>
          <p:cNvPicPr/>
          <p:nvPr/>
        </p:nvPicPr>
        <p:blipFill>
          <a:blip r:embed="rId2"/>
          <a:stretch/>
        </p:blipFill>
        <p:spPr>
          <a:xfrm>
            <a:off x="2571840" y="3429000"/>
            <a:ext cx="415296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F:\док-ты ДШИ\фото\2015-2016\9 25.09.2015 Мирный тихий океан\Мирный Тихий награждение\DSCN1575.JPG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F:\док-ты ДШИ\фото\2015-2016\9 25.09.2015 Мирный тихий океан\Мирный Тихий награждение\DSCN1589.JPG"/>
          <p:cNvPicPr/>
          <p:nvPr/>
        </p:nvPicPr>
        <p:blipFill>
          <a:blip r:embed="rId4"/>
          <a:stretch/>
        </p:blipFill>
        <p:spPr>
          <a:xfrm>
            <a:off x="6357960" y="3225960"/>
            <a:ext cx="2786040" cy="3632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F:\док-ты ДШИ\фото\2015-2016\9 25.09.2015 Мирный тихий океан\Мирный Тихий награждение\DSCN1592.JPG"/>
          <p:cNvPicPr/>
          <p:nvPr/>
        </p:nvPicPr>
        <p:blipFill>
          <a:blip r:embed="rId5"/>
          <a:stretch/>
        </p:blipFill>
        <p:spPr>
          <a:xfrm>
            <a:off x="0" y="3389400"/>
            <a:ext cx="27860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353880" y="36360"/>
            <a:ext cx="8399520" cy="176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G:\для ДК\Закрытие\Сахалинская мозаика\Сахалинская мозаика.jpeg"/>
          <p:cNvPicPr/>
          <p:nvPr/>
        </p:nvPicPr>
        <p:blipFill>
          <a:blip r:embed="rId2"/>
          <a:stretch/>
        </p:blipFill>
        <p:spPr>
          <a:xfrm>
            <a:off x="0" y="3700440"/>
            <a:ext cx="2357280" cy="315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G:\для ДК\Закрытие\Сахалинская мозаика\Ершков Сергей капитан Невельской.jpeg"/>
          <p:cNvPicPr/>
          <p:nvPr/>
        </p:nvPicPr>
        <p:blipFill>
          <a:blip r:embed="rId3"/>
          <a:stretch/>
        </p:blipFill>
        <p:spPr>
          <a:xfrm>
            <a:off x="6143760" y="2286000"/>
            <a:ext cx="2428920" cy="3583080"/>
          </a:xfrm>
          <a:prstGeom prst="rect">
            <a:avLst/>
          </a:prstGeom>
          <a:ln w="0">
            <a:noFill/>
          </a:ln>
        </p:spPr>
      </p:pic>
      <p:pic>
        <p:nvPicPr>
          <p:cNvPr id="72" name="Объект 3" descr="G:\для ДК\Закрытие\Сахалинская мозаика\Потапова Маргарита Сахалин-остров.jpeg"/>
          <p:cNvPicPr/>
          <p:nvPr/>
        </p:nvPicPr>
        <p:blipFill>
          <a:blip r:embed="rId4"/>
          <a:stretch/>
        </p:blipFill>
        <p:spPr>
          <a:xfrm>
            <a:off x="2857680" y="2286000"/>
            <a:ext cx="2746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11:46:13Z</dcterms:created>
  <dc:creator>User</dc:creator>
  <dc:description/>
  <dc:language>en-US</dc:language>
  <cp:lastModifiedBy>Фисенко Э Н</cp:lastModifiedBy>
  <dcterms:modified xsi:type="dcterms:W3CDTF">2017-10-08T10:57:37Z</dcterms:modified>
  <cp:revision>46</cp:revision>
  <dc:subject/>
  <dc:title>Название презентации</dc:title>
</cp:coreProperties>
</file>