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A84-09C9-4D5D-92C4-E9649CCB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7552-6C45-4EE1-870D-FC83181D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F749-6077-44C4-AD09-79774EC2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951-0B27-4C56-958A-FF0004E71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7A0-AA54-4D16-B183-0B179819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3F70-DEBE-4535-AC7A-FEB9025A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76F-DA3B-4B28-B9E0-8D64FCC0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DEA-26A6-40D5-BC12-41249369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EC7A-018B-40FE-BF1F-F12E488B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714-D6B8-447C-9DBE-6C44252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D33-0E68-4BFB-AF40-02A0A55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5B0-3692-4018-91EA-B7FB3FAE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DBD8-72D0-416C-ABC5-3476D7F53D8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56880" y="274320"/>
            <a:ext cx="682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йонный конкурс авторской и патриотической песни «Виктори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3"/>
          <p:cNvSpPr/>
          <p:nvPr/>
        </p:nvSpPr>
        <p:spPr>
          <a:xfrm>
            <a:off x="4500720" y="142884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 мес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:\для ДК\Закрытие\фото сайт\DSC00081.JPG"/>
          <p:cNvPicPr/>
          <p:nvPr/>
        </p:nvPicPr>
        <p:blipFill>
          <a:blip r:embed="rId2"/>
          <a:stretch/>
        </p:blipFill>
        <p:spPr>
          <a:xfrm>
            <a:off x="785880" y="1785960"/>
            <a:ext cx="77151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Содержимое 3" descr="Фоткии 0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Доклад для библиотеки\55352.jpg"/>
          <p:cNvPicPr/>
          <p:nvPr/>
        </p:nvPicPr>
        <p:blipFill>
          <a:blip r:embed="rId2"/>
          <a:stretch/>
        </p:blipFill>
        <p:spPr>
          <a:xfrm>
            <a:off x="0" y="4786200"/>
            <a:ext cx="2760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4"/>
          <p:cNvSpPr/>
          <p:nvPr/>
        </p:nvSpPr>
        <p:spPr>
          <a:xfrm>
            <a:off x="4936320" y="1143000"/>
            <a:ext cx="420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«Муха-цокотух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F:\док-ты ДШИ\фото\2010-2011\Муха-Цокотуха\Фоткии 019.jpg"/>
          <p:cNvPicPr/>
          <p:nvPr/>
        </p:nvPicPr>
        <p:blipFill>
          <a:blip r:embed="rId1"/>
          <a:stretch/>
        </p:blipFill>
        <p:spPr>
          <a:xfrm>
            <a:off x="3571920" y="2678040"/>
            <a:ext cx="5572080" cy="417996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3" descr="Фоткии 028.jpg"/>
          <p:cNvPicPr/>
          <p:nvPr/>
        </p:nvPicPr>
        <p:blipFill>
          <a:blip r:embed="rId2"/>
          <a:stretch/>
        </p:blipFill>
        <p:spPr>
          <a:xfrm>
            <a:off x="0" y="0"/>
            <a:ext cx="48578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H:\для ДК\Закрытие\фото сайт\DSC00100.JPG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840" y="64260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Муниципальный этап фестиваля конкурса самодеятельного художественного творчества «Салют, Победа!»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док-ты ДШИ\фото\2014-2015\16 - 13.05.2015смотр-конкурс по ВОВ\image (5).jpg"/>
          <p:cNvPicPr/>
          <p:nvPr/>
        </p:nvPicPr>
        <p:blipFill>
          <a:blip r:embed="rId1"/>
          <a:stretch/>
        </p:blipFill>
        <p:spPr>
          <a:xfrm>
            <a:off x="5715000" y="2500200"/>
            <a:ext cx="3029040" cy="3963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I:\док-ты ДШИ\фото\2014-2015\16 - 13.05.2015смотр-конкурс по ВОВ\image.jpg"/>
          <p:cNvPicPr/>
          <p:nvPr/>
        </p:nvPicPr>
        <p:blipFill>
          <a:blip r:embed="rId2"/>
          <a:stretch/>
        </p:blipFill>
        <p:spPr>
          <a:xfrm>
            <a:off x="428760" y="257184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док-ты ДШИ\фото\2014-2015\14- 03.03.2015 открытие года литературы\20150303_185121.jpg"/>
          <p:cNvPicPr/>
          <p:nvPr/>
        </p:nvPicPr>
        <p:blipFill>
          <a:blip r:embed="rId1"/>
          <a:stretch/>
        </p:blipFill>
        <p:spPr>
          <a:xfrm>
            <a:off x="800280" y="160020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F:\док-ты ДШИ\фото\2012-2013\огниво\DSC0066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Огнив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2357280" y="9288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F:\Доклад для библиотеки\огниво.jpg"/>
          <p:cNvPicPr/>
          <p:nvPr/>
        </p:nvPicPr>
        <p:blipFill>
          <a:blip r:embed="rId3"/>
          <a:stretch/>
        </p:blipFill>
        <p:spPr>
          <a:xfrm>
            <a:off x="0" y="4429080"/>
            <a:ext cx="16128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F:\док-ты ДШИ\фото\2010-2011\Филофей\подготовка к сказке выставка\Фото170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F:\Доклад для библиотеки\1005429852.jpg"/>
          <p:cNvPicPr/>
          <p:nvPr/>
        </p:nvPicPr>
        <p:blipFill>
          <a:blip r:embed="rId3"/>
          <a:stretch/>
        </p:blipFill>
        <p:spPr>
          <a:xfrm>
            <a:off x="0" y="3838680"/>
            <a:ext cx="2057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DSC0187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39240" y="0"/>
            <a:ext cx="922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da9c"/>
                </a:solidFill>
                <a:latin typeface="Times New Roman"/>
                <a:ea typeface="Times New Roman"/>
              </a:rPr>
              <a:t>«Брысь» или «История кота Филофея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док-ты ДШИ\фото\2010-2011\Филофей\DSC0186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Фото1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9T11:46:13Z</dcterms:created>
  <dc:creator>User</dc:creator>
  <dc:description/>
  <dc:language>en-US</dc:language>
  <cp:lastModifiedBy>Фисенко Э Н</cp:lastModifiedBy>
  <dcterms:modified xsi:type="dcterms:W3CDTF">2017-10-08T11:00:35Z</dcterms:modified>
  <cp:revision>49</cp:revision>
  <dc:subject/>
  <dc:title>Название презентации</dc:title>
</cp:coreProperties>
</file>