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871-BF64-40B7-A45C-6BA413EC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42C-2A40-4C1F-803A-45D99AEB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129-5B3F-4335-AB8D-3081055D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02F-98A1-498B-9AB2-2850FE9D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858-CD05-4C36-AFB9-19647440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9AC-5E7F-4984-A3D3-E33099CE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7D0-A19C-4713-93D1-A3865B3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FCE-FC67-49B1-8D09-C1FFBB1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423-7820-4C45-8527-8764D52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31C-9D8E-4A7D-8488-0067DEF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38A-2A30-4840-BC64-2CBCEA7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BA7-1154-4B9D-9ED4-FCC6EDB6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6AC-8489-4761-A856-FF468FEE79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йонный конкурс авторской и патриотической песни «Виктор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500720" y="14288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:\для ДК\Закрытие\фото сайт\DSC00081.JPG"/>
          <p:cNvPicPr/>
          <p:nvPr/>
        </p:nvPicPr>
        <p:blipFill>
          <a:blip r:embed="rId2"/>
          <a:stretch/>
        </p:blipFill>
        <p:spPr>
          <a:xfrm>
            <a:off x="785880" y="1785960"/>
            <a:ext cx="77151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Фоткии 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Доклад для библиотеки\55352.jpg"/>
          <p:cNvPicPr/>
          <p:nvPr/>
        </p:nvPicPr>
        <p:blipFill>
          <a:blip r:embed="rId2"/>
          <a:stretch/>
        </p:blipFill>
        <p:spPr>
          <a:xfrm>
            <a:off x="0" y="4786200"/>
            <a:ext cx="2760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4936320" y="1143000"/>
            <a:ext cx="42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F:\док-ты ДШИ\фото\2010-2011\Муха-Цокотуха\Фоткии 019.jpg"/>
          <p:cNvPicPr/>
          <p:nvPr/>
        </p:nvPicPr>
        <p:blipFill>
          <a:blip r:embed="rId1"/>
          <a:stretch/>
        </p:blipFill>
        <p:spPr>
          <a:xfrm>
            <a:off x="3571920" y="267804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Фоткии 028.jpg"/>
          <p:cNvPicPr/>
          <p:nvPr/>
        </p:nvPicPr>
        <p:blipFill>
          <a:blip r:embed="rId2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для ДК\Закрытие\фото сайт\DSC00100.JPG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64260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униципальный этап фестиваля конкурса самодеятельного художественного творчества «Салют, Победа!»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док-ты ДШИ\фото\2014-2015\16 - 13.05.2015смотр-конкурс по ВОВ\image (5).jpg"/>
          <p:cNvPicPr/>
          <p:nvPr/>
        </p:nvPicPr>
        <p:blipFill>
          <a:blip r:embed="rId1"/>
          <a:stretch/>
        </p:blipFill>
        <p:spPr>
          <a:xfrm>
            <a:off x="5715000" y="2500200"/>
            <a:ext cx="3029040" cy="3963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:\док-ты ДШИ\фото\2014-2015\16 - 13.05.2015смотр-конкурс по ВОВ\image.jpg"/>
          <p:cNvPicPr/>
          <p:nvPr/>
        </p:nvPicPr>
        <p:blipFill>
          <a:blip r:embed="rId2"/>
          <a:stretch/>
        </p:blipFill>
        <p:spPr>
          <a:xfrm>
            <a:off x="428760" y="257184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док-ты ДШИ\фото\2014-2015\14- 03.03.2015 открытие года литературы\20150303_185121.jpg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F:\док-ты ДШИ\фото\2012-2013\огниво\DSC006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Огни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57280" y="9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Доклад для библиотеки\огниво.jpg"/>
          <p:cNvPicPr/>
          <p:nvPr/>
        </p:nvPicPr>
        <p:blipFill>
          <a:blip r:embed="rId3"/>
          <a:stretch/>
        </p:blipFill>
        <p:spPr>
          <a:xfrm>
            <a:off x="0" y="4429080"/>
            <a:ext cx="1612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док-ты ДШИ\фото\2010-2011\Филофей\подготовка к сказке выставка\Фото17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Доклад для библиотеки\1005429852.jpg"/>
          <p:cNvPicPr/>
          <p:nvPr/>
        </p:nvPicPr>
        <p:blipFill>
          <a:blip r:embed="rId3"/>
          <a:stretch/>
        </p:blipFill>
        <p:spPr>
          <a:xfrm>
            <a:off x="0" y="3838680"/>
            <a:ext cx="2057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DSC018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9240" y="0"/>
            <a:ext cx="92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da9c"/>
                </a:solidFill>
                <a:latin typeface="Times New Roman"/>
                <a:ea typeface="Times New Roman"/>
              </a:rPr>
              <a:t>«Брысь» или «История кота Филофе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док-ты ДШИ\фото\2010-2011\Филофей\DSC0186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Фото1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1:00:35Z</dcterms:modified>
  <cp:revision>49</cp:revision>
  <dc:subject/>
  <dc:title>Название презентации</dc:title>
</cp:coreProperties>
</file>