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04B1-84F0-4752-8E9D-95B39142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0E1E-EB3E-4EBB-8D85-0D733B37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2FF8-4FA0-45E7-A0C8-A7B67322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B2BD-8097-41A4-8F19-EDFADC89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0FF4-B10C-499F-A6BC-575F3533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AE4C-2B06-4107-A194-87766258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E389-0847-4875-88CB-73CE923A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83C6-B0D7-4058-A30A-00D655A0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A663-7AE2-4D3E-B9A4-4FB9477C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1497-A11A-4FB2-8F33-8371830B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6956-CF46-4528-BB7A-B08BA3AF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78E7-BF92-459B-B2E1-7E063A44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B7FD-19EE-4EDB-B7E4-A811BBEA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90FB-171C-4176-9636-39D0B384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515C-BB93-490B-9DF9-78EC1F81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6A67-087F-4CCD-9234-DF27D5A0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F98F-1D20-47F0-96D7-B010B331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B40A-0A2F-4D16-904A-38F05DB1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6A97-6FE0-4FDF-A0F0-7F5DB9A7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0D18-A801-4CC0-9F8E-9F6BEFFD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B7A3-B680-4A84-AE0E-F38199B4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6B73-828F-48D4-AC2C-89B8EDAC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8DC3-E30B-4437-8FD6-1CAB549A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CBF9-AAAD-4D86-A23F-8F7723C0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6c6c6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47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707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767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767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AB06-10EF-4052-BB53-D6F15C4558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72727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47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707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1E02-FF50-4CB9-983A-35EAAFD55D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сследование процесса диффуз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95280" y="227628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 учащихся  7-Б клас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обринская Елена, Воронин Констант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шева Елизавета, Дрозд  Валер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линовая Элина, Саенко Екатерина, Тимохина Ольга, Яцун Оль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физик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стова Е. 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 чего зависит скорость диффуз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ление факторов, которые  влияют на скорость диффузии в газ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едполож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скорость диффузии зависит от продолжительности процесса и размеров отверстия, через которое могут проникать молекул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Время диффузии 60 секун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457200" y="1600200"/>
          <a:ext cx="8229600" cy="430848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ый 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 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  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  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   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  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  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  5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ый 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  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   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  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 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  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  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  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Время диффузии 60 секун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ый 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  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  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1   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  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  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  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  5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ый 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  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   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1   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 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  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 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  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Время диффузии 120 секун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ый 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 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   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   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  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  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  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  5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ый 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  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  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4   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   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  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 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  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Время диффузии 180 секун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ый 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  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  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2  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  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  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   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  4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ый 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  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   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   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  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  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  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висимость времени диффузии от ширины отверс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68360" y="2708280"/>
          <a:ext cx="8229600" cy="2592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 отверс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с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ем больше ширина промежутка между сосудами, тем быстрее происходит дуффузия газ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8:29:58Z</dcterms:created>
  <dc:creator>XP-User</dc:creator>
  <dc:description/>
  <dc:language>en-US</dc:language>
  <cp:lastModifiedBy>XP-User</cp:lastModifiedBy>
  <dcterms:modified xsi:type="dcterms:W3CDTF">2010-11-14T21:03:16Z</dcterms:modified>
  <cp:revision>8</cp:revision>
  <dc:subject/>
  <dc:title>Исследование процесса диффузии</dc:title>
</cp:coreProperties>
</file>