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61EF-1B69-4342-89CF-6420A93D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5A49-BD55-4B48-BBE3-52CCAF23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13ED1-738D-4B7D-A118-781ABF84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E877-8566-4275-B0FF-550743BD1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1DB9-8D08-4516-92D8-EFBF595EC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9B13-10ED-4111-AE07-DD64AFA2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31A4-CBA4-4E39-ABA1-37DFE0FE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656A-06DE-4A51-8D72-BC8BDE73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A6FA-2954-4198-95EB-275DB412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D13F-E686-4285-8934-5BDC107C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2CF47-1BB7-473B-A177-C2766B9A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B53A-F3C8-4A9C-A3A6-CDBF4F04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0B7E-5D36-4798-B3E3-53830291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FCC2-1995-4C40-BEDA-78421C5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078D-E8D2-43AC-B987-800C2E87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C868-740F-459A-980B-8C4F6F88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1B14-C9C3-44E5-86CB-05D75193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452F-EC1E-4C89-97AD-E3A3E8EC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46261-63DF-4BA2-BD2F-5CB6BBAF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9FC2-B5C4-4800-B895-75EAE5655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BE3D8-F6C8-44BE-9329-944F09DC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C437C-19F2-41A1-90B5-BAD310FE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4152-7F7F-4BE3-B692-07323FD2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263A-82E1-4F91-875F-E3415245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6c6c6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767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616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46464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FABD-A3C1-4F2D-84D8-F0D43378AC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72727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d5d5d5"/>
                </a:gs>
                <a:gs pos="100000">
                  <a:srgbClr val="eaeae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c6c6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7070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5959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e8e8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f7f7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9c9c9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ecec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c6c6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8b8b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2727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7878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ababa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7878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a3a3a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b1b1b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d5d5d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5c5c5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339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E552-5E3C-4C2E-B728-9924B2C4B8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Исследование процесса диффуз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95280" y="227628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 учащихся  7-Б клас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обринская Елена, Воронин Константин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Гошева Елизавета, Дрозд  Валер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линовая Элина, Саенко Екатерина, Тимохина Ольга, Яцун Оль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водит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ель физики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стова Е. 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т чего зависит скорость диффузи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 исследования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явление факторов, которые  влияют на скорость диффузии в газ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редположе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: скорость диффузии зависит от продолжительности процесса и размеров отверстия, через которое могут проникать молекулы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 Время диффузии 60 секун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457200" y="1600200"/>
          <a:ext cx="8229600" cy="430848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 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  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   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  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 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  5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  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   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 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8  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  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. Время диффузии 60 секунд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  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   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1   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  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  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  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  5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  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    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1   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  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   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. Время диффузии 120 сек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  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  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  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   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  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  5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  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  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4   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  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  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. Время диффузии 180 секун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57200" y="1600200"/>
          <a:ext cx="8229600" cy="453384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 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  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2  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   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  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   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  4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ый сосу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   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   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   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   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  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 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   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висимость времени диффузии от ширины отверс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68360" y="2708280"/>
          <a:ext cx="8229600" cy="259236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ирина отверст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м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с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чем больше ширина промежутка между сосудами, тем быстрее происходит дуффузия газ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8:29:58Z</dcterms:created>
  <dc:creator>XP-User</dc:creator>
  <dc:description/>
  <dc:language>en-US</dc:language>
  <cp:lastModifiedBy>XP-User</cp:lastModifiedBy>
  <dcterms:modified xsi:type="dcterms:W3CDTF">2010-11-14T21:03:16Z</dcterms:modified>
  <cp:revision>8</cp:revision>
  <dc:subject/>
  <dc:title>Исследование процесса диффузии</dc:title>
</cp:coreProperties>
</file>