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wmf" ContentType="image/x-wmf"/>
  <Override PartName="/ppt/media/image22.png" ContentType="image/png"/>
  <Override PartName="/ppt/media/image26.jpeg" ContentType="image/jpeg"/>
  <Override PartName="/ppt/media/image16.wmf" ContentType="image/x-wmf"/>
  <Override PartName="/ppt/media/image8.png" ContentType="image/png"/>
  <Override PartName="/ppt/media/image3.png" ContentType="image/png"/>
  <Override PartName="/ppt/media/image11.wmf" ContentType="image/x-wmf"/>
  <Override PartName="/ppt/media/image14.jpeg" ContentType="image/jpeg"/>
  <Override PartName="/ppt/media/image15.wmf" ContentType="image/x-wmf"/>
  <Override PartName="/ppt/media/image7.png" ContentType="image/png"/>
  <Override PartName="/ppt/media/image34.jpeg" ContentType="image/jpeg"/>
  <Override PartName="/ppt/media/image12.png" ContentType="image/png"/>
  <Override PartName="/ppt/media/image9.wmf" ContentType="image/x-wmf"/>
  <Override PartName="/ppt/media/image23.png" ContentType="image/png"/>
  <Override PartName="/ppt/media/image1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6.png" ContentType="image/png"/>
  <Override PartName="/ppt/media/image29.png" ContentType="image/png"/>
  <Override PartName="/ppt/media/image1.jpeg" ContentType="image/jpeg"/>
  <Override PartName="/ppt/media/image10.png" ContentType="image/png"/>
  <Override PartName="/ppt/media/image17.wmf" ContentType="image/x-wmf"/>
  <Override PartName="/ppt/media/image19.wmf" ContentType="image/x-wmf"/>
  <Override PartName="/ppt/media/image18.png" ContentType="image/png"/>
  <Override PartName="/ppt/media/image21.wmf" ContentType="image/x-wmf"/>
  <Override PartName="/ppt/media/image32.jpeg" ContentType="image/jpeg"/>
  <Override PartName="/ppt/media/image20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17EA-731C-47CE-860D-CCFA43C836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CCA0-062F-47E2-9226-0FCC7F5774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5ACC-FC53-4F9C-BB21-E644AD3AC0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B128-E514-43C8-BC24-085BC6D699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D0C3-47E1-4C6D-966A-55F273BD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E235-7A3E-407C-B9FA-CCD4CE9F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A4D3-F12B-4D4E-854D-473A811B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5754-EFCA-4C40-AE4F-212336D3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C2A3-C90E-42ED-B3F4-2678441B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F464-1E9A-43E6-9294-C2543063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CC37-6FEF-410C-A789-3581D9A5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A149-75BE-4F84-9267-9D0D7F4E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AB7F-D0B6-4EDA-BAC8-4C19D53E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DA79-E285-4090-A64B-C62424C0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0869-29DD-472C-BA15-1B87AF40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21D2-E023-472F-8B17-796AA471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2F4D-A831-4B91-A830-7C6BD650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348D-7804-4F9B-BE94-1A4A41CC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0872-0375-490B-B5E6-BB26A576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9E97-0878-4254-97C4-8B68851E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35FE-971C-445F-978A-46B75CEA3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59D64-8E31-44A9-A268-88A8A2B4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676F0-7727-4FBC-A659-9B0FBA64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4BCFF-6C30-4374-8D5B-D0281270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7E19A-9DB0-4448-88FA-8628945C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A5713-4765-4173-ABB0-17C38D3F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37FC-30B4-4C8C-937F-7650FEF5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C9A75-461A-40BF-A314-2F0DAF6A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55FA4-8B41-4A40-B6B8-2FCAA732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0FB37-D442-4422-8498-7C314BA9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5473D-AC8E-453F-AAEB-830EEA43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CCD72-6180-430D-A705-6AB17FBA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8E58B-AA0D-49A9-BC00-44DB870E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B22DD-6DDF-41D4-A196-3688B6BB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90958-5966-4949-A504-912212C0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D6CBC-4761-4816-9D14-64D8581C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EE2EB-A8A5-4E4F-932A-849E93EE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1704-F7D4-4BC6-A561-99F550DB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8118A-31ED-4F44-81D9-D9049C6A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12365-928B-453A-AB92-8EAB7453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12B33-0D79-4BFC-8879-3C8B4C15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5007C-FD70-4645-8803-FFC5A991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72CF7-5258-4165-91F0-D403B843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24A5D-501F-49A3-811E-F9F70493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5CE71-4E41-4B62-A7BD-8AAE6003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0C90B-D128-4976-96DA-E5903DD0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487E5-7430-4C4D-89E4-A73E585F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C328-D5E2-46E9-8DF0-C9444A1F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A0CD-CA48-4313-98A9-7F2C8616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21BE-1E16-4CF3-AEE7-0C646C28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A00C-529C-4EBA-9EF8-1C346309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E501-34A6-4991-9E64-BC4E1A1C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A&amp;J Frombe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784C-86F4-4D1F-BFC3-DE9262B1071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6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A&amp;J Frombe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5D74-0C74-4551-88B3-052CAB687C0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6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A&amp;J Frombe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260B-E00E-492E-9F89-7F069DA9BE1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A&amp;J Frombe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3004-BED2-4F34-81B6-9EEEC3FAC8E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-334800" y="646200"/>
            <a:ext cx="9972360" cy="30607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1"/>
          <p:cNvSpPr/>
          <p:nvPr/>
        </p:nvSpPr>
        <p:spPr>
          <a:xfrm>
            <a:off x="3214800" y="6215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50920" y="4071960"/>
            <a:ext cx="860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По экономической и социальной географии Мира в 10 классе.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2" descr=""/>
          <p:cNvPicPr/>
          <p:nvPr/>
        </p:nvPicPr>
        <p:blipFill>
          <a:blip r:embed="rId1"/>
          <a:stretch/>
        </p:blipFill>
        <p:spPr>
          <a:xfrm>
            <a:off x="244440" y="201600"/>
            <a:ext cx="8955000" cy="11635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324000" y="154944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0" y="17017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Распределение  воды  в  гидросфере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2" name="Object 6"/>
          <p:cNvGraphicFramePr/>
          <p:nvPr/>
        </p:nvGraphicFramePr>
        <p:xfrm>
          <a:off x="324000" y="2349360"/>
          <a:ext cx="8512200" cy="33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349360"/>
                    <a:ext cx="8512200" cy="33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Text Box 7"/>
          <p:cNvSpPr/>
          <p:nvPr/>
        </p:nvSpPr>
        <p:spPr>
          <a:xfrm>
            <a:off x="395280" y="5950080"/>
            <a:ext cx="75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На пресные воды приходится около 2,5 % общего объёма гидросфе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дные  ресурсы  ми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1268280"/>
            <a:ext cx="48243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аспределение  водных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есурсов  по  регионам  мира  (тыс. км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859280" y="1341000"/>
            <a:ext cx="40384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Крупнейшие страны мира  по  запаса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есной воды  (тыс. км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8" name="Object 7"/>
          <p:cNvGraphicFramePr/>
          <p:nvPr/>
        </p:nvGraphicFramePr>
        <p:xfrm>
          <a:off x="0" y="2349360"/>
          <a:ext cx="4572000" cy="37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49360"/>
                    <a:ext cx="4572000" cy="37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8"/>
          <p:cNvGraphicFramePr/>
          <p:nvPr/>
        </p:nvGraphicFramePr>
        <p:xfrm>
          <a:off x="4788000" y="2421000"/>
          <a:ext cx="4356000" cy="370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2421000"/>
                    <a:ext cx="435600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1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2" descr=""/>
          <p:cNvPicPr/>
          <p:nvPr/>
        </p:nvPicPr>
        <p:blipFill>
          <a:blip r:embed="rId1"/>
          <a:stretch/>
        </p:blipFill>
        <p:spPr>
          <a:xfrm>
            <a:off x="639720" y="-128520"/>
            <a:ext cx="8955000" cy="115884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3"/>
          <p:cNvSpPr/>
          <p:nvPr/>
        </p:nvSpPr>
        <p:spPr>
          <a:xfrm>
            <a:off x="324000" y="154944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46360" y="1052640"/>
            <a:ext cx="74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упнейшие  водохранилища  ми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3471840" y="2579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39640" y="1839960"/>
          <a:ext cx="8280360" cy="4541760"/>
        </p:xfrm>
        <a:graphic>
          <a:graphicData uri="http://schemas.openxmlformats.org/drawingml/2006/table">
            <a:tbl>
              <a:tblPr/>
              <a:tblGrid>
                <a:gridCol w="1000080"/>
                <a:gridCol w="2455920"/>
                <a:gridCol w="2754360"/>
                <a:gridCol w="207000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звание  водохранилищ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р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ъём  в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 км</a:t>
                      </a:r>
                      <a:r>
                        <a:rPr b="0" i="1" lang="ru-RU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)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кт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ения,  Танзания, Уган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рат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9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ри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мбия,  Зимбаб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с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гип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7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ль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дные  ресурсы  ми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547280" y="1484280"/>
            <a:ext cx="6347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блемы  использовани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6084720" y="249228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гряз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043280" y="249228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ст  потреб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926720" y="3284640"/>
            <a:ext cx="52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рациональное  использ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2548800" y="508464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ение проблем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469080" y="5761080"/>
            <a:ext cx="842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уменьшение  водоёмкости  производственных  процессов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ооружение  водохранилищ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преснение  морской  воды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141640" y="4292640"/>
            <a:ext cx="505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66"/>
                </a:solidFill>
                <a:latin typeface="Verdana"/>
              </a:rPr>
              <a:t>Дефицит пресной  вод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AutoShape 17"/>
          <p:cNvSpPr/>
          <p:nvPr/>
        </p:nvSpPr>
        <p:spPr>
          <a:xfrm>
            <a:off x="250920" y="2492280"/>
            <a:ext cx="647640" cy="2448000"/>
          </a:xfrm>
          <a:custGeom>
            <a:avLst/>
            <a:gdLst>
              <a:gd name="textAreaLeft" fmla="*/ 86760 w 647640"/>
              <a:gd name="textAreaRight" fmla="*/ 560880 w 647640"/>
              <a:gd name="textAreaTop" fmla="*/ 428040 h 2448000"/>
              <a:gd name="textAreaBottom" fmla="*/ 177516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9" stAng="-5400000" swAng="-5400000"/>
                <a:lnTo>
                  <a:pt x="0" y="11885"/>
                </a:lnTo>
                <a:arcTo wR="21600" hR="7559" stAng="10800000" swAng="-2682296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5"/>
                </a:lnTo>
                <a:arcTo wR="21600" hR="7559" stAng="8117704" swAng="2324319"/>
                <a:lnTo>
                  <a:pt x="903" y="9721"/>
                </a:lnTo>
                <a:arcTo wR="21600" hR="7559" stAng="-10442022" swAng="5042022"/>
                <a:close/>
              </a:path>
              <a:path fill="darkenLess" w="21600" h="21600">
                <a:moveTo>
                  <a:pt x="21600" y="0"/>
                </a:moveTo>
                <a:arcTo wR="21600" hR="7559" stAng="-5400000" swAng="-5400000"/>
                <a:lnTo>
                  <a:pt x="0" y="7559"/>
                </a:lnTo>
                <a:arcTo wR="21600" hR="7559" stAng="10800000" swAng="-357978"/>
                <a:lnTo>
                  <a:pt x="903" y="9721"/>
                </a:lnTo>
                <a:arcTo wR="21600" hR="7559" stAng="-10442022" swAng="5042022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AutoShape 18"/>
          <p:cNvSpPr/>
          <p:nvPr/>
        </p:nvSpPr>
        <p:spPr>
          <a:xfrm>
            <a:off x="8244000" y="2637000"/>
            <a:ext cx="647640" cy="2304720"/>
          </a:xfrm>
          <a:custGeom>
            <a:avLst/>
            <a:gdLst>
              <a:gd name="textAreaLeft" fmla="*/ 86760 w 647640"/>
              <a:gd name="textAreaRight" fmla="*/ 560880 w 647640"/>
              <a:gd name="textAreaTop" fmla="*/ 408600 h 2304720"/>
              <a:gd name="textAreaBottom" fmla="*/ 1643760 h 23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62" stAng="-5400000" swAng="5400000"/>
                <a:lnTo>
                  <a:pt x="21600" y="11574"/>
                </a:lnTo>
                <a:arcTo wR="21600" hR="7662" stAng="0" swAng="2705673"/>
                <a:lnTo>
                  <a:pt x="7200" y="21162"/>
                </a:lnTo>
                <a:lnTo>
                  <a:pt x="0" y="17280"/>
                </a:lnTo>
                <a:lnTo>
                  <a:pt x="7200" y="12522"/>
                </a:lnTo>
                <a:lnTo>
                  <a:pt x="7200" y="14886"/>
                </a:lnTo>
                <a:arcTo wR="21600" hR="7662" stAng="2705673" swAng="-2384634"/>
                <a:lnTo>
                  <a:pt x="20884" y="9618"/>
                </a:lnTo>
                <a:arcTo wR="21600" hR="7662" stAng="-321039" swAng="-5078961"/>
                <a:close/>
              </a:path>
              <a:path fill="darkenLess" w="21600" h="21600">
                <a:moveTo>
                  <a:pt x="0" y="0"/>
                </a:moveTo>
                <a:arcTo wR="21600" hR="7662" stAng="-5400000" swAng="5400000"/>
                <a:lnTo>
                  <a:pt x="21600" y="11574"/>
                </a:lnTo>
                <a:arcTo wR="21600" hR="7662" stAng="0" swAng="-321039"/>
                <a:lnTo>
                  <a:pt x="20884" y="9618"/>
                </a:lnTo>
                <a:arcTo wR="21600" hR="7662" stAng="-321039" swAng="-5078961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AutoShape 19"/>
          <p:cNvSpPr/>
          <p:nvPr/>
        </p:nvSpPr>
        <p:spPr>
          <a:xfrm>
            <a:off x="3851280" y="3716280"/>
            <a:ext cx="93672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244440" y="396720"/>
            <a:ext cx="8813880" cy="102420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324000" y="154944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20" name="Object 6"/>
          <p:cNvGraphicFramePr/>
          <p:nvPr/>
        </p:nvGraphicFramePr>
        <p:xfrm>
          <a:off x="900000" y="2205000"/>
          <a:ext cx="7380360" cy="437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205000"/>
                    <a:ext cx="738036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Text Box 7"/>
          <p:cNvSpPr/>
          <p:nvPr/>
        </p:nvSpPr>
        <p:spPr>
          <a:xfrm>
            <a:off x="395280" y="2133720"/>
            <a:ext cx="820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Гидроэнергопотенциал  регионов  мира  ( % 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468360" y="1341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2d700"/>
                </a:solidFill>
                <a:latin typeface="Verdana"/>
              </a:rPr>
              <a:t>Гидроэнергоресурсы – это  ресурсы  воды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2d700"/>
                </a:solidFill>
                <a:latin typeface="Verdana"/>
              </a:rPr>
              <a:t>пригодные  для  получения  электроэнерг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881920" cy="103032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3"/>
          <p:cNvSpPr/>
          <p:nvPr/>
        </p:nvSpPr>
        <p:spPr>
          <a:xfrm>
            <a:off x="324000" y="154944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15840" y="646128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250920" y="981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Геотермальные  ресурсы – это  внутренняя  энерг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Земл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Picture 9" descr="geoterm"/>
          <p:cNvPicPr/>
          <p:nvPr/>
        </p:nvPicPr>
        <p:blipFill>
          <a:blip r:embed="rId2"/>
          <a:stretch/>
        </p:blipFill>
        <p:spPr>
          <a:xfrm>
            <a:off x="539640" y="1916280"/>
            <a:ext cx="8334360" cy="44575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8"/>
          <p:cNvSpPr/>
          <p:nvPr/>
        </p:nvSpPr>
        <p:spPr>
          <a:xfrm>
            <a:off x="3615120" y="5229360"/>
            <a:ext cx="38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Тихоокеанское огненное кольц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7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7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8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6" descr="zony"/>
          <p:cNvPicPr/>
          <p:nvPr/>
        </p:nvPicPr>
        <p:blipFill>
          <a:blip r:embed="rId1"/>
          <a:stretch/>
        </p:blipFill>
        <p:spPr>
          <a:xfrm>
            <a:off x="2933640" y="2565360"/>
            <a:ext cx="6210360" cy="3095640"/>
          </a:xfrm>
          <a:prstGeom prst="rect">
            <a:avLst/>
          </a:prstGeom>
          <a:ln w="0">
            <a:noFill/>
          </a:ln>
        </p:spPr>
      </p:pic>
      <p:pic>
        <p:nvPicPr>
          <p:cNvPr id="331" name="Rectangle 2" descr=""/>
          <p:cNvPicPr/>
          <p:nvPr/>
        </p:nvPicPr>
        <p:blipFill>
          <a:blip r:embed="rId2"/>
          <a:stretch/>
        </p:blipFill>
        <p:spPr>
          <a:xfrm>
            <a:off x="317520" y="-6480"/>
            <a:ext cx="8832960" cy="1024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3"/>
          <p:cNvSpPr/>
          <p:nvPr/>
        </p:nvSpPr>
        <p:spPr>
          <a:xfrm>
            <a:off x="324000" y="112536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1402200" y="1125360"/>
            <a:ext cx="618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лавный  показатель – сумма  активных  температу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0" y="162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bf5f9"/>
                </a:solidFill>
                <a:latin typeface="Verdana"/>
              </a:rPr>
              <a:t>Сумма  активных  температур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– сумма  среднесуточных  температур  выше  + 10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Verdana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С  в  течение  год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0" y="263700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Закон  географической  зональност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м  ближе  к  экватору –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  …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м  ближе  к  полюсам – тем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ывод:  наилучшими  агроклиматическими  ресурсами  обладают  страны  жаркого  теплового  пояса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5366520" y="393372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Verdana"/>
              </a:rPr>
              <a:t>Жаркий поя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5249520" y="314172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Verdana"/>
              </a:rPr>
              <a:t>Умеренный поя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5320800" y="465300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Verdana"/>
              </a:rPr>
              <a:t>Умеренный поя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5241240" y="249228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Verdana"/>
              </a:rPr>
              <a:t>Холодный поя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5168160" y="530064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Verdana"/>
              </a:rPr>
              <a:t>Холодный поя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317520" y="-36360"/>
            <a:ext cx="8918640" cy="106020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3"/>
          <p:cNvSpPr/>
          <p:nvPr/>
        </p:nvSpPr>
        <p:spPr>
          <a:xfrm>
            <a:off x="324000" y="1549440"/>
            <a:ext cx="511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654120" y="1125360"/>
            <a:ext cx="3957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сурсы  Мирового  океан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250920" y="2133720"/>
            <a:ext cx="13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рская  в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1773360" y="2133720"/>
            <a:ext cx="19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инераль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сурс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4041720" y="2133720"/>
            <a:ext cx="22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нергетическ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6627960" y="213372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иологическ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6046920" y="1125360"/>
            <a:ext cx="239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креационны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840600" y="33577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27720" y="386064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створённы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ещест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16"/>
          <p:cNvSpPr/>
          <p:nvPr/>
        </p:nvSpPr>
        <p:spPr>
          <a:xfrm>
            <a:off x="3980520" y="299736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нергия  прилив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7"/>
          <p:cNvSpPr/>
          <p:nvPr/>
        </p:nvSpPr>
        <p:spPr>
          <a:xfrm>
            <a:off x="4262400" y="371628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нергия  вол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Text Box 18"/>
          <p:cNvSpPr/>
          <p:nvPr/>
        </p:nvSpPr>
        <p:spPr>
          <a:xfrm>
            <a:off x="4119120" y="450864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нергия  теч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Text Box 19"/>
          <p:cNvSpPr/>
          <p:nvPr/>
        </p:nvSpPr>
        <p:spPr>
          <a:xfrm>
            <a:off x="4239720" y="5157720"/>
            <a:ext cx="201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нерг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мпературног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радиен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20"/>
          <p:cNvSpPr/>
          <p:nvPr/>
        </p:nvSpPr>
        <p:spPr>
          <a:xfrm>
            <a:off x="7103160" y="314172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ыбны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21"/>
          <p:cNvSpPr/>
          <p:nvPr/>
        </p:nvSpPr>
        <p:spPr>
          <a:xfrm>
            <a:off x="6688440" y="4005360"/>
            <a:ext cx="24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рские  животны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22"/>
          <p:cNvSpPr/>
          <p:nvPr/>
        </p:nvSpPr>
        <p:spPr>
          <a:xfrm>
            <a:off x="6904800" y="4941720"/>
            <a:ext cx="17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стительны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сурс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Text Box 23"/>
          <p:cNvSpPr/>
          <p:nvPr/>
        </p:nvSpPr>
        <p:spPr>
          <a:xfrm>
            <a:off x="-4320" y="4724280"/>
            <a:ext cx="5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24"/>
          <p:cNvSpPr/>
          <p:nvPr/>
        </p:nvSpPr>
        <p:spPr>
          <a:xfrm>
            <a:off x="1270080" y="486900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Text Box 25"/>
          <p:cNvSpPr/>
          <p:nvPr/>
        </p:nvSpPr>
        <p:spPr>
          <a:xfrm>
            <a:off x="906840" y="5950080"/>
            <a:ext cx="4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26"/>
          <p:cNvSpPr/>
          <p:nvPr/>
        </p:nvSpPr>
        <p:spPr>
          <a:xfrm>
            <a:off x="338400" y="5373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C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27"/>
          <p:cNvSpPr/>
          <p:nvPr/>
        </p:nvSpPr>
        <p:spPr>
          <a:xfrm>
            <a:off x="3288240" y="357336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28"/>
          <p:cNvSpPr/>
          <p:nvPr/>
        </p:nvSpPr>
        <p:spPr>
          <a:xfrm>
            <a:off x="3199320" y="4076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29"/>
          <p:cNvSpPr/>
          <p:nvPr/>
        </p:nvSpPr>
        <p:spPr>
          <a:xfrm>
            <a:off x="3287880" y="515772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30"/>
          <p:cNvSpPr/>
          <p:nvPr/>
        </p:nvSpPr>
        <p:spPr>
          <a:xfrm>
            <a:off x="1922040" y="55897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лмаз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31"/>
          <p:cNvSpPr/>
          <p:nvPr/>
        </p:nvSpPr>
        <p:spPr>
          <a:xfrm>
            <a:off x="1925640" y="35733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ф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Text Box 32"/>
          <p:cNvSpPr/>
          <p:nvPr/>
        </p:nvSpPr>
        <p:spPr>
          <a:xfrm>
            <a:off x="2209680" y="422100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а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Text Box 33"/>
          <p:cNvSpPr/>
          <p:nvPr/>
        </p:nvSpPr>
        <p:spPr>
          <a:xfrm>
            <a:off x="2139840" y="494172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3211200" y="465300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089080" y="60930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сфорит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AutoShape 37"/>
          <p:cNvSpPr/>
          <p:nvPr/>
        </p:nvSpPr>
        <p:spPr>
          <a:xfrm>
            <a:off x="826920" y="1628640"/>
            <a:ext cx="144720" cy="505080"/>
          </a:xfrm>
          <a:prstGeom prst="downArrow">
            <a:avLst>
              <a:gd name="adj1" fmla="val 50000"/>
              <a:gd name="adj2" fmla="val 87251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AutoShape 38"/>
          <p:cNvSpPr/>
          <p:nvPr/>
        </p:nvSpPr>
        <p:spPr>
          <a:xfrm>
            <a:off x="2627280" y="155736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AutoShape 39"/>
          <p:cNvSpPr/>
          <p:nvPr/>
        </p:nvSpPr>
        <p:spPr>
          <a:xfrm>
            <a:off x="4427640" y="1628640"/>
            <a:ext cx="144360" cy="505080"/>
          </a:xfrm>
          <a:prstGeom prst="downArrow">
            <a:avLst>
              <a:gd name="adj1" fmla="val 50000"/>
              <a:gd name="adj2" fmla="val 87469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40"/>
          <p:cNvSpPr/>
          <p:nvPr/>
        </p:nvSpPr>
        <p:spPr>
          <a:xfrm rot="17460000">
            <a:off x="5796720" y="1053000"/>
            <a:ext cx="142920" cy="1582920"/>
          </a:xfrm>
          <a:prstGeom prst="downArrow">
            <a:avLst>
              <a:gd name="adj1" fmla="val 50000"/>
              <a:gd name="adj2" fmla="val 276889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AutoShape 41"/>
          <p:cNvSpPr/>
          <p:nvPr/>
        </p:nvSpPr>
        <p:spPr>
          <a:xfrm>
            <a:off x="1042920" y="2852640"/>
            <a:ext cx="144360" cy="505080"/>
          </a:xfrm>
          <a:prstGeom prst="downArrow">
            <a:avLst>
              <a:gd name="adj1" fmla="val 50000"/>
              <a:gd name="adj2" fmla="val 87469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42"/>
          <p:cNvSpPr/>
          <p:nvPr/>
        </p:nvSpPr>
        <p:spPr>
          <a:xfrm rot="16200000">
            <a:off x="5364000" y="728280"/>
            <a:ext cx="108000" cy="1187640"/>
          </a:xfrm>
          <a:prstGeom prst="downArrow">
            <a:avLst>
              <a:gd name="adj1" fmla="val 50000"/>
              <a:gd name="adj2" fmla="val 27491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44"/>
          <p:cNvSpPr/>
          <p:nvPr/>
        </p:nvSpPr>
        <p:spPr>
          <a:xfrm>
            <a:off x="395280" y="2565360"/>
            <a:ext cx="144360" cy="1297080"/>
          </a:xfrm>
          <a:prstGeom prst="downArrow">
            <a:avLst>
              <a:gd name="adj1" fmla="val 50000"/>
              <a:gd name="adj2" fmla="val 224626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Line 46"/>
          <p:cNvSpPr/>
          <p:nvPr/>
        </p:nvSpPr>
        <p:spPr>
          <a:xfrm>
            <a:off x="1835280" y="2133720"/>
            <a:ext cx="0" cy="431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Line 47"/>
          <p:cNvSpPr/>
          <p:nvPr/>
        </p:nvSpPr>
        <p:spPr>
          <a:xfrm>
            <a:off x="3851280" y="2133720"/>
            <a:ext cx="0" cy="431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Line 48"/>
          <p:cNvSpPr/>
          <p:nvPr/>
        </p:nvSpPr>
        <p:spPr>
          <a:xfrm>
            <a:off x="6516720" y="2205000"/>
            <a:ext cx="0" cy="431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244440" y="-6480"/>
            <a:ext cx="8880480" cy="103032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3"/>
          <p:cNvSpPr/>
          <p:nvPr/>
        </p:nvSpPr>
        <p:spPr>
          <a:xfrm>
            <a:off x="0" y="134136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2268360" y="1413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1042920" y="2349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4500720" y="23493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553320" y="35733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рск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1991520" y="450864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рны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3168720" y="357336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ндшафтны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Text Box 30"/>
          <p:cNvSpPr/>
          <p:nvPr/>
        </p:nvSpPr>
        <p:spPr>
          <a:xfrm>
            <a:off x="0" y="1268280"/>
            <a:ext cx="37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  тако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креационны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сурсы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Text Box 31"/>
          <p:cNvSpPr/>
          <p:nvPr/>
        </p:nvSpPr>
        <p:spPr>
          <a:xfrm>
            <a:off x="4242600" y="1268280"/>
            <a:ext cx="467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2d700"/>
                </a:solidFill>
                <a:latin typeface="Verdana"/>
              </a:rPr>
              <a:t>Рекреационные  ресурсы -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2d700"/>
                </a:solidFill>
                <a:latin typeface="Verdana"/>
              </a:rPr>
              <a:t>это  ресурсы  для  отдыха  челове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2178360" y="2060640"/>
            <a:ext cx="46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креационные 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Text Box 33"/>
          <p:cNvSpPr/>
          <p:nvPr/>
        </p:nvSpPr>
        <p:spPr>
          <a:xfrm>
            <a:off x="1619280" y="2924280"/>
            <a:ext cx="216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иродны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Text Box 34"/>
          <p:cNvSpPr/>
          <p:nvPr/>
        </p:nvSpPr>
        <p:spPr>
          <a:xfrm>
            <a:off x="5027040" y="2997360"/>
            <a:ext cx="361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сторико-культурны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AutoShape 35"/>
          <p:cNvSpPr/>
          <p:nvPr/>
        </p:nvSpPr>
        <p:spPr>
          <a:xfrm>
            <a:off x="2484360" y="2565360"/>
            <a:ext cx="144720" cy="504720"/>
          </a:xfrm>
          <a:prstGeom prst="downArrow">
            <a:avLst>
              <a:gd name="adj1" fmla="val 50000"/>
              <a:gd name="adj2" fmla="val 87189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36"/>
          <p:cNvSpPr/>
          <p:nvPr/>
        </p:nvSpPr>
        <p:spPr>
          <a:xfrm>
            <a:off x="6012000" y="256536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AutoShape 37"/>
          <p:cNvSpPr/>
          <p:nvPr/>
        </p:nvSpPr>
        <p:spPr>
          <a:xfrm rot="18900000">
            <a:off x="3708360" y="3212640"/>
            <a:ext cx="144360" cy="505080"/>
          </a:xfrm>
          <a:prstGeom prst="downArrow">
            <a:avLst>
              <a:gd name="adj1" fmla="val 50000"/>
              <a:gd name="adj2" fmla="val 87469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38"/>
          <p:cNvSpPr/>
          <p:nvPr/>
        </p:nvSpPr>
        <p:spPr>
          <a:xfrm rot="2700000">
            <a:off x="1367280" y="3248640"/>
            <a:ext cx="144360" cy="505080"/>
          </a:xfrm>
          <a:prstGeom prst="downArrow">
            <a:avLst>
              <a:gd name="adj1" fmla="val 50000"/>
              <a:gd name="adj2" fmla="val 87469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AutoShape 39"/>
          <p:cNvSpPr/>
          <p:nvPr/>
        </p:nvSpPr>
        <p:spPr>
          <a:xfrm>
            <a:off x="2484360" y="3429000"/>
            <a:ext cx="144720" cy="1008000"/>
          </a:xfrm>
          <a:prstGeom prst="downArrow">
            <a:avLst>
              <a:gd name="adj1" fmla="val 50000"/>
              <a:gd name="adj2" fmla="val 174129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51" descr="taj_mahal"/>
          <p:cNvPicPr/>
          <p:nvPr/>
        </p:nvPicPr>
        <p:blipFill>
          <a:blip r:embed="rId2"/>
          <a:stretch/>
        </p:blipFill>
        <p:spPr>
          <a:xfrm>
            <a:off x="5796000" y="3703680"/>
            <a:ext cx="2592360" cy="18921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3" descr="beach"/>
          <p:cNvPicPr/>
          <p:nvPr/>
        </p:nvPicPr>
        <p:blipFill>
          <a:blip r:embed="rId3"/>
          <a:stretch/>
        </p:blipFill>
        <p:spPr>
          <a:xfrm>
            <a:off x="250920" y="3933720"/>
            <a:ext cx="1476360" cy="10177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4" descr="slope"/>
          <p:cNvPicPr/>
          <p:nvPr/>
        </p:nvPicPr>
        <p:blipFill>
          <a:blip r:embed="rId4"/>
          <a:stretch/>
        </p:blipFill>
        <p:spPr>
          <a:xfrm>
            <a:off x="1692360" y="5013360"/>
            <a:ext cx="1511280" cy="10796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6" descr="landscape1"/>
          <p:cNvPicPr/>
          <p:nvPr/>
        </p:nvPicPr>
        <p:blipFill>
          <a:blip r:embed="rId5"/>
          <a:stretch/>
        </p:blipFill>
        <p:spPr>
          <a:xfrm>
            <a:off x="3276720" y="3933720"/>
            <a:ext cx="1511280" cy="108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8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9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ставитель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чебное пособие: Ю.Н.Гладкий, С.Б.Лавров «Экономическая и социальная география Мира», М.: «Просвещение» 2014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Rectangle 2" descr=""/>
          <p:cNvPicPr/>
          <p:nvPr/>
        </p:nvPicPr>
        <p:blipFill>
          <a:blip r:embed="rId1"/>
          <a:stretch/>
        </p:blipFill>
        <p:spPr>
          <a:xfrm>
            <a:off x="244440" y="201600"/>
            <a:ext cx="8955000" cy="11635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324000" y="1549440"/>
            <a:ext cx="8820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рриториальные и земельны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9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дные и гидроэнергетически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95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сны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95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еотермальны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9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гроклиматически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95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сурсы Мирового океа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9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креационны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Территориальные ресурсы мир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600200"/>
            <a:ext cx="44956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рупнейшие страны мир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по площади территор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(млн. км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Constantia"/>
              </a:rPr>
              <a:t>Россия – 17,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анада – 10,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итай – 9,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США – 9,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Бразилия – 8,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8320" y="1600200"/>
            <a:ext cx="449568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рупнейшие страны мир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по площади эффективно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территории (млн. км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Бразилия – 8,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США – 7,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Австралия – 7,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итай – 6,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Constantia"/>
              </a:rPr>
              <a:t>Россия – 5,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0" y="581976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Эффективная территор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это территория страны, пригодная для хозяйственного осво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244440" y="-36360"/>
            <a:ext cx="8918640" cy="10602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324000" y="154944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900000" y="981000"/>
            <a:ext cx="7344000" cy="474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З е м е л ь н ы е     р е с у р с 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0" y="2060640"/>
            <a:ext cx="26272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ельскохозяйст-венные угодь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5487840" y="2508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2944080" y="2349360"/>
            <a:ext cx="826920" cy="4291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Лес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3995640" y="2060640"/>
            <a:ext cx="2160720" cy="1099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селённы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ункты,  дорог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6399000" y="2060640"/>
            <a:ext cx="2449800" cy="1099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алопригодны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непригодны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земл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0" y="3573360"/>
            <a:ext cx="1403280" cy="7038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ш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 88 %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5882400" y="371628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оло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1476360" y="3573360"/>
            <a:ext cx="2735280" cy="7038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уга  и  пастбищ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 10 %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7885800" y="364500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усты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6280200" y="4811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6899400" y="39337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дн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5" name="Object 18"/>
          <p:cNvGraphicFramePr/>
          <p:nvPr/>
        </p:nvGraphicFramePr>
        <p:xfrm>
          <a:off x="0" y="4437000"/>
          <a:ext cx="9010800" cy="161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6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437000"/>
                    <a:ext cx="901080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AutoShape 24"/>
          <p:cNvSpPr/>
          <p:nvPr/>
        </p:nvSpPr>
        <p:spPr>
          <a:xfrm>
            <a:off x="5076720" y="1484280"/>
            <a:ext cx="144720" cy="504720"/>
          </a:xfrm>
          <a:prstGeom prst="downArrow">
            <a:avLst>
              <a:gd name="adj1" fmla="val 50000"/>
              <a:gd name="adj2" fmla="val 87189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AutoShape 25"/>
          <p:cNvSpPr/>
          <p:nvPr/>
        </p:nvSpPr>
        <p:spPr>
          <a:xfrm>
            <a:off x="1476360" y="148428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26"/>
          <p:cNvSpPr/>
          <p:nvPr/>
        </p:nvSpPr>
        <p:spPr>
          <a:xfrm>
            <a:off x="3348000" y="148428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27"/>
          <p:cNvSpPr/>
          <p:nvPr/>
        </p:nvSpPr>
        <p:spPr>
          <a:xfrm>
            <a:off x="7524720" y="148428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AutoShape 28"/>
          <p:cNvSpPr/>
          <p:nvPr/>
        </p:nvSpPr>
        <p:spPr>
          <a:xfrm>
            <a:off x="539640" y="2924280"/>
            <a:ext cx="144720" cy="504720"/>
          </a:xfrm>
          <a:prstGeom prst="downArrow">
            <a:avLst>
              <a:gd name="adj1" fmla="val 50000"/>
              <a:gd name="adj2" fmla="val 87189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AutoShape 29"/>
          <p:cNvSpPr/>
          <p:nvPr/>
        </p:nvSpPr>
        <p:spPr>
          <a:xfrm>
            <a:off x="2124000" y="292428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30"/>
          <p:cNvSpPr/>
          <p:nvPr/>
        </p:nvSpPr>
        <p:spPr>
          <a:xfrm>
            <a:off x="6588000" y="3213000"/>
            <a:ext cx="144720" cy="505080"/>
          </a:xfrm>
          <a:prstGeom prst="downArrow">
            <a:avLst>
              <a:gd name="adj1" fmla="val 50000"/>
              <a:gd name="adj2" fmla="val 87251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AutoShape 31"/>
          <p:cNvSpPr/>
          <p:nvPr/>
        </p:nvSpPr>
        <p:spPr>
          <a:xfrm>
            <a:off x="7380360" y="342900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AutoShape 32"/>
          <p:cNvSpPr/>
          <p:nvPr/>
        </p:nvSpPr>
        <p:spPr>
          <a:xfrm>
            <a:off x="8459640" y="3213000"/>
            <a:ext cx="144720" cy="505080"/>
          </a:xfrm>
          <a:prstGeom prst="downArrow">
            <a:avLst>
              <a:gd name="adj1" fmla="val 50000"/>
              <a:gd name="adj2" fmla="val 87251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2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8918640" cy="10605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"/>
          <p:cNvSpPr/>
          <p:nvPr/>
        </p:nvSpPr>
        <p:spPr>
          <a:xfrm>
            <a:off x="324000" y="148428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8" name="Object 4"/>
          <p:cNvGraphicFramePr/>
          <p:nvPr/>
        </p:nvGraphicFramePr>
        <p:xfrm>
          <a:off x="250920" y="2133720"/>
          <a:ext cx="8496360" cy="435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133720"/>
                    <a:ext cx="849636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5"/>
          <p:cNvSpPr/>
          <p:nvPr/>
        </p:nvSpPr>
        <p:spPr>
          <a:xfrm>
            <a:off x="684360" y="1341360"/>
            <a:ext cx="7321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рупнейшие  страны  ми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  размерам  площади  пашн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048200" y="658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4617b"/>
                </a:solidFill>
                <a:latin typeface="Calibri"/>
              </a:rPr>
              <a:t>Земельные  ресурсы  мира</a:t>
            </a:r>
            <a:endParaRPr b="0" lang="en-US" sz="4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68360" y="1125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менение  земельного  фон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2375640" y="1844640"/>
            <a:ext cx="39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ва  противоположных  процесс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0" y="2997360"/>
            <a:ext cx="387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шир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льскохозяйственных  угод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076720" y="2997360"/>
            <a:ext cx="40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тощ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льскохозяйственных  угод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0" y="4292640"/>
            <a:ext cx="428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воение  залежных  земе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лиорац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уш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ош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воение  прибрежных      участков  мор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1865160" y="2492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6732720" y="1989000"/>
            <a:ext cx="587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Verdana"/>
              </a:rPr>
              <a:t>_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6280200" y="517212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5799600" y="4444920"/>
            <a:ext cx="2745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розия  почв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заболачивани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засолени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пустынивани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343440" y="6435720"/>
            <a:ext cx="832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66"/>
                </a:solidFill>
                <a:latin typeface="Verdana"/>
              </a:rPr>
              <a:t>Внимание опасность</a:t>
            </a:r>
            <a:r>
              <a:rPr b="1" i="1" lang="ru-RU" sz="2000" spc="-1" strike="noStrike">
                <a:solidFill>
                  <a:srgbClr val="ff0066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Verdana"/>
              </a:rPr>
              <a:t>земельные ресурсы мира сокращаются</a:t>
            </a:r>
            <a:r>
              <a:rPr b="0" lang="ru-RU" sz="1800" spc="-1" strike="noStrike">
                <a:solidFill>
                  <a:srgbClr val="04617b"/>
                </a:solidFill>
                <a:latin typeface="Verdan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32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ectangle 2" descr=""/>
          <p:cNvPicPr/>
          <p:nvPr/>
        </p:nvPicPr>
        <p:blipFill>
          <a:blip r:embed="rId1"/>
          <a:stretch/>
        </p:blipFill>
        <p:spPr>
          <a:xfrm>
            <a:off x="244440" y="201600"/>
            <a:ext cx="8955000" cy="11635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3"/>
          <p:cNvSpPr/>
          <p:nvPr/>
        </p:nvSpPr>
        <p:spPr>
          <a:xfrm>
            <a:off x="324000" y="154944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2196000" y="1341360"/>
            <a:ext cx="4707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Лесные  пояса  мира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377280" y="2276640"/>
            <a:ext cx="3926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еверный  лесной  пояс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893480" y="2276640"/>
            <a:ext cx="35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Южный  лесной  пояс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703800" y="501336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еса  умеренного  пояс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4716360" y="49417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лажные  экваториальны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 переменно-влажные  лес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1622880" y="558972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50 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6159960" y="558972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50 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12"/>
          <p:cNvSpPr/>
          <p:nvPr/>
        </p:nvSpPr>
        <p:spPr>
          <a:xfrm>
            <a:off x="2771640" y="1916280"/>
            <a:ext cx="144720" cy="504720"/>
          </a:xfrm>
          <a:prstGeom prst="downArrow">
            <a:avLst>
              <a:gd name="adj1" fmla="val 50000"/>
              <a:gd name="adj2" fmla="val 87189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AutoShape 13"/>
          <p:cNvSpPr/>
          <p:nvPr/>
        </p:nvSpPr>
        <p:spPr>
          <a:xfrm>
            <a:off x="6084720" y="1916280"/>
            <a:ext cx="144720" cy="504720"/>
          </a:xfrm>
          <a:prstGeom prst="downArrow">
            <a:avLst>
              <a:gd name="adj1" fmla="val 50000"/>
              <a:gd name="adj2" fmla="val 87189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18" descr="jungle"/>
          <p:cNvPicPr/>
          <p:nvPr/>
        </p:nvPicPr>
        <p:blipFill>
          <a:blip r:embed="rId2"/>
          <a:stretch/>
        </p:blipFill>
        <p:spPr>
          <a:xfrm>
            <a:off x="5076720" y="2781360"/>
            <a:ext cx="3341880" cy="22366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9" descr="taiga"/>
          <p:cNvPicPr/>
          <p:nvPr/>
        </p:nvPicPr>
        <p:blipFill>
          <a:blip r:embed="rId3"/>
          <a:stretch/>
        </p:blipFill>
        <p:spPr>
          <a:xfrm>
            <a:off x="971640" y="2708280"/>
            <a:ext cx="2244600" cy="23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есные  ресурсы  ми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1052280"/>
            <a:ext cx="478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Крупнейшие  страны  мир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  площади   лесов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( млн.  га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648320" y="105228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Лесистость  территории  по  регионам  мир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( % 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324000" y="126828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0" name="Object 8"/>
          <p:cNvGraphicFramePr/>
          <p:nvPr/>
        </p:nvGraphicFramePr>
        <p:xfrm>
          <a:off x="571680" y="2919240"/>
          <a:ext cx="3495600" cy="25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919240"/>
                    <a:ext cx="3495600" cy="25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9"/>
          <p:cNvGraphicFramePr/>
          <p:nvPr/>
        </p:nvGraphicFramePr>
        <p:xfrm>
          <a:off x="0" y="2492280"/>
          <a:ext cx="4500720" cy="347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492280"/>
                    <a:ext cx="4500720" cy="34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11"/>
          <p:cNvGraphicFramePr/>
          <p:nvPr/>
        </p:nvGraphicFramePr>
        <p:xfrm>
          <a:off x="4643280" y="2492280"/>
          <a:ext cx="4500720" cy="331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2492280"/>
                    <a:ext cx="450072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есные  ресурсы  ми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899640" y="1197000"/>
            <a:ext cx="740268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блемы  использовани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2111400" y="5229360"/>
            <a:ext cx="46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кращение  площади  ле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250920" y="3789360"/>
            <a:ext cx="352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ерациональное  использовани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лесных  ресурсов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4427640" y="3789360"/>
            <a:ext cx="47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50 %  вырубленного  лес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 развивающихся  страна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дёт  на  дров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1307880" y="5950080"/>
            <a:ext cx="69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а  обезлесения планеты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539640" y="2133720"/>
            <a:ext cx="272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громные  масштаб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ырубки  лесов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3832200" y="26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3797280" y="2133720"/>
            <a:ext cx="5205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тсутствие  лесовосстановительны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бот  в  Росси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 в  развивающихся  странах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12"/>
          <p:cNvSpPr/>
          <p:nvPr/>
        </p:nvSpPr>
        <p:spPr>
          <a:xfrm>
            <a:off x="1692360" y="328464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2556000" y="486900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15"/>
          <p:cNvSpPr/>
          <p:nvPr/>
        </p:nvSpPr>
        <p:spPr>
          <a:xfrm rot="2700000">
            <a:off x="3562920" y="3213720"/>
            <a:ext cx="109800" cy="828720"/>
          </a:xfrm>
          <a:prstGeom prst="downArrow">
            <a:avLst>
              <a:gd name="adj1" fmla="val 50000"/>
              <a:gd name="adj2" fmla="val 188689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AutoShape 16"/>
          <p:cNvSpPr/>
          <p:nvPr/>
        </p:nvSpPr>
        <p:spPr>
          <a:xfrm rot="5400000">
            <a:off x="3994560" y="3861360"/>
            <a:ext cx="109800" cy="828720"/>
          </a:xfrm>
          <a:prstGeom prst="downArrow">
            <a:avLst>
              <a:gd name="adj1" fmla="val 50000"/>
              <a:gd name="adj2" fmla="val 188689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8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6:50:59Z</dcterms:created>
  <dc:creator>JULIA</dc:creator>
  <dc:description/>
  <dc:language>en-US</dc:language>
  <cp:lastModifiedBy>Марина Суханова</cp:lastModifiedBy>
  <dcterms:modified xsi:type="dcterms:W3CDTF">2015-10-27T09:32:50Z</dcterms:modified>
  <cp:revision>137</cp:revision>
  <dc:subject/>
  <dc:title>ГЕОГРАФИЯ ПРИРОДНЫХ РЕСУРСОВ МИРА</dc:title>
</cp:coreProperties>
</file>