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wmf" ContentType="image/x-wmf"/>
  <Override PartName="/ppt/media/image22.png" ContentType="image/png"/>
  <Override PartName="/ppt/media/image26.jpeg" ContentType="image/jpeg"/>
  <Override PartName="/ppt/media/image16.wmf" ContentType="image/x-wmf"/>
  <Override PartName="/ppt/media/image8.png" ContentType="image/png"/>
  <Override PartName="/ppt/media/image3.png" ContentType="image/png"/>
  <Override PartName="/ppt/media/image11.wmf" ContentType="image/x-wmf"/>
  <Override PartName="/ppt/media/image14.jpeg" ContentType="image/jpeg"/>
  <Override PartName="/ppt/media/image15.wmf" ContentType="image/x-wmf"/>
  <Override PartName="/ppt/media/image7.png" ContentType="image/png"/>
  <Override PartName="/ppt/media/image34.jpeg" ContentType="image/jpeg"/>
  <Override PartName="/ppt/media/image12.png" ContentType="image/png"/>
  <Override PartName="/ppt/media/image9.wmf" ContentType="image/x-wmf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6.png" ContentType="image/png"/>
  <Override PartName="/ppt/media/image29.png" ContentType="image/png"/>
  <Override PartName="/ppt/media/image1.jpeg" ContentType="image/jpeg"/>
  <Override PartName="/ppt/media/image10.png" ContentType="image/png"/>
  <Override PartName="/ppt/media/image17.wmf" ContentType="image/x-wmf"/>
  <Override PartName="/ppt/media/image19.wmf" ContentType="image/x-wmf"/>
  <Override PartName="/ppt/media/image18.png" ContentType="image/png"/>
  <Override PartName="/ppt/media/image21.wmf" ContentType="image/x-wmf"/>
  <Override PartName="/ppt/media/image32.jpeg" ContentType="image/jpeg"/>
  <Override PartName="/ppt/media/image2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F607-EB8E-420C-B30A-80420C6417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8FDB-2D2B-4D22-92D5-BA3B038CB6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5EB7-7B78-4344-ABC7-D35360021B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910B-D863-4FBB-9F48-F87BAD4E44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609-CD40-43D0-A9E7-A5DC2AC2A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D428-6EFC-4A18-9F83-EF41DF52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AF42-AE2B-439B-9BBE-67DB487B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C26C-9CBE-4E5B-A3F1-54578104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B579-2C1A-449C-BDE3-9FC0AE69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46BD-70E5-4DB8-BFF7-185FE4D8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BB61-9004-4347-B887-A4153E5C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BA4F-8732-48DB-9BED-712099E5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65BB-F8A1-4200-AB63-8E6E13CC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FE71-FB04-4EA9-B362-974A614C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A0A3-E196-412F-B419-A8CCF2C0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143F-43D1-4BAF-A326-3D4894A7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C70CC-A8CF-4B6A-AD92-42997558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2C1D-873A-4939-AA2F-6D9EB636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1014-9B62-4C70-AF52-090AC9AD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EE23-AEA9-4835-A2C8-19E2FF51C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74B5-9647-4039-BCCD-069C8A44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0DC7F-5332-41A8-A385-A350A20E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4D74-38DC-4619-977F-AAFC508E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A18E-F420-4758-ADC3-EEBBACE8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2D1EA-1F57-4D8E-978A-EBB72145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BEF12-F2D5-42A2-B2BC-CF30A753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1B5-415F-42F4-B355-B40DF868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D34A0-F213-42B2-B86E-BC76B5E9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C9FE-6436-47F6-A011-266BFD74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13312-2295-4F7E-822D-77CCFD13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BB9FE-2B9C-4455-8675-638FBA40F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EAC9A-BD47-430A-B94C-6BFFC9CA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B0C87-4F1E-4444-B6D9-B6719A31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46912-CA97-49F7-93D7-C86211BB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00F4F-27AA-4574-9E7D-25AAD5624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9CA7F-F91D-4DC4-BC29-8CC365F4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E543F-6DE7-45C0-8D0F-C6BEA755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C5C-FA2C-488B-874B-09BC65BD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C7983-399B-4D8D-BD4A-437518F0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32361-1CD6-4BF8-AA7A-D1AA745D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CDD68-1C07-4444-8640-21D55029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630A3-09A0-41EE-A790-D7636081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68B0B-8544-4FDB-A81B-A152D47B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C93F7-6A38-4237-8CFA-0C5588D9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3463C-4FE2-421F-BD1F-957FE6B1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2185B-3758-41AC-9316-9AFE61A1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24F4B-339B-47CE-87E9-8542AB378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837-79C7-4F80-8A90-AB39C9AC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25AE-80AD-49EE-9486-338B6534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8DC-291B-41CE-8362-23518D91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D0D-F701-4B84-8110-2EFF9264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CDB-B218-4457-A1C5-CE400BB06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0F15-3A1C-4031-96E7-E009B1711EE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8759-E5F2-47C9-95E6-B9DA143C8D9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13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Полилиния 14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6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" name="Полилиния 18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5010-3205-483A-A567-C0B402DD56CF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A&amp;J From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FFC0-93DC-4B2D-86F6-B0A979927A9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334800" y="646200"/>
            <a:ext cx="9972360" cy="30607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1"/>
          <p:cNvSpPr/>
          <p:nvPr/>
        </p:nvSpPr>
        <p:spPr>
          <a:xfrm>
            <a:off x="3214800" y="6215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50920" y="4071960"/>
            <a:ext cx="860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По экономической и социальной географии Мира в 10 классе.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Rectangle 2" descr=""/>
          <p:cNvPicPr/>
          <p:nvPr/>
        </p:nvPicPr>
        <p:blipFill>
          <a:blip r:embed="rId1"/>
          <a:stretch/>
        </p:blipFill>
        <p:spPr>
          <a:xfrm>
            <a:off x="244440" y="201600"/>
            <a:ext cx="8955000" cy="11635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1701720"/>
            <a:ext cx="914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Распределение  воды  в  гидросфере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Object 6"/>
          <p:cNvGraphicFramePr/>
          <p:nvPr/>
        </p:nvGraphicFramePr>
        <p:xfrm>
          <a:off x="324000" y="2349360"/>
          <a:ext cx="8512200" cy="33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349360"/>
                    <a:ext cx="8512200" cy="33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Text Box 7"/>
          <p:cNvSpPr/>
          <p:nvPr/>
        </p:nvSpPr>
        <p:spPr>
          <a:xfrm>
            <a:off x="395280" y="5950080"/>
            <a:ext cx="75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На пресные воды приходится около 2,5 % общего объёма гидросфе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дные  ресурсы  ми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1268280"/>
            <a:ext cx="48243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аспределение  водных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ресурсов  по  регионам  мира  (тыс. к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859280" y="1341000"/>
            <a:ext cx="40384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упнейшие страны мира  по  запаса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есной воды  (тыс. к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8" name="Object 7"/>
          <p:cNvGraphicFramePr/>
          <p:nvPr/>
        </p:nvGraphicFramePr>
        <p:xfrm>
          <a:off x="0" y="2349360"/>
          <a:ext cx="4572000" cy="377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49360"/>
                    <a:ext cx="4572000" cy="37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Object 8"/>
          <p:cNvGraphicFramePr/>
          <p:nvPr/>
        </p:nvGraphicFramePr>
        <p:xfrm>
          <a:off x="4788000" y="2421000"/>
          <a:ext cx="4356000" cy="370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2421000"/>
                    <a:ext cx="435600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Rectangle 2" descr=""/>
          <p:cNvPicPr/>
          <p:nvPr/>
        </p:nvPicPr>
        <p:blipFill>
          <a:blip r:embed="rId1"/>
          <a:stretch/>
        </p:blipFill>
        <p:spPr>
          <a:xfrm>
            <a:off x="639720" y="-128520"/>
            <a:ext cx="8955000" cy="11588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846360" y="1052640"/>
            <a:ext cx="74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упнейшие  водохранилища  ми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5"/>
          <p:cNvSpPr/>
          <p:nvPr/>
        </p:nvSpPr>
        <p:spPr>
          <a:xfrm>
            <a:off x="3471840" y="2579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39640" y="1839960"/>
          <a:ext cx="8280360" cy="4541760"/>
        </p:xfrm>
        <a:graphic>
          <a:graphicData uri="http://schemas.openxmlformats.org/drawingml/2006/table">
            <a:tbl>
              <a:tblPr/>
              <a:tblGrid>
                <a:gridCol w="1000080"/>
                <a:gridCol w="2455920"/>
                <a:gridCol w="2754360"/>
                <a:gridCol w="2070000"/>
              </a:tblGrid>
              <a:tr h="113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звание  водохранилищ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тр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бъём 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 км</a:t>
                      </a:r>
                      <a:r>
                        <a:rPr b="0" i="1" lang="ru-RU" sz="2000" spc="-1" strike="noStrike" baseline="30000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)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иктор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ения,  Танзания, Уган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ратско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осс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9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риб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мбия,  Зимбаб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с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гип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7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оль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8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одные  ресурсы  ми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547280" y="1484280"/>
            <a:ext cx="63471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блемы  использов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6084720" y="2492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гряз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043280" y="2492280"/>
            <a:ext cx="297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ст  потреб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926720" y="328464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рациональное  использ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548800" y="508464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ение проблем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469080" y="5761080"/>
            <a:ext cx="842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меньшение  водоёмкости  производственных  процессов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оружение  водохранилищ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преснение  морской  воды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2141640" y="4292640"/>
            <a:ext cx="5054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66"/>
                </a:solidFill>
                <a:latin typeface="Verdana"/>
              </a:rPr>
              <a:t>Дефицит пресной  в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AutoShape 17"/>
          <p:cNvSpPr/>
          <p:nvPr/>
        </p:nvSpPr>
        <p:spPr>
          <a:xfrm>
            <a:off x="250920" y="2492280"/>
            <a:ext cx="647640" cy="2448000"/>
          </a:xfrm>
          <a:custGeom>
            <a:avLst/>
            <a:gdLst>
              <a:gd name="textAreaLeft" fmla="*/ 86760 w 647640"/>
              <a:gd name="textAreaRight" fmla="*/ 560880 w 647640"/>
              <a:gd name="textAreaTop" fmla="*/ 428040 h 2448000"/>
              <a:gd name="textAreaBottom" fmla="*/ 177516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9" stAng="-5400000" swAng="-5400000"/>
                <a:lnTo>
                  <a:pt x="0" y="11885"/>
                </a:lnTo>
                <a:arcTo wR="21600" hR="7559" stAng="10800000" swAng="-2682296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5"/>
                </a:lnTo>
                <a:arcTo wR="21600" hR="7559" stAng="8117704" swAng="2324319"/>
                <a:lnTo>
                  <a:pt x="903" y="9721"/>
                </a:lnTo>
                <a:arcTo wR="21600" hR="7559" stAng="-10442022" swAng="5042022"/>
                <a:close/>
              </a:path>
              <a:path fill="darkenLess" w="21600" h="21600">
                <a:moveTo>
                  <a:pt x="21600" y="0"/>
                </a:moveTo>
                <a:arcTo wR="21600" hR="7559" stAng="-5400000" swAng="-5400000"/>
                <a:lnTo>
                  <a:pt x="0" y="7559"/>
                </a:lnTo>
                <a:arcTo wR="21600" hR="7559" stAng="10800000" swAng="-357978"/>
                <a:lnTo>
                  <a:pt x="903" y="9721"/>
                </a:lnTo>
                <a:arcTo wR="21600" hR="7559" stAng="-10442022" swAng="5042022"/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AutoShape 18"/>
          <p:cNvSpPr/>
          <p:nvPr/>
        </p:nvSpPr>
        <p:spPr>
          <a:xfrm>
            <a:off x="8244000" y="2637000"/>
            <a:ext cx="647640" cy="2304720"/>
          </a:xfrm>
          <a:custGeom>
            <a:avLst/>
            <a:gdLst>
              <a:gd name="textAreaLeft" fmla="*/ 86760 w 647640"/>
              <a:gd name="textAreaRight" fmla="*/ 560880 w 647640"/>
              <a:gd name="textAreaTop" fmla="*/ 408600 h 2304720"/>
              <a:gd name="textAreaBottom" fmla="*/ 1643760 h 23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62" stAng="-5400000" swAng="5400000"/>
                <a:lnTo>
                  <a:pt x="21600" y="11574"/>
                </a:lnTo>
                <a:arcTo wR="21600" hR="7662" stAng="0" swAng="2705673"/>
                <a:lnTo>
                  <a:pt x="7200" y="21162"/>
                </a:lnTo>
                <a:lnTo>
                  <a:pt x="0" y="17280"/>
                </a:lnTo>
                <a:lnTo>
                  <a:pt x="7200" y="12522"/>
                </a:lnTo>
                <a:lnTo>
                  <a:pt x="7200" y="14886"/>
                </a:lnTo>
                <a:arcTo wR="21600" hR="7662" stAng="2705673" swAng="-2384634"/>
                <a:lnTo>
                  <a:pt x="20884" y="9618"/>
                </a:lnTo>
                <a:arcTo wR="21600" hR="7662" stAng="-321039" swAng="-5078961"/>
                <a:close/>
              </a:path>
              <a:path fill="darkenLess" w="21600" h="21600">
                <a:moveTo>
                  <a:pt x="0" y="0"/>
                </a:moveTo>
                <a:arcTo wR="21600" hR="7662" stAng="-5400000" swAng="5400000"/>
                <a:lnTo>
                  <a:pt x="21600" y="11574"/>
                </a:lnTo>
                <a:arcTo wR="21600" hR="7662" stAng="0" swAng="-321039"/>
                <a:lnTo>
                  <a:pt x="20884" y="9618"/>
                </a:lnTo>
                <a:arcTo wR="21600" hR="7662" stAng="-321039" swAng="-5078961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AutoShape 19"/>
          <p:cNvSpPr/>
          <p:nvPr/>
        </p:nvSpPr>
        <p:spPr>
          <a:xfrm>
            <a:off x="3851280" y="3716280"/>
            <a:ext cx="93672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1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2" dur="8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4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8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244440" y="396720"/>
            <a:ext cx="8813880" cy="10242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20" name="Object 6"/>
          <p:cNvGraphicFramePr/>
          <p:nvPr/>
        </p:nvGraphicFramePr>
        <p:xfrm>
          <a:off x="900000" y="2205000"/>
          <a:ext cx="7380360" cy="437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2205000"/>
                    <a:ext cx="738036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Text Box 7"/>
          <p:cNvSpPr/>
          <p:nvPr/>
        </p:nvSpPr>
        <p:spPr>
          <a:xfrm>
            <a:off x="395280" y="2133720"/>
            <a:ext cx="820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Гидроэнергопотенциал  регионов  мира  ( % 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468360" y="1341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2d700"/>
                </a:solidFill>
                <a:latin typeface="Verdana"/>
              </a:rPr>
              <a:t>Гидроэнергоресурсы – это  ресурсы  воды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e2d700"/>
                </a:solidFill>
                <a:latin typeface="Verdana"/>
              </a:rPr>
              <a:t>пригодные  для  получения  электроэнерг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881920" cy="10303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5840" y="6461280"/>
            <a:ext cx="2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250920" y="981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Геотермальные  ресурсы – это  внутренняя  энерг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Земл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Picture 9" descr="geoterm"/>
          <p:cNvPicPr/>
          <p:nvPr/>
        </p:nvPicPr>
        <p:blipFill>
          <a:blip r:embed="rId2"/>
          <a:stretch/>
        </p:blipFill>
        <p:spPr>
          <a:xfrm>
            <a:off x="539640" y="1916280"/>
            <a:ext cx="8334360" cy="44575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8"/>
          <p:cNvSpPr/>
          <p:nvPr/>
        </p:nvSpPr>
        <p:spPr>
          <a:xfrm>
            <a:off x="3615120" y="5229360"/>
            <a:ext cx="385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Verdana"/>
              </a:rPr>
              <a:t>Тихоокеанское огненное кольц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2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4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7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8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16" descr="zony"/>
          <p:cNvPicPr/>
          <p:nvPr/>
        </p:nvPicPr>
        <p:blipFill>
          <a:blip r:embed="rId1"/>
          <a:stretch/>
        </p:blipFill>
        <p:spPr>
          <a:xfrm>
            <a:off x="2933640" y="2565360"/>
            <a:ext cx="6210360" cy="309564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2" descr=""/>
          <p:cNvPicPr/>
          <p:nvPr/>
        </p:nvPicPr>
        <p:blipFill>
          <a:blip r:embed="rId2"/>
          <a:stretch/>
        </p:blipFill>
        <p:spPr>
          <a:xfrm>
            <a:off x="317520" y="-6480"/>
            <a:ext cx="8832960" cy="1024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3"/>
          <p:cNvSpPr/>
          <p:nvPr/>
        </p:nvSpPr>
        <p:spPr>
          <a:xfrm>
            <a:off x="324000" y="112536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402200" y="1125360"/>
            <a:ext cx="618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лавный  показатель – сумма  активных  температу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0" y="1628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dbf5f9"/>
                </a:solidFill>
                <a:latin typeface="Verdana"/>
              </a:rPr>
              <a:t>Сумма  активных  температур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– сумма  среднесуточных  температур  выше  + 10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Verdana"/>
              </a:rPr>
              <a:t>о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С  в  течение  год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0" y="2637000"/>
            <a:ext cx="29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Закон  географической  зональности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м  ближе  к  экватору 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м  …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м  ближе  к  полюсам – тем 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Вывод:  наилучшими  агроклиматическими  ресурсами  обладают  страны  жаркого  теплового  пояса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5366520" y="393372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Verdana"/>
              </a:rPr>
              <a:t>Жаркий поя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5249520" y="314172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Умеренный поя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5320800" y="465300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Verdana"/>
              </a:rPr>
              <a:t>Умеренный поя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5241240" y="249228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99"/>
                </a:solidFill>
                <a:latin typeface="Verdana"/>
              </a:rPr>
              <a:t>Холодный поя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5168160" y="5300640"/>
            <a:ext cx="19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Verdana"/>
              </a:rPr>
              <a:t>Холодный поя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Rectangle 2" descr=""/>
          <p:cNvPicPr/>
          <p:nvPr/>
        </p:nvPicPr>
        <p:blipFill>
          <a:blip r:embed="rId1"/>
          <a:stretch/>
        </p:blipFill>
        <p:spPr>
          <a:xfrm>
            <a:off x="317520" y="-36360"/>
            <a:ext cx="8918640" cy="106020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3"/>
          <p:cNvSpPr/>
          <p:nvPr/>
        </p:nvSpPr>
        <p:spPr>
          <a:xfrm>
            <a:off x="324000" y="1549440"/>
            <a:ext cx="5111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654120" y="1125360"/>
            <a:ext cx="395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сурсы  Мирового  океан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250920" y="213372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рская  вод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1773360" y="2133720"/>
            <a:ext cx="19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ераль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сурс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4041720" y="2133720"/>
            <a:ext cx="22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нергетиче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6627960" y="213372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иологическ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6046920" y="1125360"/>
            <a:ext cx="239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екреационны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840600" y="335772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27720" y="386064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творён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ще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3980520" y="29973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нергия  прилив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7"/>
          <p:cNvSpPr/>
          <p:nvPr/>
        </p:nvSpPr>
        <p:spPr>
          <a:xfrm>
            <a:off x="4262400" y="371628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нергия  вол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4119120" y="4508640"/>
            <a:ext cx="218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нергия  течен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9"/>
          <p:cNvSpPr/>
          <p:nvPr/>
        </p:nvSpPr>
        <p:spPr>
          <a:xfrm>
            <a:off x="4239720" y="5157720"/>
            <a:ext cx="20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нерг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температурног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адиен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20"/>
          <p:cNvSpPr/>
          <p:nvPr/>
        </p:nvSpPr>
        <p:spPr>
          <a:xfrm>
            <a:off x="7103160" y="31417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ыб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21"/>
          <p:cNvSpPr/>
          <p:nvPr/>
        </p:nvSpPr>
        <p:spPr>
          <a:xfrm>
            <a:off x="6688440" y="4005360"/>
            <a:ext cx="24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ские  живот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22"/>
          <p:cNvSpPr/>
          <p:nvPr/>
        </p:nvSpPr>
        <p:spPr>
          <a:xfrm>
            <a:off x="6904800" y="4941720"/>
            <a:ext cx="17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титель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Text Box 23"/>
          <p:cNvSpPr/>
          <p:nvPr/>
        </p:nvSpPr>
        <p:spPr>
          <a:xfrm>
            <a:off x="-4320" y="4724280"/>
            <a:ext cx="5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4"/>
          <p:cNvSpPr/>
          <p:nvPr/>
        </p:nvSpPr>
        <p:spPr>
          <a:xfrm>
            <a:off x="1270080" y="486900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Text Box 25"/>
          <p:cNvSpPr/>
          <p:nvPr/>
        </p:nvSpPr>
        <p:spPr>
          <a:xfrm>
            <a:off x="906840" y="5950080"/>
            <a:ext cx="4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6"/>
          <p:cNvSpPr/>
          <p:nvPr/>
        </p:nvSpPr>
        <p:spPr>
          <a:xfrm>
            <a:off x="338400" y="5373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7"/>
          <p:cNvSpPr/>
          <p:nvPr/>
        </p:nvSpPr>
        <p:spPr>
          <a:xfrm>
            <a:off x="3288240" y="3573360"/>
            <a:ext cx="42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8"/>
          <p:cNvSpPr/>
          <p:nvPr/>
        </p:nvSpPr>
        <p:spPr>
          <a:xfrm>
            <a:off x="3199320" y="407664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9"/>
          <p:cNvSpPr/>
          <p:nvPr/>
        </p:nvSpPr>
        <p:spPr>
          <a:xfrm>
            <a:off x="3287880" y="515772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30"/>
          <p:cNvSpPr/>
          <p:nvPr/>
        </p:nvSpPr>
        <p:spPr>
          <a:xfrm>
            <a:off x="1922040" y="55897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лмаз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Text Box 31"/>
          <p:cNvSpPr/>
          <p:nvPr/>
        </p:nvSpPr>
        <p:spPr>
          <a:xfrm>
            <a:off x="1925640" y="3573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фть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Text Box 32"/>
          <p:cNvSpPr/>
          <p:nvPr/>
        </p:nvSpPr>
        <p:spPr>
          <a:xfrm>
            <a:off x="2209680" y="422100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аз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Text Box 33"/>
          <p:cNvSpPr/>
          <p:nvPr/>
        </p:nvSpPr>
        <p:spPr>
          <a:xfrm>
            <a:off x="2139840" y="4941720"/>
            <a:ext cx="40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3211200" y="465300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089080" y="6093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сфорит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AutoShape 37"/>
          <p:cNvSpPr/>
          <p:nvPr/>
        </p:nvSpPr>
        <p:spPr>
          <a:xfrm>
            <a:off x="826920" y="162864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AutoShape 38"/>
          <p:cNvSpPr/>
          <p:nvPr/>
        </p:nvSpPr>
        <p:spPr>
          <a:xfrm>
            <a:off x="2627280" y="155736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AutoShape 39"/>
          <p:cNvSpPr/>
          <p:nvPr/>
        </p:nvSpPr>
        <p:spPr>
          <a:xfrm>
            <a:off x="4427640" y="1628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40"/>
          <p:cNvSpPr/>
          <p:nvPr/>
        </p:nvSpPr>
        <p:spPr>
          <a:xfrm rot="17460000">
            <a:off x="5796720" y="1053000"/>
            <a:ext cx="142920" cy="1582920"/>
          </a:xfrm>
          <a:prstGeom prst="downArrow">
            <a:avLst>
              <a:gd name="adj1" fmla="val 50000"/>
              <a:gd name="adj2" fmla="val 2768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AutoShape 41"/>
          <p:cNvSpPr/>
          <p:nvPr/>
        </p:nvSpPr>
        <p:spPr>
          <a:xfrm>
            <a:off x="1042920" y="2852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42"/>
          <p:cNvSpPr/>
          <p:nvPr/>
        </p:nvSpPr>
        <p:spPr>
          <a:xfrm rot="16200000">
            <a:off x="5364000" y="728280"/>
            <a:ext cx="108000" cy="1187640"/>
          </a:xfrm>
          <a:prstGeom prst="downArrow">
            <a:avLst>
              <a:gd name="adj1" fmla="val 50000"/>
              <a:gd name="adj2" fmla="val 274917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44"/>
          <p:cNvSpPr/>
          <p:nvPr/>
        </p:nvSpPr>
        <p:spPr>
          <a:xfrm>
            <a:off x="395280" y="2565360"/>
            <a:ext cx="144360" cy="1297080"/>
          </a:xfrm>
          <a:prstGeom prst="downArrow">
            <a:avLst>
              <a:gd name="adj1" fmla="val 50000"/>
              <a:gd name="adj2" fmla="val 22462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46"/>
          <p:cNvSpPr/>
          <p:nvPr/>
        </p:nvSpPr>
        <p:spPr>
          <a:xfrm>
            <a:off x="1835280" y="213372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47"/>
          <p:cNvSpPr/>
          <p:nvPr/>
        </p:nvSpPr>
        <p:spPr>
          <a:xfrm>
            <a:off x="3851280" y="213372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48"/>
          <p:cNvSpPr/>
          <p:nvPr/>
        </p:nvSpPr>
        <p:spPr>
          <a:xfrm>
            <a:off x="6516720" y="2205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44440" y="-6480"/>
            <a:ext cx="8880480" cy="10303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3"/>
          <p:cNvSpPr/>
          <p:nvPr/>
        </p:nvSpPr>
        <p:spPr>
          <a:xfrm>
            <a:off x="0" y="134136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2268360" y="1413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Text Box 5"/>
          <p:cNvSpPr/>
          <p:nvPr/>
        </p:nvSpPr>
        <p:spPr>
          <a:xfrm>
            <a:off x="1042920" y="23493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4500720" y="23493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Text Box 7"/>
          <p:cNvSpPr/>
          <p:nvPr/>
        </p:nvSpPr>
        <p:spPr>
          <a:xfrm>
            <a:off x="553320" y="3573360"/>
            <a:ext cx="11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орск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Text Box 8"/>
          <p:cNvSpPr/>
          <p:nvPr/>
        </p:nvSpPr>
        <p:spPr>
          <a:xfrm>
            <a:off x="1991520" y="450864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ор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3168720" y="35733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ндшафт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Text Box 30"/>
          <p:cNvSpPr/>
          <p:nvPr/>
        </p:nvSpPr>
        <p:spPr>
          <a:xfrm>
            <a:off x="0" y="1268280"/>
            <a:ext cx="378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 тако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креационны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сурсы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Text Box 31"/>
          <p:cNvSpPr/>
          <p:nvPr/>
        </p:nvSpPr>
        <p:spPr>
          <a:xfrm>
            <a:off x="4242600" y="1268280"/>
            <a:ext cx="467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d700"/>
                </a:solidFill>
                <a:latin typeface="Verdana"/>
              </a:rPr>
              <a:t>Рекреационные  ресурсы -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2d700"/>
                </a:solidFill>
                <a:latin typeface="Verdana"/>
              </a:rPr>
              <a:t>это  ресурсы  для  отдыха  чело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Text Box 32"/>
          <p:cNvSpPr/>
          <p:nvPr/>
        </p:nvSpPr>
        <p:spPr>
          <a:xfrm>
            <a:off x="2178360" y="2060640"/>
            <a:ext cx="46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реационные 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Text Box 33"/>
          <p:cNvSpPr/>
          <p:nvPr/>
        </p:nvSpPr>
        <p:spPr>
          <a:xfrm>
            <a:off x="1619280" y="2924280"/>
            <a:ext cx="216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род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Text Box 34"/>
          <p:cNvSpPr/>
          <p:nvPr/>
        </p:nvSpPr>
        <p:spPr>
          <a:xfrm>
            <a:off x="5027040" y="2997360"/>
            <a:ext cx="361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Историко-культурны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AutoShape 35"/>
          <p:cNvSpPr/>
          <p:nvPr/>
        </p:nvSpPr>
        <p:spPr>
          <a:xfrm>
            <a:off x="2484360" y="256536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36"/>
          <p:cNvSpPr/>
          <p:nvPr/>
        </p:nvSpPr>
        <p:spPr>
          <a:xfrm>
            <a:off x="6012000" y="256536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AutoShape 37"/>
          <p:cNvSpPr/>
          <p:nvPr/>
        </p:nvSpPr>
        <p:spPr>
          <a:xfrm rot="18900000">
            <a:off x="3708360" y="3212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38"/>
          <p:cNvSpPr/>
          <p:nvPr/>
        </p:nvSpPr>
        <p:spPr>
          <a:xfrm rot="2700000">
            <a:off x="1367280" y="3248640"/>
            <a:ext cx="144360" cy="505080"/>
          </a:xfrm>
          <a:prstGeom prst="downArrow">
            <a:avLst>
              <a:gd name="adj1" fmla="val 50000"/>
              <a:gd name="adj2" fmla="val 8746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39"/>
          <p:cNvSpPr/>
          <p:nvPr/>
        </p:nvSpPr>
        <p:spPr>
          <a:xfrm>
            <a:off x="2484360" y="3429000"/>
            <a:ext cx="144720" cy="1008000"/>
          </a:xfrm>
          <a:prstGeom prst="downArrow">
            <a:avLst>
              <a:gd name="adj1" fmla="val 50000"/>
              <a:gd name="adj2" fmla="val 17412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51" descr="taj_mahal"/>
          <p:cNvPicPr/>
          <p:nvPr/>
        </p:nvPicPr>
        <p:blipFill>
          <a:blip r:embed="rId2"/>
          <a:stretch/>
        </p:blipFill>
        <p:spPr>
          <a:xfrm>
            <a:off x="5796000" y="3703680"/>
            <a:ext cx="2592360" cy="1892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3" descr="beach"/>
          <p:cNvPicPr/>
          <p:nvPr/>
        </p:nvPicPr>
        <p:blipFill>
          <a:blip r:embed="rId3"/>
          <a:stretch/>
        </p:blipFill>
        <p:spPr>
          <a:xfrm>
            <a:off x="250920" y="3933720"/>
            <a:ext cx="1476360" cy="10177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4" descr="slope"/>
          <p:cNvPicPr/>
          <p:nvPr/>
        </p:nvPicPr>
        <p:blipFill>
          <a:blip r:embed="rId4"/>
          <a:stretch/>
        </p:blipFill>
        <p:spPr>
          <a:xfrm>
            <a:off x="1692360" y="5013360"/>
            <a:ext cx="1511280" cy="1079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6" descr="landscape1"/>
          <p:cNvPicPr/>
          <p:nvPr/>
        </p:nvPicPr>
        <p:blipFill>
          <a:blip r:embed="rId5"/>
          <a:stretch/>
        </p:blipFill>
        <p:spPr>
          <a:xfrm>
            <a:off x="3276720" y="3933720"/>
            <a:ext cx="1511280" cy="108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8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ставитель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ебное пособие: Ю.Н.Гладкий, С.Б.Лавров «Экономическая и социальная география Мира», М.: «Просвещение» 2014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244440" y="201600"/>
            <a:ext cx="8955000" cy="11635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324000" y="1549440"/>
            <a:ext cx="882000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рриториальные и земельны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дные и гидроэнергетически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сны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еотермальны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гроклиматически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сурсы Мирового океа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9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креационны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Территориальные ресурсы мир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44956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рупнейшие страны ми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о площади территор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(млн. км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onstantia"/>
              </a:rPr>
              <a:t>Россия – 17,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анада – 10,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итай – 9,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ША – 9,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28120" indent="-5281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Бразилия – 8,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600200"/>
            <a:ext cx="449568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рупнейшие страны мир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по площади эффективно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территории (млн. км</a:t>
            </a:r>
            <a:r>
              <a:rPr b="0" i="1" lang="ru-RU" sz="2400" spc="-1" strike="noStrike" baseline="30000">
                <a:solidFill>
                  <a:srgbClr val="000000"/>
                </a:solidFill>
                <a:latin typeface="Constantia"/>
              </a:rPr>
              <a:t>2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Бразилия – 8,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США – 7,9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Австралия – 7,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Китай – 6,0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Constantia"/>
              </a:rPr>
              <a:t>Россия – 5,5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0" y="581976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Эффективная территор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– это территория страны, пригодная для хозяйственного осво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2" descr=""/>
          <p:cNvPicPr/>
          <p:nvPr/>
        </p:nvPicPr>
        <p:blipFill>
          <a:blip r:embed="rId1"/>
          <a:stretch/>
        </p:blipFill>
        <p:spPr>
          <a:xfrm>
            <a:off x="244440" y="-36360"/>
            <a:ext cx="8918640" cy="10602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900000" y="981000"/>
            <a:ext cx="7344000" cy="47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 е м е л ь н ы е     р е с у р с 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0" y="2060640"/>
            <a:ext cx="262728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ельскохозяйст-венные угодья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5487840" y="250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944080" y="2349360"/>
            <a:ext cx="826920" cy="4291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ес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3995640" y="2060640"/>
            <a:ext cx="2160720" cy="10994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аселённы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ункты,  дорог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6399000" y="2060640"/>
            <a:ext cx="2449800" cy="109944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алопригодны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непригодны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земл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0" y="3573360"/>
            <a:ext cx="140328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ш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 88 %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5882400" y="3716280"/>
            <a:ext cx="10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о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1476360" y="3573360"/>
            <a:ext cx="2735280" cy="7038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уга  и  пастбищ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 10 %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7885800" y="3645000"/>
            <a:ext cx="12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усты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6280200" y="481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ext Box 16"/>
          <p:cNvSpPr/>
          <p:nvPr/>
        </p:nvSpPr>
        <p:spPr>
          <a:xfrm>
            <a:off x="6899400" y="393372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дн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5" name="Object 18"/>
          <p:cNvGraphicFramePr/>
          <p:nvPr/>
        </p:nvGraphicFramePr>
        <p:xfrm>
          <a:off x="0" y="4437000"/>
          <a:ext cx="9010800" cy="16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6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37000"/>
                    <a:ext cx="901080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AutoShape 24"/>
          <p:cNvSpPr/>
          <p:nvPr/>
        </p:nvSpPr>
        <p:spPr>
          <a:xfrm>
            <a:off x="5076720" y="1484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AutoShape 25"/>
          <p:cNvSpPr/>
          <p:nvPr/>
        </p:nvSpPr>
        <p:spPr>
          <a:xfrm>
            <a:off x="147636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26"/>
          <p:cNvSpPr/>
          <p:nvPr/>
        </p:nvSpPr>
        <p:spPr>
          <a:xfrm>
            <a:off x="334800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27"/>
          <p:cNvSpPr/>
          <p:nvPr/>
        </p:nvSpPr>
        <p:spPr>
          <a:xfrm>
            <a:off x="7524720" y="148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AutoShape 28"/>
          <p:cNvSpPr/>
          <p:nvPr/>
        </p:nvSpPr>
        <p:spPr>
          <a:xfrm>
            <a:off x="539640" y="2924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AutoShape 29"/>
          <p:cNvSpPr/>
          <p:nvPr/>
        </p:nvSpPr>
        <p:spPr>
          <a:xfrm>
            <a:off x="2124000" y="292428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30"/>
          <p:cNvSpPr/>
          <p:nvPr/>
        </p:nvSpPr>
        <p:spPr>
          <a:xfrm>
            <a:off x="6588000" y="321300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AutoShape 31"/>
          <p:cNvSpPr/>
          <p:nvPr/>
        </p:nvSpPr>
        <p:spPr>
          <a:xfrm>
            <a:off x="7380360" y="342900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AutoShape 32"/>
          <p:cNvSpPr/>
          <p:nvPr/>
        </p:nvSpPr>
        <p:spPr>
          <a:xfrm>
            <a:off x="8459640" y="3213000"/>
            <a:ext cx="144720" cy="505080"/>
          </a:xfrm>
          <a:prstGeom prst="downArrow">
            <a:avLst>
              <a:gd name="adj1" fmla="val 50000"/>
              <a:gd name="adj2" fmla="val 87251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244440" y="298440"/>
            <a:ext cx="8918640" cy="10605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3"/>
          <p:cNvSpPr/>
          <p:nvPr/>
        </p:nvSpPr>
        <p:spPr>
          <a:xfrm>
            <a:off x="324000" y="148428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Object 4"/>
          <p:cNvGraphicFramePr/>
          <p:nvPr/>
        </p:nvGraphicFramePr>
        <p:xfrm>
          <a:off x="250920" y="2133720"/>
          <a:ext cx="8496360" cy="435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133720"/>
                    <a:ext cx="849636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5"/>
          <p:cNvSpPr/>
          <p:nvPr/>
        </p:nvSpPr>
        <p:spPr>
          <a:xfrm>
            <a:off x="684360" y="1341360"/>
            <a:ext cx="7321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Крупнейшие  страны  ми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  размерам  площади  пашн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4048200" y="6585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4617b"/>
                </a:solidFill>
                <a:latin typeface="Calibri"/>
              </a:rPr>
              <a:t>Земельные  ресурсы  мира</a:t>
            </a:r>
            <a:endParaRPr b="0" lang="en-US" sz="4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8360" y="1125000"/>
            <a:ext cx="822960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менение  земельного  фон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2375640" y="1844640"/>
            <a:ext cx="39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ва  противоположных  процес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2997360"/>
            <a:ext cx="387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шир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льскохозяйственных  угод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076720" y="299736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тощ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ельскохозяйственных  угод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0" y="4292640"/>
            <a:ext cx="42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воение  залежных  земел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лиорац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уш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ош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воение  прибрежных      участков  мор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1865160" y="2492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6732720" y="1989000"/>
            <a:ext cx="58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Verdana"/>
              </a:rPr>
              <a:t>_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6280200" y="517212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5799600" y="4444920"/>
            <a:ext cx="2745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эрозия  почв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болачива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засоле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9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опустынивание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343440" y="6435720"/>
            <a:ext cx="832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66"/>
                </a:solidFill>
                <a:latin typeface="Verdana"/>
              </a:rPr>
              <a:t>Внимание опасность</a:t>
            </a:r>
            <a:r>
              <a:rPr b="1" i="1" lang="ru-RU" sz="2000" spc="-1" strike="noStrike">
                <a:solidFill>
                  <a:srgbClr val="ff0066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Verdana"/>
              </a:rPr>
              <a:t>земельные ресурсы мира сокращаются</a:t>
            </a:r>
            <a:r>
              <a:rPr b="0" lang="ru-RU" sz="1800" spc="-1" strike="noStrike">
                <a:solidFill>
                  <a:srgbClr val="04617b"/>
                </a:solidFill>
                <a:latin typeface="Verdana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32" dur="1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244440" y="201600"/>
            <a:ext cx="8955000" cy="11635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324000" y="154944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2196000" y="1341360"/>
            <a:ext cx="4707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Лесные  пояса  мира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77280" y="2276640"/>
            <a:ext cx="392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еверный  лесной  пояс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4893480" y="2276640"/>
            <a:ext cx="35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Южный  лесной  пояс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703800" y="5013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еса  умеренного  поя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716360" y="494172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лажные  экваториальны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 переменно-влажные  лес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1622880" y="5589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50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6159960" y="5589720"/>
            <a:ext cx="889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50 %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12"/>
          <p:cNvSpPr/>
          <p:nvPr/>
        </p:nvSpPr>
        <p:spPr>
          <a:xfrm>
            <a:off x="2771640" y="1916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AutoShape 13"/>
          <p:cNvSpPr/>
          <p:nvPr/>
        </p:nvSpPr>
        <p:spPr>
          <a:xfrm>
            <a:off x="6084720" y="1916280"/>
            <a:ext cx="144720" cy="504720"/>
          </a:xfrm>
          <a:prstGeom prst="downArrow">
            <a:avLst>
              <a:gd name="adj1" fmla="val 50000"/>
              <a:gd name="adj2" fmla="val 87189"/>
            </a:avLst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18" descr="jungle"/>
          <p:cNvPicPr/>
          <p:nvPr/>
        </p:nvPicPr>
        <p:blipFill>
          <a:blip r:embed="rId2"/>
          <a:stretch/>
        </p:blipFill>
        <p:spPr>
          <a:xfrm>
            <a:off x="5076720" y="2781360"/>
            <a:ext cx="3341880" cy="22366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9" descr="taiga"/>
          <p:cNvPicPr/>
          <p:nvPr/>
        </p:nvPicPr>
        <p:blipFill>
          <a:blip r:embed="rId3"/>
          <a:stretch/>
        </p:blipFill>
        <p:spPr>
          <a:xfrm>
            <a:off x="971640" y="2708280"/>
            <a:ext cx="2244600" cy="236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есные  ресурсы  ми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1052280"/>
            <a:ext cx="478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Крупнейшие  страны  мир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о  площади   лесов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( млн.  га</a:t>
            </a:r>
            <a:r>
              <a:rPr b="0" lang="ru-RU" sz="2200" spc="-1" strike="noStrike" baseline="30000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648320" y="105228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Лесистость  территории  по  регионам  мир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( % 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324000" y="1268280"/>
            <a:ext cx="8820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0" name="Object 8"/>
          <p:cNvGraphicFramePr/>
          <p:nvPr/>
        </p:nvGraphicFramePr>
        <p:xfrm>
          <a:off x="571680" y="2919240"/>
          <a:ext cx="3495600" cy="25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919240"/>
                    <a:ext cx="349560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9"/>
          <p:cNvGraphicFramePr/>
          <p:nvPr/>
        </p:nvGraphicFramePr>
        <p:xfrm>
          <a:off x="0" y="2492280"/>
          <a:ext cx="4500720" cy="347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492280"/>
                    <a:ext cx="4500720" cy="34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11"/>
          <p:cNvGraphicFramePr/>
          <p:nvPr/>
        </p:nvGraphicFramePr>
        <p:xfrm>
          <a:off x="4643280" y="2492280"/>
          <a:ext cx="4500720" cy="331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3280" y="2492280"/>
                    <a:ext cx="450072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Лесные  ресурсы  мир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99640" y="1197000"/>
            <a:ext cx="74026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блемы  использова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2111400" y="522936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кращение  площади  ле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250920" y="3789360"/>
            <a:ext cx="3527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Нерациональное  использование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лесных  ресурс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427640" y="3789360"/>
            <a:ext cx="471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50 %  вырубленного  лес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  развивающихся  страна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дёт  на  дров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307880" y="5950080"/>
            <a:ext cx="69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а  обезлесения планеты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539640" y="2133720"/>
            <a:ext cx="272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громные  масштаб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вырубки  лесов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832200" y="2651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10"/>
          <p:cNvSpPr/>
          <p:nvPr/>
        </p:nvSpPr>
        <p:spPr>
          <a:xfrm>
            <a:off x="3797280" y="2133720"/>
            <a:ext cx="520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тсутствие  лесовосстановительны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бот  в  Росси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 в  развивающихся  странах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AutoShape 12"/>
          <p:cNvSpPr/>
          <p:nvPr/>
        </p:nvSpPr>
        <p:spPr>
          <a:xfrm>
            <a:off x="1692360" y="328464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AutoShape 13"/>
          <p:cNvSpPr/>
          <p:nvPr/>
        </p:nvSpPr>
        <p:spPr>
          <a:xfrm>
            <a:off x="2556000" y="4869000"/>
            <a:ext cx="144360" cy="504720"/>
          </a:xfrm>
          <a:prstGeom prst="downArrow">
            <a:avLst>
              <a:gd name="adj1" fmla="val 50000"/>
              <a:gd name="adj2" fmla="val 87406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15"/>
          <p:cNvSpPr/>
          <p:nvPr/>
        </p:nvSpPr>
        <p:spPr>
          <a:xfrm rot="2700000">
            <a:off x="3562920" y="3213720"/>
            <a:ext cx="109800" cy="828720"/>
          </a:xfrm>
          <a:prstGeom prst="downArrow">
            <a:avLst>
              <a:gd name="adj1" fmla="val 50000"/>
              <a:gd name="adj2" fmla="val 18868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AutoShape 16"/>
          <p:cNvSpPr/>
          <p:nvPr/>
        </p:nvSpPr>
        <p:spPr>
          <a:xfrm rot="5400000">
            <a:off x="3994560" y="3861360"/>
            <a:ext cx="109800" cy="828720"/>
          </a:xfrm>
          <a:prstGeom prst="downArrow">
            <a:avLst>
              <a:gd name="adj1" fmla="val 50000"/>
              <a:gd name="adj2" fmla="val 188689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16:50:59Z</dcterms:created>
  <dc:creator>JULIA</dc:creator>
  <dc:description/>
  <dc:language>en-US</dc:language>
  <cp:lastModifiedBy>Марина Суханова</cp:lastModifiedBy>
  <dcterms:modified xsi:type="dcterms:W3CDTF">2015-10-27T09:32:50Z</dcterms:modified>
  <cp:revision>137</cp:revision>
  <dc:subject/>
  <dc:title>ГЕОГРАФИЯ ПРИРОДНЫХ РЕСУРСОВ МИРА</dc:title>
</cp:coreProperties>
</file>