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D33-F9F9-46E6-B055-DB07A4AE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661-C8E8-475B-B729-3775E730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219-3952-46A1-912E-094FACB2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9322-0A37-438B-B017-F8253625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4734-D4C2-43AB-963D-0E2C298DF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D2D9-7892-435F-B4C0-6171C505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BB1D-99BC-45C6-9EA9-07842C21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DC8C-8CBE-454C-AD98-508B8EA5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BC7C-E79D-406B-8220-03C0D81A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0D2C-A04C-4176-AE6A-D95490C9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4836-793A-4C16-BDA0-B1706F86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9EB-4DBF-4C73-ACE4-157F9E9F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678B-3E2D-42D6-9BBE-0EA9BEC8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A644-AD8F-4EE3-AA6A-E2CA1525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8B44-5309-40B7-ADBE-5439CCA4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222D-32FC-4AFC-BCF7-766303AC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E6E4-B675-41CC-99AD-08688CDB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A08B5-21D8-4EC2-A80E-4FBF9CCC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827A4-A57E-4393-A203-75B2ED6A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447D-38AE-4F19-A79D-8E947161E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07F0-7F9D-42B4-B4CD-9FD71E17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DC47C-3004-45A6-AE9A-08156047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123-30CE-4EA6-8F91-1F06330B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B63B-FF3E-4208-893A-0E897CA5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98792-A5DB-4893-B981-FB5A6C1E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A6C73-FF8F-4374-AAA8-85AEB578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E4A2-59EA-4CE2-B109-777AB3AFA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858FA-55AB-43D5-8790-EDEC480FF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DB8DA-82C9-47E3-8898-E968DCB0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A578-C718-475B-857F-3AFBC13D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730C7-732D-4C58-9733-051AFDAFE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7BCB-163C-4897-8E0E-CDDE728E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EDD48-7FB3-4DC1-9E39-79387E6F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014-63D9-4978-99EB-1FAF87EE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BFF5B-A039-4F7A-A644-CA22004E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7A946-EDAA-4440-9A44-C90556BE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67307-96CA-46EB-B57B-0FAFC2418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FA30-F94B-40C2-97D2-32A1BAC9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379DC-E18E-4C74-8B7C-66669958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95647-A015-4F85-BE3D-6694FCFE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1E659-043E-4F6E-91D9-9F55AE3B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07225-5E90-4CAC-B9BA-7F0717A2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305B8-22FF-4277-B23F-DA32B1E1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303F2-EAB1-4FD5-94E7-5D58BD58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3C3-07F7-415D-936F-08B73FA3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E2334-5E75-454E-9A10-ED3F879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9F379-CA27-457E-B8DE-E152818A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87A23-4122-419B-9CC5-B3BD824D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DA4FB-7CBF-4687-B8CD-5DED9F43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3A540-5690-48E5-85D2-9D4658BC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BDC9F-EED0-463E-8EAE-F0AC46B7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F4E0C-BDAD-4E0D-8112-D9195153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D786D-BE0B-4674-AF82-4CA6071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1E745-86A1-4286-8404-166CD642F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6020-93A9-478E-AD85-6DF615977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5617-9263-46FC-8BE6-8C3242A1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2331-CF0E-4FAA-9DF3-B4A217E4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9F9A5-FBDF-4679-A8CD-7D1F73ABA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B905-A94E-42D5-9C2B-87D7CE7E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F56B4-8E0C-48DC-B44A-F7C909DD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32CE4-E035-4A0F-B59C-C34228FC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A7CFC-DD24-4D79-BDBD-BFCAA34D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EDB7C-0FBA-49E4-BA32-00436516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F4CFF-D97C-445E-B632-4F29005A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681C3-4189-417B-A2B7-AD2C3393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58EEE-E30C-42A2-84EA-53C92D32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98E-B45E-4BE5-B71F-DF29BFA4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40AD3-EEC6-43BA-ADF0-13F6985C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09F3-0454-4530-BA55-3E5B4E54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06FF2-671F-48FE-9988-B2B50FB8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12EF8-B776-4D52-8027-561B3686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E9F65-7E61-4DE0-A202-450C7D4F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01ED0-A765-4FE1-8B9F-A2A03035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35EC7-365B-4748-AB27-C203BC6C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7F6AF-C701-4BF8-BBCB-A589AB50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4ACE8-B5D3-4B2E-8A98-0934927B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E9EA4-A6CB-451C-B241-DA2AB16C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EB5-7ED8-4189-AF05-A9E251AA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769EE-3EA6-4306-B2AC-ADB1B916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30666-0622-42D8-A1C2-7DDE6212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7ACB0-B667-4AAA-9D61-F271BC76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80F5B-09DD-4130-95DA-EEBA8C37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87583-EAFE-4647-A470-1EA648CA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844-A4C3-4424-A097-A0F47460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D201-5900-4A2E-AD06-D8B95D4C319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1574-5DCD-4664-9A25-0E18844E181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35CA-B089-442D-8858-5AB4229BEE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A96-169D-4E3E-86F5-16654AD23E7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2750-6255-484F-BD5C-7F7AA0D0C54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9555-30ED-4DCE-AFCB-2195FD3B63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064F2-8DE4-482B-A220-FA8FA5544E5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642600"/>
            <a:ext cx="7416720" cy="24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«Растем крепкими 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и здоровыми »</a:t>
            </a:r>
            <a:br>
              <a:rPr sz="4800"/>
            </a:br>
            <a:r>
              <a:rPr b="1" i="1" lang="ru-RU" sz="4800" spc="-1" strike="noStrike">
                <a:solidFill>
                  <a:srgbClr val="c00000"/>
                </a:solidFill>
                <a:latin typeface="Georgia"/>
              </a:rPr>
              <a:t>проект 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071680" y="5013000"/>
            <a:ext cx="3747960" cy="10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6600cc"/>
                </a:solidFill>
                <a:latin typeface="Georgia"/>
              </a:rPr>
              <a:t>Детский сад «Колосок»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2700360" y="6237360"/>
            <a:ext cx="360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0" y="630864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cc"/>
                </a:solidFill>
                <a:latin typeface="Georgia"/>
              </a:rPr>
              <a:t>Г.Болга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8"/>
          <p:cNvSpPr/>
          <p:nvPr/>
        </p:nvSpPr>
        <p:spPr>
          <a:xfrm>
            <a:off x="179280" y="2060640"/>
            <a:ext cx="0" cy="4537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Line 11"/>
          <p:cNvSpPr/>
          <p:nvPr/>
        </p:nvSpPr>
        <p:spPr>
          <a:xfrm flipH="1">
            <a:off x="179280" y="6597720"/>
            <a:ext cx="3456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12"/>
          <p:cNvSpPr/>
          <p:nvPr/>
        </p:nvSpPr>
        <p:spPr>
          <a:xfrm>
            <a:off x="395280" y="3068640"/>
            <a:ext cx="0" cy="3313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13"/>
          <p:cNvSpPr/>
          <p:nvPr/>
        </p:nvSpPr>
        <p:spPr>
          <a:xfrm>
            <a:off x="395280" y="6381720"/>
            <a:ext cx="2592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Line 14"/>
          <p:cNvSpPr/>
          <p:nvPr/>
        </p:nvSpPr>
        <p:spPr>
          <a:xfrm>
            <a:off x="8964720" y="260280"/>
            <a:ext cx="0" cy="4537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Line 15"/>
          <p:cNvSpPr/>
          <p:nvPr/>
        </p:nvSpPr>
        <p:spPr>
          <a:xfrm>
            <a:off x="4643280" y="260280"/>
            <a:ext cx="432144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Рисунок 17" descr="IMG_2663.JPG"/>
          <p:cNvPicPr/>
          <p:nvPr/>
        </p:nvPicPr>
        <p:blipFill>
          <a:blip r:embed="rId1"/>
          <a:stretch/>
        </p:blipFill>
        <p:spPr>
          <a:xfrm>
            <a:off x="573120" y="3359160"/>
            <a:ext cx="4138560" cy="28591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237360" cy="4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</a:rPr>
              <a:t>Формы предоставления результатов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4360" y="1988640"/>
            <a:ext cx="6146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1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Сборник дидактических иг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2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Сборник пальчиковых игр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3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Сборник логоритмических упражн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4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Тематическая подборк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художественной литерату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5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Консультации для родителе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6.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 Консультации для педагогов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7.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 Рабочая программа «Растем крепкими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и здоровыми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imes New Roman"/>
              </a:rPr>
              <a:t>8.</a:t>
            </a:r>
            <a:r>
              <a:rPr b="0" i="1" lang="en-US" sz="2400" spc="-1" strike="noStrike">
                <a:solidFill>
                  <a:srgbClr val="9900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Фотоальбом «Здоровый образ жизни»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867564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3779640" y="6668640"/>
            <a:ext cx="518292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896472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500364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179280" y="189000"/>
            <a:ext cx="0" cy="27352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Line 12"/>
          <p:cNvSpPr/>
          <p:nvPr/>
        </p:nvSpPr>
        <p:spPr>
          <a:xfrm flipH="1">
            <a:off x="395280" y="476280"/>
            <a:ext cx="79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395280" y="476280"/>
            <a:ext cx="0" cy="1657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179280" y="189000"/>
            <a:ext cx="1584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20000"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3" descr="IMG_2661.JPG"/>
          <p:cNvPicPr/>
          <p:nvPr/>
        </p:nvPicPr>
        <p:blipFill>
          <a:blip r:embed="rId1"/>
          <a:stretch/>
        </p:blipFill>
        <p:spPr>
          <a:xfrm>
            <a:off x="1971720" y="1643040"/>
            <a:ext cx="6458040" cy="47149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Утренняя гимнаст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Рисунок 3" descr="100_2058.JPG"/>
          <p:cNvPicPr/>
          <p:nvPr/>
        </p:nvPicPr>
        <p:blipFill>
          <a:blip r:embed="rId1"/>
          <a:stretch/>
        </p:blipFill>
        <p:spPr>
          <a:xfrm>
            <a:off x="1428840" y="1928880"/>
            <a:ext cx="3714840" cy="4564080"/>
          </a:xfrm>
          <a:prstGeom prst="rect">
            <a:avLst/>
          </a:prstGeom>
          <a:ln w="0">
            <a:noFill/>
          </a:ln>
        </p:spPr>
      </p:pic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Гимнастика после сн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5" name="Рисунок 5" descr="100_2069.JPG"/>
          <p:cNvPicPr/>
          <p:nvPr/>
        </p:nvPicPr>
        <p:blipFill>
          <a:blip r:embed="rId2"/>
          <a:stretch/>
        </p:blipFill>
        <p:spPr>
          <a:xfrm>
            <a:off x="5286240" y="1928880"/>
            <a:ext cx="337032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Дневной сон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7" name="Рисунок 4" descr="100_2048.JPG"/>
          <p:cNvPicPr/>
          <p:nvPr/>
        </p:nvPicPr>
        <p:blipFill>
          <a:blip r:embed="rId1"/>
          <a:stretch/>
        </p:blipFill>
        <p:spPr>
          <a:xfrm>
            <a:off x="487440" y="2500200"/>
            <a:ext cx="4370400" cy="3992760"/>
          </a:xfrm>
          <a:prstGeom prst="rect">
            <a:avLst/>
          </a:prstGeom>
          <a:ln w="0">
            <a:noFill/>
          </a:ln>
        </p:spPr>
      </p:pic>
      <p:pic>
        <p:nvPicPr>
          <p:cNvPr id="428" name="Рисунок 5" descr="100_2051.JPG"/>
          <p:cNvPicPr/>
          <p:nvPr/>
        </p:nvPicPr>
        <p:blipFill>
          <a:blip r:embed="rId2"/>
          <a:stretch/>
        </p:blipFill>
        <p:spPr>
          <a:xfrm>
            <a:off x="5143680" y="2500200"/>
            <a:ext cx="351288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Georgia"/>
              </a:rPr>
              <a:t>Умывание перед едой и полоскание рт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Рисунок 2" descr="100_2075.JPG"/>
          <p:cNvPicPr/>
          <p:nvPr/>
        </p:nvPicPr>
        <p:blipFill>
          <a:blip r:embed="rId1"/>
          <a:stretch/>
        </p:blipFill>
        <p:spPr>
          <a:xfrm>
            <a:off x="4071960" y="2286000"/>
            <a:ext cx="4441680" cy="413532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3" descr="IMG_2672.JPG"/>
          <p:cNvPicPr/>
          <p:nvPr/>
        </p:nvPicPr>
        <p:blipFill>
          <a:blip r:embed="rId2"/>
          <a:stretch/>
        </p:blipFill>
        <p:spPr>
          <a:xfrm>
            <a:off x="785880" y="1643040"/>
            <a:ext cx="520200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Труд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3" name="Рисунок 4" descr="IMG_2681.JPG"/>
          <p:cNvPicPr/>
          <p:nvPr/>
        </p:nvPicPr>
        <p:blipFill>
          <a:blip r:embed="rId1"/>
          <a:stretch/>
        </p:blipFill>
        <p:spPr>
          <a:xfrm>
            <a:off x="3500280" y="27147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5" descr="IMG_2677.JPG"/>
          <p:cNvPicPr/>
          <p:nvPr/>
        </p:nvPicPr>
        <p:blipFill>
          <a:blip r:embed="rId2"/>
          <a:stretch/>
        </p:blipFill>
        <p:spPr>
          <a:xfrm>
            <a:off x="571680" y="1571760"/>
            <a:ext cx="447660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6" name="Рисунок 2" descr="IMG_2683.JPG"/>
          <p:cNvPicPr/>
          <p:nvPr/>
        </p:nvPicPr>
        <p:blipFill>
          <a:blip r:embed="rId1"/>
          <a:stretch/>
        </p:blipFill>
        <p:spPr>
          <a:xfrm>
            <a:off x="1971720" y="1477800"/>
            <a:ext cx="6386400" cy="50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8" name="Рисунок 3" descr="IMG_2670.JPG"/>
          <p:cNvPicPr/>
          <p:nvPr/>
        </p:nvPicPr>
        <p:blipFill>
          <a:blip r:embed="rId1"/>
          <a:stretch/>
        </p:blipFill>
        <p:spPr>
          <a:xfrm>
            <a:off x="4572000" y="1928880"/>
            <a:ext cx="4071960" cy="468792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4" descr="IMG_2657.JPG"/>
          <p:cNvPicPr/>
          <p:nvPr/>
        </p:nvPicPr>
        <p:blipFill>
          <a:blip r:embed="rId2"/>
          <a:stretch/>
        </p:blipFill>
        <p:spPr>
          <a:xfrm>
            <a:off x="500040" y="1928880"/>
            <a:ext cx="390204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1" name="Рисунок 3" descr="CIMG2424.JPG"/>
          <p:cNvPicPr/>
          <p:nvPr/>
        </p:nvPicPr>
        <p:blipFill>
          <a:blip r:embed="rId1"/>
          <a:stretch/>
        </p:blipFill>
        <p:spPr>
          <a:xfrm>
            <a:off x="1785960" y="1857240"/>
            <a:ext cx="6572160" cy="46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Музы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3" name="Рисунок 2" descr="CIMG1778.JPG"/>
          <p:cNvPicPr/>
          <p:nvPr/>
        </p:nvPicPr>
        <p:blipFill>
          <a:blip r:embed="rId1"/>
          <a:stretch/>
        </p:blipFill>
        <p:spPr>
          <a:xfrm>
            <a:off x="1071720" y="1500120"/>
            <a:ext cx="756432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280" y="475920"/>
            <a:ext cx="799164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eorgia"/>
              </a:rPr>
              <a:t>Актуальность темы</a:t>
            </a:r>
            <a:r>
              <a:rPr b="0" i="1" lang="en-US" sz="4300" spc="-1" strike="noStrike" u="sng">
                <a:solidFill>
                  <a:srgbClr val="c00000"/>
                </a:solidFill>
                <a:uFillTx/>
                <a:latin typeface="Georgia"/>
              </a:rPr>
              <a:t>: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755280" y="1557360"/>
            <a:ext cx="698508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Проблема воспитания личной заинтересованности каждого человека в здоровом образе жизни в последние годы является особенно актуальной в связи с негативной тенденцией к ухудшению состояния здоровья всех социально-демографических групп населения России и особенно детей дошкольного и школьного возраста. Ее решение требует активного осмысленного отношения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к своему здоровью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и укреплению его с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eorgia"/>
              </a:rPr>
              <a:t>детских ле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Line 10"/>
          <p:cNvSpPr/>
          <p:nvPr/>
        </p:nvSpPr>
        <p:spPr>
          <a:xfrm>
            <a:off x="179280" y="2060640"/>
            <a:ext cx="0" cy="4537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Line 11"/>
          <p:cNvSpPr/>
          <p:nvPr/>
        </p:nvSpPr>
        <p:spPr>
          <a:xfrm flipH="1">
            <a:off x="179280" y="6597720"/>
            <a:ext cx="3456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Line 12"/>
          <p:cNvSpPr/>
          <p:nvPr/>
        </p:nvSpPr>
        <p:spPr>
          <a:xfrm>
            <a:off x="395280" y="3068640"/>
            <a:ext cx="0" cy="33130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Line 13"/>
          <p:cNvSpPr/>
          <p:nvPr/>
        </p:nvSpPr>
        <p:spPr>
          <a:xfrm>
            <a:off x="395280" y="6381720"/>
            <a:ext cx="2592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30000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Гимнастика для глаз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5" name="Рисунок 2" descr="100_2073.JPG"/>
          <p:cNvPicPr/>
          <p:nvPr/>
        </p:nvPicPr>
        <p:blipFill>
          <a:blip r:embed="rId1"/>
          <a:stretch/>
        </p:blipFill>
        <p:spPr>
          <a:xfrm>
            <a:off x="1500120" y="1785960"/>
            <a:ext cx="6786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7" name="Рисунок 3" descr="IMG_2667.JPG"/>
          <p:cNvPicPr/>
          <p:nvPr/>
        </p:nvPicPr>
        <p:blipFill>
          <a:blip r:embed="rId1"/>
          <a:stretch/>
        </p:blipFill>
        <p:spPr>
          <a:xfrm>
            <a:off x="1714680" y="1571760"/>
            <a:ext cx="6643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c00000"/>
                </a:solidFill>
                <a:uFillTx/>
                <a:latin typeface="Georgia"/>
              </a:rPr>
              <a:t>Коммуникац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9" name="Рисунок 2" descr="100_2078.JPG"/>
          <p:cNvPicPr/>
          <p:nvPr/>
        </p:nvPicPr>
        <p:blipFill>
          <a:blip r:embed="rId1"/>
          <a:stretch/>
        </p:blipFill>
        <p:spPr>
          <a:xfrm>
            <a:off x="285840" y="3143160"/>
            <a:ext cx="4357440" cy="349560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3" descr="IMG_2660.JPG"/>
          <p:cNvPicPr/>
          <p:nvPr/>
        </p:nvPicPr>
        <p:blipFill>
          <a:blip r:embed="rId2"/>
          <a:stretch/>
        </p:blipFill>
        <p:spPr>
          <a:xfrm>
            <a:off x="4143240" y="1785960"/>
            <a:ext cx="423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00000"/>
                </a:solidFill>
                <a:uFillTx/>
                <a:latin typeface="Georgia"/>
              </a:rPr>
              <a:t>Свободная деятельность детей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52" name="Рисунок 2" descr="CIMG2450.JPG"/>
          <p:cNvPicPr/>
          <p:nvPr/>
        </p:nvPicPr>
        <p:blipFill>
          <a:blip r:embed="rId1"/>
          <a:stretch/>
        </p:blipFill>
        <p:spPr>
          <a:xfrm>
            <a:off x="1071720" y="1857240"/>
            <a:ext cx="2786040" cy="221472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3" descr="IMG_2573.JPG"/>
          <p:cNvPicPr/>
          <p:nvPr/>
        </p:nvPicPr>
        <p:blipFill>
          <a:blip r:embed="rId2"/>
          <a:stretch/>
        </p:blipFill>
        <p:spPr>
          <a:xfrm>
            <a:off x="4071960" y="185724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4" descr="IMG_2363.JPG"/>
          <p:cNvPicPr/>
          <p:nvPr/>
        </p:nvPicPr>
        <p:blipFill>
          <a:blip r:embed="rId3"/>
          <a:stretch/>
        </p:blipFill>
        <p:spPr>
          <a:xfrm>
            <a:off x="1143000" y="4214880"/>
            <a:ext cx="27860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WordArt 14"/>
          <p:cNvSpPr txBox="1"/>
          <p:nvPr/>
        </p:nvSpPr>
        <p:spPr>
          <a:xfrm>
            <a:off x="1763640" y="3071880"/>
            <a:ext cx="6553440" cy="15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5eaeff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Спасибо </a:t>
            </a:r>
            <a:endParaRPr b="1" i="1" lang="en-US" sz="1600" spc="1" strike="noStrike">
              <a:ln w="12600">
                <a:solidFill>
                  <a:srgbClr val="5eaeff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12600">
                  <a:solidFill>
                    <a:srgbClr val="5eaeff"/>
                  </a:solidFill>
                  <a:miter/>
                </a:ln>
                <a:solidFill>
                  <a:srgbClr val="66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Georgia"/>
              </a:rPr>
              <a:t>за внимание!</a:t>
            </a:r>
            <a:endParaRPr b="1" i="1" lang="en-US" sz="1600" spc="1" strike="noStrike">
              <a:ln w="12600">
                <a:solidFill>
                  <a:srgbClr val="5eaeff"/>
                </a:solidFill>
                <a:miter/>
              </a:ln>
              <a:solidFill>
                <a:srgbClr val="66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Line 21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advTm="3000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53360" cy="74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 u="sng">
                <a:solidFill>
                  <a:srgbClr val="c00000"/>
                </a:solidFill>
                <a:uFillTx/>
                <a:latin typeface="Georgia"/>
              </a:rPr>
              <a:t>Цель проекта</a:t>
            </a:r>
            <a:r>
              <a:rPr b="0" i="1" lang="en-US" sz="4300" spc="-1" strike="noStrike" u="sng">
                <a:solidFill>
                  <a:srgbClr val="c00000"/>
                </a:solidFill>
                <a:uFillTx/>
                <a:latin typeface="Georgia"/>
              </a:rPr>
              <a:t>: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899640" y="1915920"/>
            <a:ext cx="7417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9900cc"/>
                </a:solidFill>
                <a:latin typeface="Georgia"/>
              </a:rPr>
              <a:t>Формирование у детей стойкой установки на здоровый образ жизни и овладение правильными формами поведения в различных жизненных ситуациях. 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Line 6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Line 7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Line 8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Line 9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Line 10"/>
          <p:cNvSpPr/>
          <p:nvPr/>
        </p:nvSpPr>
        <p:spPr>
          <a:xfrm>
            <a:off x="179280" y="189000"/>
            <a:ext cx="0" cy="27352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Line 11"/>
          <p:cNvSpPr/>
          <p:nvPr/>
        </p:nvSpPr>
        <p:spPr>
          <a:xfrm flipH="1">
            <a:off x="395280" y="476280"/>
            <a:ext cx="79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395280" y="476280"/>
            <a:ext cx="0" cy="1657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Line 13"/>
          <p:cNvSpPr/>
          <p:nvPr/>
        </p:nvSpPr>
        <p:spPr>
          <a:xfrm>
            <a:off x="179280" y="189000"/>
            <a:ext cx="1584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00000"/>
                </a:solidFill>
                <a:latin typeface="Georgia"/>
              </a:rPr>
              <a:t>Задачи проекта</a:t>
            </a:r>
            <a:r>
              <a:rPr b="0" i="1" lang="en-US" sz="4400" spc="-1" strike="noStrike">
                <a:solidFill>
                  <a:srgbClr val="c00000"/>
                </a:solidFill>
                <a:latin typeface="Georgi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323640" y="1196640"/>
            <a:ext cx="81356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Укрепить жизнеспособности детского организма через воспитание навыков самообслуживания, культурно-гигиенических навыков, привить укрепляющие здоровье потребности и расширить возможности их практической реализ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Формировать представления о физических потребностях своего организма, адекватных способах их удовлетвор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9900cc"/>
                </a:solidFill>
                <a:latin typeface="Times New Roman"/>
              </a:rPr>
              <a:t>Воспитать практические навыки и приемы,                                       направленные на сохранение и укрепление здоровья в                                                  повседневной жизни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Rectangle 73"/>
          <p:cNvSpPr/>
          <p:nvPr/>
        </p:nvSpPr>
        <p:spPr>
          <a:xfrm>
            <a:off x="3571920" y="4724280"/>
            <a:ext cx="4816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cc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cc"/>
                </a:solidFill>
                <a:latin typeface="Times New Roman"/>
              </a:rPr>
              <a:t>Создать условия для формирования социальных навыков и норм поведения на основе совместной деятельности с родителями и взаимной помощ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Line 78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Line 79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Line 80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Line 81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25160" y="195120"/>
            <a:ext cx="8434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бразовательная область 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ПОЗНАНИЕ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интегрирует со следующими образовательными областями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                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Georgia"/>
                <a:ea typeface="Times New Roman"/>
              </a:rPr>
              <a:t>ПОЗНАНИ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МУНИКАЦ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ЧТЕНИЕ ХУДОЖЕСТВЕННОЙ ЛИТЕРАТУР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ФОРМИРОВАНИЕ ЦЕЛОСТНОЙ КАРТИНЫ МИР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ХУДОЖЕСТВЕННОЕ ТВОРЧЕСТВ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УД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БЕЗОПАСНОСТЬ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4"/>
          <p:cNvSpPr/>
          <p:nvPr/>
        </p:nvSpPr>
        <p:spPr>
          <a:xfrm>
            <a:off x="3230640" y="2243160"/>
            <a:ext cx="2736720" cy="2116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5484d1"/>
              </a:gs>
            </a:gsLst>
            <a:lin ang="5400000"/>
          </a:gradFill>
          <a:ln w="9360">
            <a:solidFill>
              <a:srgbClr val="4584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ЕАЛИЗАЦИИ ПРОЕКТА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Овал 5"/>
          <p:cNvSpPr/>
          <p:nvPr/>
        </p:nvSpPr>
        <p:spPr>
          <a:xfrm>
            <a:off x="179280" y="1341360"/>
            <a:ext cx="2808360" cy="1656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Я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ционные игры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Овал 6"/>
          <p:cNvSpPr/>
          <p:nvPr/>
        </p:nvSpPr>
        <p:spPr>
          <a:xfrm>
            <a:off x="5364000" y="681120"/>
            <a:ext cx="3456000" cy="1800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, пересказ, заучивание стихов, сочинение сказок, обсуждение пословиц и поговоро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Овал 8"/>
          <p:cNvSpPr/>
          <p:nvPr/>
        </p:nvSpPr>
        <p:spPr>
          <a:xfrm>
            <a:off x="6156360" y="2781360"/>
            <a:ext cx="2808360" cy="158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ЦЕЛОСТНОЙ КАРТИНЫ МИРА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, опыты с водой , снегом, льд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Овал 9"/>
          <p:cNvSpPr/>
          <p:nvPr/>
        </p:nvSpPr>
        <p:spPr>
          <a:xfrm>
            <a:off x="179280" y="3159000"/>
            <a:ext cx="2808360" cy="158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ОСТЬ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уждение проблемных ситуаций и правил безопасного поведения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Овал 10"/>
          <p:cNvSpPr/>
          <p:nvPr/>
        </p:nvSpPr>
        <p:spPr>
          <a:xfrm>
            <a:off x="1930320" y="4797360"/>
            <a:ext cx="2928960" cy="1511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ДЕЯТЕЛЬНОСТЬ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песен и танцев, слушание музы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Овал 11"/>
          <p:cNvSpPr/>
          <p:nvPr/>
        </p:nvSpPr>
        <p:spPr>
          <a:xfrm>
            <a:off x="5219640" y="4581360"/>
            <a:ext cx="2881440" cy="15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ОЕ ТВОРЧЕСТВО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, аппликация, ручной тру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Овал 14"/>
          <p:cNvSpPr/>
          <p:nvPr/>
        </p:nvSpPr>
        <p:spPr>
          <a:xfrm flipH="1">
            <a:off x="2554200" y="404640"/>
            <a:ext cx="2665440" cy="151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a5cf48"/>
              </a:gs>
            </a:gsLst>
            <a:lin ang="5400000"/>
          </a:gradFill>
          <a:ln w="9360">
            <a:solidFill>
              <a:srgbClr val="a5d0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Прямая соединительная линия 16"/>
          <p:cNvSpPr/>
          <p:nvPr/>
        </p:nvSpPr>
        <p:spPr>
          <a:xfrm>
            <a:off x="4067280" y="1916280"/>
            <a:ext cx="144360" cy="3603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Прямая соединительная линия 20"/>
          <p:cNvSpPr/>
          <p:nvPr/>
        </p:nvSpPr>
        <p:spPr>
          <a:xfrm>
            <a:off x="2843280" y="2481120"/>
            <a:ext cx="552240" cy="30024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Прямая соединительная линия 26"/>
          <p:cNvSpPr/>
          <p:nvPr/>
        </p:nvSpPr>
        <p:spPr>
          <a:xfrm>
            <a:off x="5364000" y="4149720"/>
            <a:ext cx="432000" cy="57456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Прямая соединительная линия 33"/>
          <p:cNvSpPr/>
          <p:nvPr/>
        </p:nvSpPr>
        <p:spPr>
          <a:xfrm flipH="1">
            <a:off x="5565240" y="2216160"/>
            <a:ext cx="304920" cy="33660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Прямая соединительная линия 38"/>
          <p:cNvSpPr/>
          <p:nvPr/>
        </p:nvSpPr>
        <p:spPr>
          <a:xfrm>
            <a:off x="5967360" y="3429000"/>
            <a:ext cx="189000" cy="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Прямая соединительная линия 40"/>
          <p:cNvSpPr/>
          <p:nvPr/>
        </p:nvSpPr>
        <p:spPr>
          <a:xfrm flipH="1">
            <a:off x="3780000" y="4292640"/>
            <a:ext cx="287280" cy="50472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Прямая соединительная линия 44"/>
          <p:cNvSpPr/>
          <p:nvPr/>
        </p:nvSpPr>
        <p:spPr>
          <a:xfrm flipH="1">
            <a:off x="2925720" y="3583080"/>
            <a:ext cx="387360" cy="142920"/>
          </a:xfrm>
          <a:prstGeom prst="line">
            <a:avLst/>
          </a:prstGeom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ocument"/>
          <p:cNvSpPr/>
          <p:nvPr/>
        </p:nvSpPr>
        <p:spPr>
          <a:xfrm>
            <a:off x="179280" y="1781280"/>
            <a:ext cx="2881440" cy="4752720"/>
          </a:xfrm>
          <a:prstGeom prst="pi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Работа с деть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1. Рассматривание иллюстрац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2. Беседы, чтение художественной литературы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3. Кукольное представление «Как природа помогает нам здоровыми быть», «Где Тимошка здоровье искал»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4. Проведение игр (дидактические, сюжетно-ролевые, театрализованные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5. Познавательные,              интегрированные занятия, 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развлечения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праздники и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тематические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веч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Document"/>
          <p:cNvSpPr/>
          <p:nvPr/>
        </p:nvSpPr>
        <p:spPr>
          <a:xfrm>
            <a:off x="3348000" y="1844640"/>
            <a:ext cx="2592360" cy="4689360"/>
          </a:xfrm>
          <a:prstGeom prst="pie">
            <a:avLst/>
          </a:prstGeom>
          <a:gradFill rotWithShape="0">
            <a:gsLst>
              <a:gs pos="0">
                <a:srgbClr val="d8ebff"/>
              </a:gs>
              <a:gs pos="100000">
                <a:srgbClr val="5ea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Работа с родителя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1. Консультации, практические советы, рекомендации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2. Использование наглядной агитации (папки-передвижки, выставка фотографий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3. Тематические выставки «Детская и методическая литература»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4. Совмест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родителей и детей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Document"/>
          <p:cNvSpPr/>
          <p:nvPr/>
        </p:nvSpPr>
        <p:spPr>
          <a:xfrm>
            <a:off x="6300720" y="1844640"/>
            <a:ext cx="2592360" cy="4689360"/>
          </a:xfrm>
          <a:prstGeom prst="pie">
            <a:avLst/>
          </a:prstGeom>
          <a:gradFill rotWithShape="0">
            <a:gsLst>
              <a:gs pos="0">
                <a:srgbClr val="d8ebff"/>
              </a:gs>
              <a:gs pos="100000">
                <a:srgbClr val="5eaeff"/>
              </a:gs>
            </a:gsLst>
            <a:lin ang="189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1600" spc="-1" strike="noStrike">
                <a:solidFill>
                  <a:srgbClr val="ffff00"/>
                </a:solidFill>
                <a:latin typeface="Times New Roman"/>
              </a:rPr>
              <a:t>Работа с педагогами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00"/>
                </a:solidFill>
                <a:latin typeface="Times New Roman"/>
              </a:rPr>
              <a:t>- консультации, семинар с использованием ситуативных и игровых заданий, лекторий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UpRibbonSharp"/>
          <p:cNvSpPr/>
          <p:nvPr/>
        </p:nvSpPr>
        <p:spPr>
          <a:xfrm>
            <a:off x="1763640" y="476280"/>
            <a:ext cx="5977080" cy="121932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Times New Roman"/>
              </a:rPr>
              <a:t>Практический эта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41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48"/>
          <p:cNvSpPr/>
          <p:nvPr/>
        </p:nvSpPr>
        <p:spPr>
          <a:xfrm>
            <a:off x="324000" y="549360"/>
            <a:ext cx="7488000" cy="5688000"/>
          </a:xfrm>
          <a:prstGeom prst="vertic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1.Анализ проведенной работы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оотнесение результа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с поставленными целям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.Проведение итогового занят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«Быть здоровыми хотим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3.Презентация детског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альбома «Здоровый образ жизни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4.Выступление на педсове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по выполнению проек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«Растем крепкими и здоровыми»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Rectangle 49"/>
          <p:cNvSpPr/>
          <p:nvPr/>
        </p:nvSpPr>
        <p:spPr>
          <a:xfrm>
            <a:off x="2050920" y="62064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cc"/>
                </a:solidFill>
                <a:latin typeface="Times New Roman"/>
              </a:rPr>
              <a:t>Заключительный эта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50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51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52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Line 53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Line 62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63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64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65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Line 66"/>
          <p:cNvSpPr/>
          <p:nvPr/>
        </p:nvSpPr>
        <p:spPr>
          <a:xfrm>
            <a:off x="179280" y="189000"/>
            <a:ext cx="0" cy="27352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Line 69"/>
          <p:cNvSpPr/>
          <p:nvPr/>
        </p:nvSpPr>
        <p:spPr>
          <a:xfrm>
            <a:off x="179280" y="189000"/>
            <a:ext cx="1584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18000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956360" cy="67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006600"/>
                </a:solidFill>
                <a:latin typeface="Times New Roman"/>
              </a:rPr>
              <a:t>Ожидаемые результаты</a:t>
            </a:r>
            <a:r>
              <a:rPr b="0" i="1" lang="en-US" sz="4300" spc="-1" strike="noStrike">
                <a:solidFill>
                  <a:srgbClr val="006600"/>
                </a:solidFill>
                <a:latin typeface="Times New Roman"/>
              </a:rPr>
              <a:t>:</a:t>
            </a:r>
            <a:endParaRPr b="0" lang="en-US" sz="4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539280" y="1341360"/>
            <a:ext cx="770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99"/>
                </a:solidFill>
                <a:latin typeface="Times New Roman"/>
              </a:rPr>
              <a:t>По окончании проекта «Растем крепкими и здоровыми» предполагается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1. Сформированность у детей стойкой установки на здоровый образ жизн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2. Овладение правильными формами поведения в различных жизненных ситуациях: овладение культурно-гигиеническими навыками, навыками безопасного поведения в окружающей действительн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3. Сформированность представлений о необходимости заботиться о своем здоровье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4. Снижение уровня заболеваемост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ff"/>
                </a:solidFill>
                <a:latin typeface="Times New Roman"/>
              </a:rPr>
              <a:t>5. Повышение уровня компетентности родителей в вопросах здоровьесбереж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8604360" y="3213000"/>
            <a:ext cx="0" cy="324036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Line 6"/>
          <p:cNvSpPr/>
          <p:nvPr/>
        </p:nvSpPr>
        <p:spPr>
          <a:xfrm flipH="1" flipV="1">
            <a:off x="3708360" y="6668640"/>
            <a:ext cx="5183280" cy="180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Line 7"/>
          <p:cNvSpPr/>
          <p:nvPr/>
        </p:nvSpPr>
        <p:spPr>
          <a:xfrm>
            <a:off x="8893080" y="2349360"/>
            <a:ext cx="0" cy="4321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4932360" y="6453360"/>
            <a:ext cx="367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9"/>
          <p:cNvSpPr/>
          <p:nvPr/>
        </p:nvSpPr>
        <p:spPr>
          <a:xfrm>
            <a:off x="179280" y="189000"/>
            <a:ext cx="0" cy="273528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10"/>
          <p:cNvSpPr/>
          <p:nvPr/>
        </p:nvSpPr>
        <p:spPr>
          <a:xfrm flipH="1">
            <a:off x="395280" y="476280"/>
            <a:ext cx="79200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395280" y="476280"/>
            <a:ext cx="0" cy="165744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Line 12"/>
          <p:cNvSpPr/>
          <p:nvPr/>
        </p:nvSpPr>
        <p:spPr>
          <a:xfrm>
            <a:off x="179280" y="189000"/>
            <a:ext cx="1584360" cy="0"/>
          </a:xfrm>
          <a:prstGeom prst="line">
            <a:avLst/>
          </a:prstGeom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 advTm="31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3:11:46Z</dcterms:created>
  <dc:creator>SamLab.ws</dc:creator>
  <dc:description/>
  <dc:language>en-US</dc:language>
  <cp:lastModifiedBy>Колосок</cp:lastModifiedBy>
  <dcterms:modified xsi:type="dcterms:W3CDTF">2017-10-08T18:46:33Z</dcterms:modified>
  <cp:revision>75</cp:revision>
  <dc:subject/>
  <dc:title>РАСТЕМ КРЕПКИМИ И ЗДОРОВЫМИ</dc:title>
</cp:coreProperties>
</file>