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6DB-E9E0-42D4-96E3-EF38E249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36D-ABCE-4D74-B1D8-DD49AF78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1AE-92C4-4B27-ACE6-12E2CC87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102-8696-4411-A1EF-40BDAA3B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E8FD-180C-4584-AA8F-52C7923F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1B93-F531-4276-BA2A-1314E4EC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EC0D-B8F1-47C5-A62B-0D83895B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375B-8880-476C-8E91-E5D357B8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3DC8-3765-418C-AEF5-F37A6B62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CBF2-49FA-4AB0-8B1E-57001874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2823-EA2A-4628-95C0-BA5C637A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767-AEFB-409E-897B-A90EB3A8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EF13-95D2-46B8-AF60-B856F2B8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D72F-A44D-4BE2-B246-C3B630FC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39FA-4B79-45CC-85C3-24F2BEE8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05D9-8C97-409F-9C38-B6AC6622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90B9-B18A-49E7-B0FF-C0F5322B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F46B-4CAB-48D2-8AEC-1BAD793E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8E894-34C9-42CA-87BC-B3D0E128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BB3E7-AB47-448A-906A-4C1F5A33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A05CC-4612-4747-98BA-AF98DAA2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7947D-8FA5-4590-9FFC-86A5C92F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DA62-2CCA-48BD-8976-983686B1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94FD3-D8DB-4842-A6F5-3E595B40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0503C-AA62-4C48-B164-7FD7867E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06CBE-8D66-4E56-85B8-DEB557C2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91345-8F21-47AC-9475-E132236A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F070-2FEC-45EE-A41B-54D5D0F7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C7FE1-D8A0-49A4-AB90-A93952B4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4730-0722-4B46-AF76-E06DD025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BBB94-63E1-41FC-9F56-3494DE96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C1BF9-6FC7-423F-ADB2-D0C97E37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4905F-0120-4964-B55D-36CFE98C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AF3-884D-4BA4-9B00-6C67748B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2D55D-010F-4DF0-B3A3-BED9AB5A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D1CB9-64DE-450D-AD71-3AF3C102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73EF0-E6B8-4660-A189-942B164C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B6D96-BA46-4544-94BE-6DB56E0E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719BD-A6DF-4CE1-95CE-DCA3DB36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CC4EA-769F-436A-9598-BA8B866D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7446E-7A9B-46F4-9912-F6BE5FF4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9A3B4-CCAF-4CA1-942F-1B9EF652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0D537-8654-4B8C-BB37-5555C672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FEDC7-F190-4122-8F5A-7AC0E8A5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A1D-5DFB-49B8-92E0-E9C545AC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FFC5C-6F1B-4A23-AA94-BA7E20AC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285D6-FD25-4583-9450-EB2EFE37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EE47C-4482-47C9-A2F3-AFFB2FBF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0BECE-CF1E-4FF4-852A-9B9C7AAA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F11E6-B3A7-412C-AD9F-0A39874E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33B0D-CC49-403C-82B5-01AD0A9A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8CAB1-A368-40D1-A95E-84C50B16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0C100-6383-430A-8606-7E708720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1BEAE-B392-4153-9281-FB88A9BA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F4FF2-C70F-4C58-83BD-6B186131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D01-F9D6-43C9-A7AA-F0A409A9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05E19-FD38-4B80-9CFE-843F7DD3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C0AFC-1AD6-4D77-909F-41110184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63523-04D0-4502-9933-5BCB3B4C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F631B-BDE1-4DFB-B96F-2DE8D3E3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388FE-D3FB-4FF6-96C9-962FB6AA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7C841-61DB-46DE-B032-ABA3EAF6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91046-C0D0-43A6-ABEE-8F77541D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12F52-C3DA-4E4B-9D4D-3F89E81B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201CE-D31F-48D6-A131-7EA0996D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53CCA-5C2B-462F-A456-BFEDD40C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068-38B2-47F5-A6D4-2BB3222A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F49E0-232A-4FA4-9218-13A1DC74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9372B-C802-4864-99FF-C76D6391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74EF0-7950-4D28-B9FC-722D92F7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1DB03-1A9C-4B8B-9AA7-91C146D3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E0F61-C823-4CDE-984F-3EE206AA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88E92-6A1A-4B1B-8E7C-E551A20A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52360-D35C-423D-905B-04855648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C3018-87EF-40A6-AC4E-3F1BFBBE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2F8D7-4927-44BE-BBB4-1A557F32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9B2F9-F3D2-4F67-82B6-40F94411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230-C977-4EAA-BAEC-B5E9DA40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3B599-64AD-4977-851C-C0C99C0C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B75EE-BCB6-4804-9A7E-4A04328F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9AA63-0B25-4432-A7D3-78E4E374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D8A32-0274-41A3-95EE-C1F2302D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BEDCF-2F72-4ED0-8351-0E530B1A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55C-C1FE-4B86-8DFE-E29253B4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0A65-09CD-46E0-93B1-5EFBB71C95B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B5B0-707B-48AE-82E2-C10DEEA4A61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DD0B-F768-4FF3-9E35-3CB4037B9F5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10D3-8902-4B78-A8B6-88A4FE574F6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F2EB-DA4C-4BBA-B161-DFB575EF084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A4C9-A308-4EA2-99FA-0E1FDE13507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E8DA-66FD-4128-873C-05C5D6521F7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642600"/>
            <a:ext cx="741672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Georgia"/>
              </a:rPr>
              <a:t>«Растем крепкими </a:t>
            </a:r>
            <a:br>
              <a:rPr sz="4800"/>
            </a:br>
            <a:r>
              <a:rPr b="1" i="1" lang="ru-RU" sz="4800" spc="-1" strike="noStrike">
                <a:solidFill>
                  <a:srgbClr val="c00000"/>
                </a:solidFill>
                <a:latin typeface="Georgia"/>
              </a:rPr>
              <a:t>и здоровыми »</a:t>
            </a:r>
            <a:br>
              <a:rPr sz="4800"/>
            </a:br>
            <a:r>
              <a:rPr b="1" i="1" lang="ru-RU" sz="4800" spc="-1" strike="noStrike">
                <a:solidFill>
                  <a:srgbClr val="c00000"/>
                </a:solidFill>
                <a:latin typeface="Georgia"/>
              </a:rPr>
              <a:t>проект 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071680" y="5013000"/>
            <a:ext cx="3747960" cy="10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Georgia"/>
              </a:rPr>
              <a:t>Детский сад «Колосок»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2700360" y="6237360"/>
            <a:ext cx="360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0" y="630864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Georgia"/>
              </a:rPr>
              <a:t>Г.Болга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179280" y="2060640"/>
            <a:ext cx="0" cy="453708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Line 11"/>
          <p:cNvSpPr/>
          <p:nvPr/>
        </p:nvSpPr>
        <p:spPr>
          <a:xfrm flipH="1">
            <a:off x="179280" y="6597720"/>
            <a:ext cx="3456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95280" y="3068640"/>
            <a:ext cx="0" cy="331308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13"/>
          <p:cNvSpPr/>
          <p:nvPr/>
        </p:nvSpPr>
        <p:spPr>
          <a:xfrm>
            <a:off x="395280" y="6381720"/>
            <a:ext cx="259236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Line 14"/>
          <p:cNvSpPr/>
          <p:nvPr/>
        </p:nvSpPr>
        <p:spPr>
          <a:xfrm>
            <a:off x="8964720" y="260280"/>
            <a:ext cx="0" cy="453708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Line 15"/>
          <p:cNvSpPr/>
          <p:nvPr/>
        </p:nvSpPr>
        <p:spPr>
          <a:xfrm>
            <a:off x="4643280" y="260280"/>
            <a:ext cx="432144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Рисунок 17" descr="IMG_2663.JPG"/>
          <p:cNvPicPr/>
          <p:nvPr/>
        </p:nvPicPr>
        <p:blipFill>
          <a:blip r:embed="rId1"/>
          <a:stretch/>
        </p:blipFill>
        <p:spPr>
          <a:xfrm>
            <a:off x="573120" y="3359160"/>
            <a:ext cx="4138560" cy="2859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237360" cy="4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00"/>
                </a:solidFill>
                <a:latin typeface="Times New Roman"/>
              </a:rPr>
              <a:t>Формы предоставления результатов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6146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0" i="1" lang="en-US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Сборник дидактических иг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0" i="1" lang="en-US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Сборник пальчиковых иг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0" i="1" lang="en-US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Сборник логоритмических упражнен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0" i="1" lang="en-US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Тематическая подборка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художественной литератур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0" i="1" lang="en-US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Консультации для родителе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 Консультации для педагог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7.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 Рабочая программа «Растем крепкими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и здоровыми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8.</a:t>
            </a:r>
            <a:r>
              <a:rPr b="0" i="1" lang="en-US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Фотоальбом «Здоровый образ жизни»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3" name="Line 7"/>
          <p:cNvSpPr/>
          <p:nvPr/>
        </p:nvSpPr>
        <p:spPr>
          <a:xfrm>
            <a:off x="8675640" y="3213000"/>
            <a:ext cx="0" cy="324036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3779640" y="6668640"/>
            <a:ext cx="5182920" cy="180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8964720" y="2349360"/>
            <a:ext cx="0" cy="4321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5003640" y="6453360"/>
            <a:ext cx="367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Line 11"/>
          <p:cNvSpPr/>
          <p:nvPr/>
        </p:nvSpPr>
        <p:spPr>
          <a:xfrm>
            <a:off x="179280" y="189000"/>
            <a:ext cx="0" cy="273528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Line 12"/>
          <p:cNvSpPr/>
          <p:nvPr/>
        </p:nvSpPr>
        <p:spPr>
          <a:xfrm flipH="1">
            <a:off x="395280" y="476280"/>
            <a:ext cx="79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395280" y="476280"/>
            <a:ext cx="0" cy="1657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Line 14"/>
          <p:cNvSpPr/>
          <p:nvPr/>
        </p:nvSpPr>
        <p:spPr>
          <a:xfrm>
            <a:off x="179280" y="189000"/>
            <a:ext cx="158436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Рисунок 3" descr="IMG_2661.JPG"/>
          <p:cNvPicPr/>
          <p:nvPr/>
        </p:nvPicPr>
        <p:blipFill>
          <a:blip r:embed="rId1"/>
          <a:stretch/>
        </p:blipFill>
        <p:spPr>
          <a:xfrm>
            <a:off x="1971720" y="1643040"/>
            <a:ext cx="6458040" cy="47149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eorgia"/>
              </a:rPr>
              <a:t>Утренняя гимнаст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Рисунок 3" descr="100_2058.JPG"/>
          <p:cNvPicPr/>
          <p:nvPr/>
        </p:nvPicPr>
        <p:blipFill>
          <a:blip r:embed="rId1"/>
          <a:stretch/>
        </p:blipFill>
        <p:spPr>
          <a:xfrm>
            <a:off x="1428840" y="1928880"/>
            <a:ext cx="3714840" cy="45640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eorgia"/>
              </a:rPr>
              <a:t>Гимнастика после сн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5" name="Рисунок 5" descr="100_2069.JPG"/>
          <p:cNvPicPr/>
          <p:nvPr/>
        </p:nvPicPr>
        <p:blipFill>
          <a:blip r:embed="rId2"/>
          <a:stretch/>
        </p:blipFill>
        <p:spPr>
          <a:xfrm>
            <a:off x="5286240" y="1928880"/>
            <a:ext cx="33703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eorgia"/>
              </a:rPr>
              <a:t>Дневной со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7" name="Рисунок 4" descr="100_2048.JPG"/>
          <p:cNvPicPr/>
          <p:nvPr/>
        </p:nvPicPr>
        <p:blipFill>
          <a:blip r:embed="rId1"/>
          <a:stretch/>
        </p:blipFill>
        <p:spPr>
          <a:xfrm>
            <a:off x="487440" y="2500200"/>
            <a:ext cx="4370400" cy="399276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5" descr="100_2051.JPG"/>
          <p:cNvPicPr/>
          <p:nvPr/>
        </p:nvPicPr>
        <p:blipFill>
          <a:blip r:embed="rId2"/>
          <a:stretch/>
        </p:blipFill>
        <p:spPr>
          <a:xfrm>
            <a:off x="5143680" y="2500200"/>
            <a:ext cx="351288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Georgia"/>
              </a:rPr>
              <a:t>Умывание перед едой и полоскание рт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0" name="Рисунок 2" descr="100_2075.JPG"/>
          <p:cNvPicPr/>
          <p:nvPr/>
        </p:nvPicPr>
        <p:blipFill>
          <a:blip r:embed="rId1"/>
          <a:stretch/>
        </p:blipFill>
        <p:spPr>
          <a:xfrm>
            <a:off x="4071960" y="2286000"/>
            <a:ext cx="4441680" cy="413532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3" descr="IMG_2672.JPG"/>
          <p:cNvPicPr/>
          <p:nvPr/>
        </p:nvPicPr>
        <p:blipFill>
          <a:blip r:embed="rId2"/>
          <a:stretch/>
        </p:blipFill>
        <p:spPr>
          <a:xfrm>
            <a:off x="785880" y="1643040"/>
            <a:ext cx="52020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eorgia"/>
              </a:rPr>
              <a:t>Труд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3" name="Рисунок 4" descr="IMG_2681.JPG"/>
          <p:cNvPicPr/>
          <p:nvPr/>
        </p:nvPicPr>
        <p:blipFill>
          <a:blip r:embed="rId1"/>
          <a:stretch/>
        </p:blipFill>
        <p:spPr>
          <a:xfrm>
            <a:off x="3500280" y="27147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5" descr="IMG_2677.JPG"/>
          <p:cNvPicPr/>
          <p:nvPr/>
        </p:nvPicPr>
        <p:blipFill>
          <a:blip r:embed="rId2"/>
          <a:stretch/>
        </p:blipFill>
        <p:spPr>
          <a:xfrm>
            <a:off x="571680" y="1571760"/>
            <a:ext cx="4476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6" name="Рисунок 2" descr="IMG_2683.JPG"/>
          <p:cNvPicPr/>
          <p:nvPr/>
        </p:nvPicPr>
        <p:blipFill>
          <a:blip r:embed="rId1"/>
          <a:stretch/>
        </p:blipFill>
        <p:spPr>
          <a:xfrm>
            <a:off x="1971720" y="1477800"/>
            <a:ext cx="63864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8" name="Рисунок 3" descr="IMG_2670.JPG"/>
          <p:cNvPicPr/>
          <p:nvPr/>
        </p:nvPicPr>
        <p:blipFill>
          <a:blip r:embed="rId1"/>
          <a:stretch/>
        </p:blipFill>
        <p:spPr>
          <a:xfrm>
            <a:off x="4572000" y="1928880"/>
            <a:ext cx="4071960" cy="468792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4" descr="IMG_2657.JPG"/>
          <p:cNvPicPr/>
          <p:nvPr/>
        </p:nvPicPr>
        <p:blipFill>
          <a:blip r:embed="rId2"/>
          <a:stretch/>
        </p:blipFill>
        <p:spPr>
          <a:xfrm>
            <a:off x="500040" y="1928880"/>
            <a:ext cx="390204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1" name="Рисунок 3" descr="CIMG2424.JPG"/>
          <p:cNvPicPr/>
          <p:nvPr/>
        </p:nvPicPr>
        <p:blipFill>
          <a:blip r:embed="rId1"/>
          <a:stretch/>
        </p:blipFill>
        <p:spPr>
          <a:xfrm>
            <a:off x="1785960" y="1857240"/>
            <a:ext cx="65721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eorgia"/>
              </a:rPr>
              <a:t>Музы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3" name="Рисунок 2" descr="CIMG1778.JPG"/>
          <p:cNvPicPr/>
          <p:nvPr/>
        </p:nvPicPr>
        <p:blipFill>
          <a:blip r:embed="rId1"/>
          <a:stretch/>
        </p:blipFill>
        <p:spPr>
          <a:xfrm>
            <a:off x="1071720" y="1500120"/>
            <a:ext cx="756432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799164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 u="sng">
                <a:solidFill>
                  <a:srgbClr val="c00000"/>
                </a:solidFill>
                <a:uFillTx/>
                <a:latin typeface="Georgia"/>
              </a:rPr>
              <a:t>Актуальность темы</a:t>
            </a:r>
            <a:r>
              <a:rPr b="0" i="1" lang="en-US" sz="4300" spc="-1" strike="noStrike" u="sng">
                <a:solidFill>
                  <a:srgbClr val="c00000"/>
                </a:solidFill>
                <a:uFillTx/>
                <a:latin typeface="Georgia"/>
              </a:rPr>
              <a:t>: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755280" y="1557360"/>
            <a:ext cx="698508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Проблема воспитания личной заинтересованности каждого человека в здоровом образе жизни в последние годы является особенно актуальной в связи с негативной тенденцией к ухудшению состояния здоровья всех социально-демографических групп населения России и особенно детей дошкольного и школьного возраста. Ее решение требует активного осмысленного отношен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к своему здоровью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и укреплению его с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детских ле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Line 10"/>
          <p:cNvSpPr/>
          <p:nvPr/>
        </p:nvSpPr>
        <p:spPr>
          <a:xfrm>
            <a:off x="179280" y="2060640"/>
            <a:ext cx="0" cy="453708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Line 11"/>
          <p:cNvSpPr/>
          <p:nvPr/>
        </p:nvSpPr>
        <p:spPr>
          <a:xfrm flipH="1">
            <a:off x="179280" y="6597720"/>
            <a:ext cx="3456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Line 12"/>
          <p:cNvSpPr/>
          <p:nvPr/>
        </p:nvSpPr>
        <p:spPr>
          <a:xfrm>
            <a:off x="395280" y="3068640"/>
            <a:ext cx="0" cy="331308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13"/>
          <p:cNvSpPr/>
          <p:nvPr/>
        </p:nvSpPr>
        <p:spPr>
          <a:xfrm>
            <a:off x="395280" y="6381720"/>
            <a:ext cx="259236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30000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eorgia"/>
              </a:rPr>
              <a:t>Гимнастика для глаз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5" name="Рисунок 2" descr="100_2073.JPG"/>
          <p:cNvPicPr/>
          <p:nvPr/>
        </p:nvPicPr>
        <p:blipFill>
          <a:blip r:embed="rId1"/>
          <a:stretch/>
        </p:blipFill>
        <p:spPr>
          <a:xfrm>
            <a:off x="1500120" y="1785960"/>
            <a:ext cx="6786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7" name="Рисунок 3" descr="IMG_2667.JPG"/>
          <p:cNvPicPr/>
          <p:nvPr/>
        </p:nvPicPr>
        <p:blipFill>
          <a:blip r:embed="rId1"/>
          <a:stretch/>
        </p:blipFill>
        <p:spPr>
          <a:xfrm>
            <a:off x="1714680" y="1571760"/>
            <a:ext cx="66434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eorgia"/>
              </a:rPr>
              <a:t>Коммуникац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9" name="Рисунок 2" descr="100_2078.JPG"/>
          <p:cNvPicPr/>
          <p:nvPr/>
        </p:nvPicPr>
        <p:blipFill>
          <a:blip r:embed="rId1"/>
          <a:stretch/>
        </p:blipFill>
        <p:spPr>
          <a:xfrm>
            <a:off x="285840" y="3143160"/>
            <a:ext cx="4357440" cy="349560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3" descr="IMG_2660.JPG"/>
          <p:cNvPicPr/>
          <p:nvPr/>
        </p:nvPicPr>
        <p:blipFill>
          <a:blip r:embed="rId2"/>
          <a:stretch/>
        </p:blipFill>
        <p:spPr>
          <a:xfrm>
            <a:off x="4143240" y="1785960"/>
            <a:ext cx="423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Georgia"/>
              </a:rPr>
              <a:t>Свободная деятельность детей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2" name="Рисунок 2" descr="CIMG2450.JPG"/>
          <p:cNvPicPr/>
          <p:nvPr/>
        </p:nvPicPr>
        <p:blipFill>
          <a:blip r:embed="rId1"/>
          <a:stretch/>
        </p:blipFill>
        <p:spPr>
          <a:xfrm>
            <a:off x="1071720" y="1857240"/>
            <a:ext cx="2786040" cy="221472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3" descr="IMG_2573.JPG"/>
          <p:cNvPicPr/>
          <p:nvPr/>
        </p:nvPicPr>
        <p:blipFill>
          <a:blip r:embed="rId2"/>
          <a:stretch/>
        </p:blipFill>
        <p:spPr>
          <a:xfrm>
            <a:off x="4071960" y="185724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4" descr="IMG_2363.JPG"/>
          <p:cNvPicPr/>
          <p:nvPr/>
        </p:nvPicPr>
        <p:blipFill>
          <a:blip r:embed="rId3"/>
          <a:stretch/>
        </p:blipFill>
        <p:spPr>
          <a:xfrm>
            <a:off x="1143000" y="4214880"/>
            <a:ext cx="27860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WordArt 14"/>
          <p:cNvSpPr txBox="1"/>
          <p:nvPr/>
        </p:nvSpPr>
        <p:spPr>
          <a:xfrm>
            <a:off x="1763640" y="3071880"/>
            <a:ext cx="655344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2600">
                  <a:solidFill>
                    <a:srgbClr val="5eaeff"/>
                  </a:solidFill>
                  <a:miter/>
                </a:ln>
                <a:solidFill>
                  <a:srgbClr val="6600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Georgia"/>
              </a:rPr>
              <a:t>Спасибо </a:t>
            </a:r>
            <a:endParaRPr b="1" i="1" lang="en-US" sz="1600" spc="1" strike="noStrike">
              <a:ln w="12600">
                <a:solidFill>
                  <a:srgbClr val="5eaeff"/>
                </a:solidFill>
                <a:miter/>
              </a:ln>
              <a:solidFill>
                <a:srgbClr val="6600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2600">
                  <a:solidFill>
                    <a:srgbClr val="5eaeff"/>
                  </a:solidFill>
                  <a:miter/>
                </a:ln>
                <a:solidFill>
                  <a:srgbClr val="6600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Georgia"/>
              </a:rPr>
              <a:t>за внимание!</a:t>
            </a:r>
            <a:endParaRPr b="1" i="1" lang="en-US" sz="1600" spc="1" strike="noStrike">
              <a:ln w="12600">
                <a:solidFill>
                  <a:srgbClr val="5eaeff"/>
                </a:solidFill>
                <a:miter/>
              </a:ln>
              <a:solidFill>
                <a:srgbClr val="6600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56" name="Line 20"/>
          <p:cNvSpPr/>
          <p:nvPr/>
        </p:nvSpPr>
        <p:spPr>
          <a:xfrm>
            <a:off x="8604360" y="3213000"/>
            <a:ext cx="0" cy="324036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Line 21"/>
          <p:cNvSpPr/>
          <p:nvPr/>
        </p:nvSpPr>
        <p:spPr>
          <a:xfrm flipH="1" flipV="1">
            <a:off x="3708360" y="6668640"/>
            <a:ext cx="5183280" cy="180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Line 22"/>
          <p:cNvSpPr/>
          <p:nvPr/>
        </p:nvSpPr>
        <p:spPr>
          <a:xfrm>
            <a:off x="8893080" y="2349360"/>
            <a:ext cx="0" cy="4321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Line 23"/>
          <p:cNvSpPr/>
          <p:nvPr/>
        </p:nvSpPr>
        <p:spPr>
          <a:xfrm>
            <a:off x="4932360" y="6453360"/>
            <a:ext cx="367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53360" cy="74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 u="sng">
                <a:solidFill>
                  <a:srgbClr val="c00000"/>
                </a:solidFill>
                <a:uFillTx/>
                <a:latin typeface="Georgia"/>
              </a:rPr>
              <a:t>Цель проекта</a:t>
            </a:r>
            <a:r>
              <a:rPr b="0" i="1" lang="en-US" sz="4300" spc="-1" strike="noStrike" u="sng">
                <a:solidFill>
                  <a:srgbClr val="c00000"/>
                </a:solidFill>
                <a:uFillTx/>
                <a:latin typeface="Georgia"/>
              </a:rPr>
              <a:t>: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899640" y="1915920"/>
            <a:ext cx="7417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cc"/>
                </a:solidFill>
                <a:latin typeface="Georgia"/>
              </a:rPr>
              <a:t>Формирование у детей стойкой установки на здоровый образ жизни и овладение правильными формами поведения в различных жизненных ситуациях.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Line 6"/>
          <p:cNvSpPr/>
          <p:nvPr/>
        </p:nvSpPr>
        <p:spPr>
          <a:xfrm>
            <a:off x="8604360" y="3213000"/>
            <a:ext cx="0" cy="324036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7"/>
          <p:cNvSpPr/>
          <p:nvPr/>
        </p:nvSpPr>
        <p:spPr>
          <a:xfrm flipH="1" flipV="1">
            <a:off x="3708360" y="6668640"/>
            <a:ext cx="5183280" cy="180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8"/>
          <p:cNvSpPr/>
          <p:nvPr/>
        </p:nvSpPr>
        <p:spPr>
          <a:xfrm>
            <a:off x="8893080" y="2349360"/>
            <a:ext cx="0" cy="4321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Line 9"/>
          <p:cNvSpPr/>
          <p:nvPr/>
        </p:nvSpPr>
        <p:spPr>
          <a:xfrm>
            <a:off x="4932360" y="6453360"/>
            <a:ext cx="367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179280" y="189000"/>
            <a:ext cx="0" cy="273528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Line 11"/>
          <p:cNvSpPr/>
          <p:nvPr/>
        </p:nvSpPr>
        <p:spPr>
          <a:xfrm flipH="1">
            <a:off x="395280" y="476280"/>
            <a:ext cx="79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395280" y="476280"/>
            <a:ext cx="0" cy="1657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179280" y="189000"/>
            <a:ext cx="158436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Georgia"/>
              </a:rPr>
              <a:t>Задачи проекта</a:t>
            </a:r>
            <a:r>
              <a:rPr b="0" i="1" lang="en-US" sz="4400" spc="-1" strike="noStrike">
                <a:solidFill>
                  <a:srgbClr val="c00000"/>
                </a:solidFill>
                <a:latin typeface="Georgi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323640" y="1196640"/>
            <a:ext cx="81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cc"/>
                </a:solidFill>
                <a:latin typeface="Times New Roman"/>
              </a:rPr>
              <a:t>Укрепить жизнеспособности детского организма через воспитание навыков самообслуживания, культурно-гигиенических навыков, привить укрепляющие здоровье потребности и расширить возможности их практической реализаци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cc"/>
                </a:solidFill>
                <a:latin typeface="Times New Roman"/>
              </a:rPr>
              <a:t>Формировать представления о физических потребностях своего организма, адекватных способах их удовлетвор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cc"/>
                </a:solidFill>
                <a:latin typeface="Times New Roman"/>
              </a:rPr>
              <a:t>Воспитать практические навыки и приемы,                                       направленные на сохранение и укрепление здоровья в                                                  повседневной жизни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Rectangle 73"/>
          <p:cNvSpPr/>
          <p:nvPr/>
        </p:nvSpPr>
        <p:spPr>
          <a:xfrm>
            <a:off x="3571920" y="4724280"/>
            <a:ext cx="4816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Times New Roman"/>
              </a:rPr>
              <a:t>Создать условия для формирования социальных навыков и норм поведения на основе совместной деятельности с родителями и взаимной помощ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Line 78"/>
          <p:cNvSpPr/>
          <p:nvPr/>
        </p:nvSpPr>
        <p:spPr>
          <a:xfrm>
            <a:off x="8604360" y="3213000"/>
            <a:ext cx="0" cy="324036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Line 79"/>
          <p:cNvSpPr/>
          <p:nvPr/>
        </p:nvSpPr>
        <p:spPr>
          <a:xfrm flipH="1" flipV="1">
            <a:off x="3708360" y="6668640"/>
            <a:ext cx="5183280" cy="180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Line 80"/>
          <p:cNvSpPr/>
          <p:nvPr/>
        </p:nvSpPr>
        <p:spPr>
          <a:xfrm>
            <a:off x="8893080" y="2349360"/>
            <a:ext cx="0" cy="4321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Line 81"/>
          <p:cNvSpPr/>
          <p:nvPr/>
        </p:nvSpPr>
        <p:spPr>
          <a:xfrm>
            <a:off x="4932360" y="6453360"/>
            <a:ext cx="367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25160" y="195120"/>
            <a:ext cx="8434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разовательная область </a:t>
            </a:r>
            <a:r>
              <a:rPr b="1" i="1" lang="ru-RU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ПОЗНАНИЕ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нтегрирует со следующими образовательными областями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                      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ПОЗНА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ММУНИКАЦ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ЧТЕНИЕ ХУДОЖЕСТВЕННОЙ ЛИТЕРАТУР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ОРМИРОВАНИЕ ЦЕЛОСТНОЙ КАРТИНЫ МИР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ХУДОЖЕСТВЕННОЕ ТВОРЧЕСТВО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РУД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4"/>
          <p:cNvSpPr/>
          <p:nvPr/>
        </p:nvSpPr>
        <p:spPr>
          <a:xfrm>
            <a:off x="3230640" y="2243160"/>
            <a:ext cx="2736720" cy="211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484d1"/>
              </a:gs>
            </a:gsLst>
            <a:lin ang="5400000"/>
          </a:gradFill>
          <a:ln w="936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РЕАЛИЗАЦИИ ПРОЕК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Овал 5"/>
          <p:cNvSpPr/>
          <p:nvPr/>
        </p:nvSpPr>
        <p:spPr>
          <a:xfrm>
            <a:off x="179280" y="1341360"/>
            <a:ext cx="2808360" cy="165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Я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онные иг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Овал 6"/>
          <p:cNvSpPr/>
          <p:nvPr/>
        </p:nvSpPr>
        <p:spPr>
          <a:xfrm>
            <a:off x="5364000" y="681120"/>
            <a:ext cx="3456000" cy="180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, пересказ, заучивание стихов, сочинение сказок, обсуждение пословиц и поговоро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Овал 8"/>
          <p:cNvSpPr/>
          <p:nvPr/>
        </p:nvSpPr>
        <p:spPr>
          <a:xfrm>
            <a:off x="6156360" y="2781360"/>
            <a:ext cx="2808360" cy="158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ЦЕЛОСТНОЙ КАРТИНЫ МИР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, опыты с водой , снегом, льд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Овал 9"/>
          <p:cNvSpPr/>
          <p:nvPr/>
        </p:nvSpPr>
        <p:spPr>
          <a:xfrm>
            <a:off x="179280" y="3159000"/>
            <a:ext cx="2808360" cy="158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проблемных ситуаций и правил безопасного повед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Овал 10"/>
          <p:cNvSpPr/>
          <p:nvPr/>
        </p:nvSpPr>
        <p:spPr>
          <a:xfrm>
            <a:off x="1930320" y="4797360"/>
            <a:ext cx="292896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АЯ ДЕЯТЕЛЬНОСТЬ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чивание песен и танцев, слушание музы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Овал 11"/>
          <p:cNvSpPr/>
          <p:nvPr/>
        </p:nvSpPr>
        <p:spPr>
          <a:xfrm>
            <a:off x="5219640" y="4581360"/>
            <a:ext cx="2881440" cy="15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Е ТВОРЧЕ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, аппликация, ручной тру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Овал 14"/>
          <p:cNvSpPr/>
          <p:nvPr/>
        </p:nvSpPr>
        <p:spPr>
          <a:xfrm flipH="1">
            <a:off x="2554200" y="404640"/>
            <a:ext cx="2665440" cy="15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Прямая соединительная линия 16"/>
          <p:cNvSpPr/>
          <p:nvPr/>
        </p:nvSpPr>
        <p:spPr>
          <a:xfrm>
            <a:off x="4067280" y="1916280"/>
            <a:ext cx="144360" cy="360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Прямая соединительная линия 20"/>
          <p:cNvSpPr/>
          <p:nvPr/>
        </p:nvSpPr>
        <p:spPr>
          <a:xfrm>
            <a:off x="2843280" y="2481120"/>
            <a:ext cx="552240" cy="3002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Прямая соединительная линия 26"/>
          <p:cNvSpPr/>
          <p:nvPr/>
        </p:nvSpPr>
        <p:spPr>
          <a:xfrm>
            <a:off x="5364000" y="4149720"/>
            <a:ext cx="432000" cy="5745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Прямая соединительная линия 33"/>
          <p:cNvSpPr/>
          <p:nvPr/>
        </p:nvSpPr>
        <p:spPr>
          <a:xfrm flipH="1">
            <a:off x="5565240" y="2216160"/>
            <a:ext cx="304920" cy="33660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Прямая соединительная линия 38"/>
          <p:cNvSpPr/>
          <p:nvPr/>
        </p:nvSpPr>
        <p:spPr>
          <a:xfrm>
            <a:off x="5967360" y="3429000"/>
            <a:ext cx="189000" cy="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Прямая соединительная линия 40"/>
          <p:cNvSpPr/>
          <p:nvPr/>
        </p:nvSpPr>
        <p:spPr>
          <a:xfrm flipH="1">
            <a:off x="3780000" y="4292640"/>
            <a:ext cx="287280" cy="50472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Прямая соединительная линия 44"/>
          <p:cNvSpPr/>
          <p:nvPr/>
        </p:nvSpPr>
        <p:spPr>
          <a:xfrm flipH="1">
            <a:off x="2925720" y="3583080"/>
            <a:ext cx="387360" cy="14292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ocument"/>
          <p:cNvSpPr/>
          <p:nvPr/>
        </p:nvSpPr>
        <p:spPr>
          <a:xfrm>
            <a:off x="179280" y="1781280"/>
            <a:ext cx="2881440" cy="475272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Работа с детьм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1. Рассматривание иллюстрац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2. Беседы, чтение художественной литературы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3. Кукольное представление «Как природа помогает нам здоровыми быть», «Где Тимошка здоровье искал»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4. Проведение игр (дидактические, сюжетно-ролевые, театрализованные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5. Познавательные,              интегрированные занятия,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развлечения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праздники 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тематическ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вече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Document"/>
          <p:cNvSpPr/>
          <p:nvPr/>
        </p:nvSpPr>
        <p:spPr>
          <a:xfrm>
            <a:off x="3348000" y="1844640"/>
            <a:ext cx="2592360" cy="4689360"/>
          </a:xfrm>
          <a:prstGeom prst="pie">
            <a:avLst/>
          </a:prstGeom>
          <a:gradFill rotWithShape="0">
            <a:gsLst>
              <a:gs pos="0">
                <a:srgbClr val="d8ebff"/>
              </a:gs>
              <a:gs pos="100000">
                <a:srgbClr val="5ea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Работа с родителям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1. Консультации, практические советы, рекоменд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2. Использование наглядной агитации (папки-передвижки, выставка фотограф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3. Тематические выставки «Детская и методическая литература»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4. Совместн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родителей и дете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Document"/>
          <p:cNvSpPr/>
          <p:nvPr/>
        </p:nvSpPr>
        <p:spPr>
          <a:xfrm>
            <a:off x="6300720" y="1844640"/>
            <a:ext cx="2592360" cy="4689360"/>
          </a:xfrm>
          <a:prstGeom prst="pie">
            <a:avLst/>
          </a:prstGeom>
          <a:gradFill rotWithShape="0">
            <a:gsLst>
              <a:gs pos="0">
                <a:srgbClr val="d8ebff"/>
              </a:gs>
              <a:gs pos="100000">
                <a:srgbClr val="5ea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Работа с педагогам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- консультации, семинар с использованием ситуативных и игровых заданий, лекторий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UpRibbonSharp"/>
          <p:cNvSpPr/>
          <p:nvPr/>
        </p:nvSpPr>
        <p:spPr>
          <a:xfrm>
            <a:off x="1763640" y="476280"/>
            <a:ext cx="5977080" cy="12193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Практический эта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1000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48"/>
          <p:cNvSpPr/>
          <p:nvPr/>
        </p:nvSpPr>
        <p:spPr>
          <a:xfrm>
            <a:off x="324000" y="549360"/>
            <a:ext cx="7488000" cy="568800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1.Анализ проведенной работы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соотнесение результа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с поставленными целям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2.Проведение итогового занят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«Быть здоровыми хотим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3.Презентация детског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альбома «Здоровый образ жизни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4.Выступление на педсове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по выполнению проек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«Растем крепкими и здоровыми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Rectangle 49"/>
          <p:cNvSpPr/>
          <p:nvPr/>
        </p:nvSpPr>
        <p:spPr>
          <a:xfrm>
            <a:off x="2050920" y="620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Заключительный эта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50"/>
          <p:cNvSpPr/>
          <p:nvPr/>
        </p:nvSpPr>
        <p:spPr>
          <a:xfrm>
            <a:off x="8604360" y="3213000"/>
            <a:ext cx="0" cy="324036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51"/>
          <p:cNvSpPr/>
          <p:nvPr/>
        </p:nvSpPr>
        <p:spPr>
          <a:xfrm flipH="1" flipV="1">
            <a:off x="3708360" y="6668640"/>
            <a:ext cx="5183280" cy="180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52"/>
          <p:cNvSpPr/>
          <p:nvPr/>
        </p:nvSpPr>
        <p:spPr>
          <a:xfrm>
            <a:off x="8893080" y="2349360"/>
            <a:ext cx="0" cy="4321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53"/>
          <p:cNvSpPr/>
          <p:nvPr/>
        </p:nvSpPr>
        <p:spPr>
          <a:xfrm>
            <a:off x="4932360" y="6453360"/>
            <a:ext cx="367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Line 62"/>
          <p:cNvSpPr/>
          <p:nvPr/>
        </p:nvSpPr>
        <p:spPr>
          <a:xfrm>
            <a:off x="8604360" y="3213000"/>
            <a:ext cx="0" cy="324036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63"/>
          <p:cNvSpPr/>
          <p:nvPr/>
        </p:nvSpPr>
        <p:spPr>
          <a:xfrm flipH="1" flipV="1">
            <a:off x="3708360" y="6668640"/>
            <a:ext cx="5183280" cy="180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64"/>
          <p:cNvSpPr/>
          <p:nvPr/>
        </p:nvSpPr>
        <p:spPr>
          <a:xfrm>
            <a:off x="8893080" y="2349360"/>
            <a:ext cx="0" cy="4321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65"/>
          <p:cNvSpPr/>
          <p:nvPr/>
        </p:nvSpPr>
        <p:spPr>
          <a:xfrm>
            <a:off x="4932360" y="6453360"/>
            <a:ext cx="367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Line 66"/>
          <p:cNvSpPr/>
          <p:nvPr/>
        </p:nvSpPr>
        <p:spPr>
          <a:xfrm>
            <a:off x="179280" y="189000"/>
            <a:ext cx="0" cy="273528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Line 69"/>
          <p:cNvSpPr/>
          <p:nvPr/>
        </p:nvSpPr>
        <p:spPr>
          <a:xfrm>
            <a:off x="179280" y="189000"/>
            <a:ext cx="158436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8000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5636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006600"/>
                </a:solidFill>
                <a:latin typeface="Times New Roman"/>
              </a:rPr>
              <a:t>Ожидаемые результаты</a:t>
            </a:r>
            <a:r>
              <a:rPr b="0" i="1" lang="en-US" sz="43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539280" y="1341360"/>
            <a:ext cx="770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imes New Roman"/>
              </a:rPr>
              <a:t>По окончании проекта «Растем крепкими и здоровыми» предполагается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1. Сформированность у детей стойкой установки на здоровый образ жизн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2. Овладение правильными формами поведения в различных жизненных ситуациях: овладение культурно-гигиеническими навыками, навыками безопасного поведения в окружающей действительност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3. Сформированность представлений о необходимости заботиться о своем здоровь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4. Снижение уровня заболеваемост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5. Повышение уровня компетентности родителей в вопросах здоровьесбереже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Line 5"/>
          <p:cNvSpPr/>
          <p:nvPr/>
        </p:nvSpPr>
        <p:spPr>
          <a:xfrm>
            <a:off x="8604360" y="3213000"/>
            <a:ext cx="0" cy="324036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Line 6"/>
          <p:cNvSpPr/>
          <p:nvPr/>
        </p:nvSpPr>
        <p:spPr>
          <a:xfrm flipH="1" flipV="1">
            <a:off x="3708360" y="6668640"/>
            <a:ext cx="5183280" cy="180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Line 7"/>
          <p:cNvSpPr/>
          <p:nvPr/>
        </p:nvSpPr>
        <p:spPr>
          <a:xfrm>
            <a:off x="8893080" y="2349360"/>
            <a:ext cx="0" cy="4321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4932360" y="6453360"/>
            <a:ext cx="367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179280" y="189000"/>
            <a:ext cx="0" cy="273528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Line 10"/>
          <p:cNvSpPr/>
          <p:nvPr/>
        </p:nvSpPr>
        <p:spPr>
          <a:xfrm flipH="1">
            <a:off x="395280" y="476280"/>
            <a:ext cx="79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395280" y="476280"/>
            <a:ext cx="0" cy="1657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179280" y="189000"/>
            <a:ext cx="158436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3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3:11:46Z</dcterms:created>
  <dc:creator>SamLab.ws</dc:creator>
  <dc:description/>
  <dc:language>en-US</dc:language>
  <cp:lastModifiedBy>Колосок</cp:lastModifiedBy>
  <dcterms:modified xsi:type="dcterms:W3CDTF">2017-10-08T18:46:33Z</dcterms:modified>
  <cp:revision>75</cp:revision>
  <dc:subject/>
  <dc:title>РАСТЕМ КРЕПКИМИ И ЗДОРОВЫМИ</dc:title>
</cp:coreProperties>
</file>