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498-9651-4D33-9A54-8679774B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395-FBB2-4375-B448-93F194B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BF1-10C1-4D6C-A825-F173BC4D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15F-EC17-4168-9C33-97931775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8B19-A822-4B3A-AD5E-19E77FF3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0007-0B0F-4F2A-92FB-72D07186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80FA-4CDA-4D7A-BA18-F8CB9142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CD04-66B2-40C9-AE12-ECDC8A70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81B5-E1AE-4C73-9B42-5ACCDA6B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32C1-6072-4EEC-9A2B-B9ADB558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DF22-94EA-4459-A811-A167480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D88-A586-46BE-BA97-8B302C50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4832-E1E1-4D39-9A7B-60C0F41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2E29-073D-459A-86CC-1D0E1E1F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26A-DB3B-4A4D-9D56-64388F99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791A-67ED-4528-8023-87007579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50C0-219A-4CB4-8431-C08635C9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7E3-D68C-4CDB-8762-9B9AACF4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71E-3DB2-412D-A52A-3F74D542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70F-D10F-4A6F-B19F-847E3DED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5CB-6251-414F-86A6-71B95B91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F03-31E9-431D-A625-0311B6E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668-1666-447F-B8DF-1CB664D4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E8C-F92B-479E-B477-D35FACB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5EAB-A2D6-4B8A-975C-BE2AD5A26F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8CE0-3ADE-4183-9151-1D7003B27A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то такие дети с ОВЗ?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ы отставания ребенка в развит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611280" y="5157720"/>
            <a:ext cx="1296720" cy="1200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788000" y="551664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Суханова Ю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ДОУ д/с №6 «Ласточка» (к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Так кто же на самом деле ребенок с ОВЗ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слуха (глухие, слабослышащие, позднооглохши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зрения (слепые, слабовидящи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речи (логопат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опорно-двигательного аппар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умственной отсталост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задержкой психического разви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поведения и общ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комплексными нарушениями психофизического развития, с так называемыми сложными дефектами (слепоглухонемые, глухие или слепые дети с умственной отсталостью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Темповая задержка развит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держка речевого разви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 стороны речевой деятельности (звукопроизносительной, связной реч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значений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етико-фонематичесоке восприя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447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держка психического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ональ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матоген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генного 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ребрально-органического происхож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1"/>
          <a:stretch/>
        </p:blipFill>
        <p:spPr>
          <a:xfrm>
            <a:off x="3635280" y="5300640"/>
            <a:ext cx="12258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ти с интеллектуальной недостаточностью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сегодняшний день интеллект рассматривается как способность к обучению, абстрактному мышлению, адап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17746668"/>
          <p:cNvPicPr/>
          <p:nvPr/>
        </p:nvPicPr>
        <p:blipFill>
          <a:blip r:embed="rId1"/>
          <a:stretch/>
        </p:blipFill>
        <p:spPr>
          <a:xfrm>
            <a:off x="2700360" y="3357720"/>
            <a:ext cx="404496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утичные де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"Аутичность (от греческого - "сам") - обозначает крайние формы нарушения контактов, уход от реальности в мир собственных переживаний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autizm"/>
          <p:cNvPicPr/>
          <p:nvPr/>
        </p:nvPicPr>
        <p:blipFill>
          <a:blip r:embed="rId1"/>
          <a:stretch/>
        </p:blipFill>
        <p:spPr>
          <a:xfrm>
            <a:off x="2973240" y="3529080"/>
            <a:ext cx="390384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вигательные наруше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9" descr="foto13"/>
          <p:cNvPicPr/>
          <p:nvPr/>
        </p:nvPicPr>
        <p:blipFill>
          <a:blip r:embed="rId1"/>
          <a:stretch/>
        </p:blipFill>
        <p:spPr>
          <a:xfrm>
            <a:off x="2843280" y="1773360"/>
            <a:ext cx="354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енсорные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рушения у дете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дефекты зрения и слуха, а также трудности тактильно-двигательного определения характеристик предметов и объектов окружающего ми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563905_gluhonemye-deti"/>
          <p:cNvPicPr/>
          <p:nvPr/>
        </p:nvPicPr>
        <p:blipFill>
          <a:blip r:embed="rId1"/>
          <a:stretch/>
        </p:blipFill>
        <p:spPr>
          <a:xfrm>
            <a:off x="755640" y="3789360"/>
            <a:ext cx="2840040" cy="2130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yourspeechru_271"/>
          <p:cNvPicPr/>
          <p:nvPr/>
        </p:nvPicPr>
        <p:blipFill>
          <a:blip r:embed="rId2"/>
          <a:stretch/>
        </p:blipFill>
        <p:spPr>
          <a:xfrm>
            <a:off x="4427640" y="3789360"/>
            <a:ext cx="40957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836640"/>
            <a:ext cx="597708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Каждый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бёнок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имеет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ыть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сихологически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готовым 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школьному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бучению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  своём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ров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оответственн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своим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личностным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особенностя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6300720" y="5157720"/>
            <a:ext cx="12254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915920"/>
            <a:ext cx="75438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за внимание!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6732720" y="5013360"/>
            <a:ext cx="12254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06:38:20Z</dcterms:created>
  <dc:creator>Admin</dc:creator>
  <dc:description/>
  <dc:language>en-US</dc:language>
  <cp:lastModifiedBy>User</cp:lastModifiedBy>
  <dcterms:modified xsi:type="dcterms:W3CDTF">2016-11-27T15:37:12Z</dcterms:modified>
  <cp:revision>5</cp:revision>
  <dc:subject/>
  <dc:title>Кто такие дети с ОВЗ? </dc:title>
</cp:coreProperties>
</file>