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BDFA-5679-4BA9-82A5-2D205E90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A91-B736-4B2E-A473-11F8B6D7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C78A-C07C-4DD8-BA21-ACD6CD98F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F46-3332-423B-9381-E3F0BA91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5AE95-8E0C-487A-B50C-A06E8949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F6A4-5219-4AB6-8DFA-2C34A813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9F490-1FAB-46FD-B469-80F55FA1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E44A-D0A7-4967-9ABF-35DFB084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5A8F-A782-48C9-81D8-01FEB694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D934-5248-4F72-8694-1F5E2538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5A16-0EAA-4F1C-B595-C4F8EA07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D1C2-4E0E-43F2-9601-C32492840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455B-49B6-47BF-A412-C1CF0E61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4184-A4BD-461C-ADB3-BF4A9500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8B67-1629-4FAD-A6C7-EC61FA14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566E-BD47-482E-8099-F937A76B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59F7A-F986-4733-92D0-70D611C88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3371-CCE9-471B-BB8E-85734EE9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3956-DDE1-4ED3-B839-C761E613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D44-60AF-40F8-BC39-D853AA82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E45-5024-4F7F-89D3-A129BD6F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8E43-DC62-4C66-8F32-1747DDC6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90D-7D48-4823-A124-4B0E6734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AA8C-4175-4BD1-A73B-5C773566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0E67-9BDE-4382-BD0B-788F1FB26DF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B418-9C5B-46C4-B45D-E759F276FB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то такие дети с ОВЗ?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200"/>
            <a:ext cx="6248520" cy="14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рианты отставания ребенка в развит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3" descr=""/>
          <p:cNvPicPr/>
          <p:nvPr/>
        </p:nvPicPr>
        <p:blipFill>
          <a:blip r:embed="rId1"/>
          <a:stretch/>
        </p:blipFill>
        <p:spPr>
          <a:xfrm>
            <a:off x="611280" y="5157720"/>
            <a:ext cx="1296720" cy="1200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4788000" y="5516640"/>
            <a:ext cx="36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 Суханова Ю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ДОУ д/с №6 «Ласточка» (к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Так кто же на самом деле ребенок с ОВЗ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с нарушением слуха (глухие, слабослышащие, позднооглохши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с нарушением зрения (слепые, слабовидящие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с нарушением речи (логопаты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с нарушением опорно-двигательного аппара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с умственной отсталостью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с задержкой психического развит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с нарушением поведения и общ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ети с комплексными нарушениями психофизического развития, с так называемыми сложными дефектами (слепоглухонемые, глухие или слепые дети с умственной отсталостью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800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Темповая задержка развития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Задержка речевого развит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со стороны речевой деятельности (звукопроизносительной, связной реч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значений с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нетико-фонематичесоке восприя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1719360"/>
            <a:ext cx="42447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Arial"/>
              </a:rPr>
              <a:t>Задержка психического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онституциональ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Соматоген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сихогенного 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ребрально-органического происхожд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3" descr=""/>
          <p:cNvPicPr/>
          <p:nvPr/>
        </p:nvPicPr>
        <p:blipFill>
          <a:blip r:embed="rId1"/>
          <a:stretch/>
        </p:blipFill>
        <p:spPr>
          <a:xfrm>
            <a:off x="3635280" y="5300640"/>
            <a:ext cx="12258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00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00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1000"/>
                            </p:stCondLst>
                            <p:childTnLst>
                              <p:par>
                                <p:cTn id="1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ети с интеллектуальной недостаточностью.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 сегодняшний день интеллект рассматривается как способность к обучению, абстрактному мышлению, адапт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17746668"/>
          <p:cNvPicPr/>
          <p:nvPr/>
        </p:nvPicPr>
        <p:blipFill>
          <a:blip r:embed="rId1"/>
          <a:stretch/>
        </p:blipFill>
        <p:spPr>
          <a:xfrm>
            <a:off x="2700360" y="3357720"/>
            <a:ext cx="404496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Аутичные дет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"Аутичность (от греческого - "сам") - обозначает крайние формы нарушения контактов, уход от реальности в мир собственных переживаний"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autizm"/>
          <p:cNvPicPr/>
          <p:nvPr/>
        </p:nvPicPr>
        <p:blipFill>
          <a:blip r:embed="rId1"/>
          <a:stretch/>
        </p:blipFill>
        <p:spPr>
          <a:xfrm>
            <a:off x="2973240" y="3529080"/>
            <a:ext cx="3903840" cy="26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вигательные нарушения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6" name="Picture 9" descr="foto13"/>
          <p:cNvPicPr/>
          <p:nvPr/>
        </p:nvPicPr>
        <p:blipFill>
          <a:blip r:embed="rId1"/>
          <a:stretch/>
        </p:blipFill>
        <p:spPr>
          <a:xfrm>
            <a:off x="2843280" y="1773360"/>
            <a:ext cx="35496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енсорные 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нарушения у детей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дефекты зрения и слуха, а также трудности тактильно-двигательного определения характеристик предметов и объектов окружающего мир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563905_gluhonemye-deti"/>
          <p:cNvPicPr/>
          <p:nvPr/>
        </p:nvPicPr>
        <p:blipFill>
          <a:blip r:embed="rId1"/>
          <a:stretch/>
        </p:blipFill>
        <p:spPr>
          <a:xfrm>
            <a:off x="755640" y="3789360"/>
            <a:ext cx="2840040" cy="2130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yourspeechru_271"/>
          <p:cNvPicPr/>
          <p:nvPr/>
        </p:nvPicPr>
        <p:blipFill>
          <a:blip r:embed="rId2"/>
          <a:stretch/>
        </p:blipFill>
        <p:spPr>
          <a:xfrm>
            <a:off x="4427640" y="3789360"/>
            <a:ext cx="409572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6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1187280" y="836640"/>
            <a:ext cx="5977080" cy="41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«Каждый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ребёнок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имеет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возмож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быть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психологически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готовым  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школьному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обучению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а  своём 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уровн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оответственно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 своим  </a:t>
            </a: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личностным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 особенностям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3" descr=""/>
          <p:cNvPicPr/>
          <p:nvPr/>
        </p:nvPicPr>
        <p:blipFill>
          <a:blip r:embed="rId1"/>
          <a:stretch/>
        </p:blipFill>
        <p:spPr>
          <a:xfrm>
            <a:off x="6300720" y="5157720"/>
            <a:ext cx="12254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915920"/>
            <a:ext cx="754380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Спасибо </a:t>
            </a:r>
            <a:br>
              <a:rPr sz="5400"/>
            </a:b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за внимание!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4" name="Рисунок 3" descr=""/>
          <p:cNvPicPr/>
          <p:nvPr/>
        </p:nvPicPr>
        <p:blipFill>
          <a:blip r:embed="rId1"/>
          <a:stretch/>
        </p:blipFill>
        <p:spPr>
          <a:xfrm>
            <a:off x="6732720" y="5013360"/>
            <a:ext cx="12254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5T06:38:20Z</dcterms:created>
  <dc:creator>Admin</dc:creator>
  <dc:description/>
  <dc:language>en-US</dc:language>
  <cp:lastModifiedBy>User</cp:lastModifiedBy>
  <dcterms:modified xsi:type="dcterms:W3CDTF">2016-11-27T15:37:12Z</dcterms:modified>
  <cp:revision>5</cp:revision>
  <dc:subject/>
  <dc:title>Кто такие дети с ОВЗ? </dc:title>
</cp:coreProperties>
</file>