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BEC6-1920-4971-B1EE-33FD4BFB273C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489E-C0E0-453A-BE6E-378CCD384425}" type="slidenum">
              <a:rPr b="0" lang="ru-RU" sz="13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3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055-6588-4261-867E-F9CECC30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1E58-820A-4708-B7FF-7B959018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1727-DE9B-4683-B2F9-63906A923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6AC-3429-4CAB-ADCE-ED0470D64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4C4E-BE6E-44EE-8501-0A327C1D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949F-DE86-4F62-AA91-4B80782C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F2A5-1D80-4E92-88F6-CBFBDA148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9F4E-5032-4AF5-9863-FFC11619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E05C-40C7-4A15-A635-5DD7CA22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9985-E428-41DE-AF73-A12E8CE2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017CA-8F00-45BD-9C52-47B52025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EC2-A250-4F26-8F55-91BC9024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C20D-7553-44C4-AA47-69EF2613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360D2-AF35-4E8C-9614-F86394E6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AED7-7D1C-49DC-97D5-41F4958F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E2AA-1D46-4BAE-9C11-A45CB696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D016-956F-4536-A9B8-9024BDA4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D73F-2F5C-40F3-BE31-B40EA649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79C5-AA80-4735-A0D9-5D1F331C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FF2D-9D68-4014-A6C1-5C5210AE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E00-7B9C-4E24-9C4E-7C2D8BB7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AFB8-E3F3-4A5A-A421-DC0F8D0B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1576-78AF-4368-AD8F-8A4A0EF3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E098-3F64-4173-804F-3F6A5F55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2520"/>
                <a:ext cx="1833480" cy="1666800"/>
                <a:chOff x="852480" y="4052520"/>
                <a:chExt cx="1833480" cy="16668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0440" y="3938400"/>
                  <a:ext cx="477360" cy="123552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5520"/>
                    <a:gd name="textAreaBottom" fmla="*/ 1235880 h 123552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52960" y="4978800"/>
                  <a:ext cx="110520" cy="5068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6880"/>
                    <a:gd name="textAreaBottom" fmla="*/ 507240 h 5068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480" y="5567400"/>
                  <a:ext cx="200880" cy="8568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680"/>
                    <a:gd name="textAreaBottom" fmla="*/ 86040 h 856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9783-0ACA-47EA-B955-59CB50A228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8280" y="62280"/>
              <a:ext cx="3621960" cy="6130440"/>
              <a:chOff x="5408280" y="62280"/>
              <a:chExt cx="3621960" cy="61304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7400"/>
                <a:ext cx="2116800" cy="2353320"/>
              </a:xfrm>
              <a:custGeom>
                <a:avLst/>
                <a:gdLst>
                  <a:gd name="textAreaLeft" fmla="*/ 0 w 2116800"/>
                  <a:gd name="textAreaRight" fmla="*/ 2117160 w 2116800"/>
                  <a:gd name="textAreaTop" fmla="*/ -360 h 2353320"/>
                  <a:gd name="textAreaBottom" fmla="*/ 2353320 h 235332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58400"/>
                <a:ext cx="906840" cy="841320"/>
              </a:xfrm>
              <a:custGeom>
                <a:avLst/>
                <a:gdLst>
                  <a:gd name="textAreaLeft" fmla="*/ 0 w 906840"/>
                  <a:gd name="textAreaRight" fmla="*/ 907200 w 906840"/>
                  <a:gd name="textAreaTop" fmla="*/ -360 h 841320"/>
                  <a:gd name="textAreaBottom" fmla="*/ 841320 h 84132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8760"/>
                <a:ext cx="439920" cy="39456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360 h 394560"/>
                  <a:gd name="textAreaBottom" fmla="*/ 395280 h 39456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4280"/>
                <a:ext cx="388800" cy="54972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-360 h 549720"/>
                  <a:gd name="textAreaBottom" fmla="*/ 549720 h 54972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6720" y="2648520"/>
                <a:ext cx="163440" cy="33048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360 h 330480"/>
                  <a:gd name="textAreaBottom" fmla="*/ 331200 h 33048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560" y="1243440"/>
                <a:ext cx="190440" cy="14256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5440"/>
                <a:ext cx="523800" cy="326304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3040"/>
                  <a:gd name="textAreaBottom" fmla="*/ 3263760 h 32630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600" y="305640"/>
              <a:ext cx="888120" cy="826200"/>
              <a:chOff x="5646600" y="305640"/>
              <a:chExt cx="888120" cy="8262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560" y="802800"/>
                <a:ext cx="176040" cy="36144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080" y="478800"/>
                <a:ext cx="301320" cy="300240"/>
              </a:xfrm>
              <a:custGeom>
                <a:avLst/>
                <a:gdLst>
                  <a:gd name="textAreaLeft" fmla="*/ 0 w 301320"/>
                  <a:gd name="textAreaRight" fmla="*/ 301680 w 30132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520" y="403920"/>
                <a:ext cx="315000" cy="152640"/>
              </a:xfrm>
              <a:custGeom>
                <a:avLst/>
                <a:gdLst>
                  <a:gd name="textAreaLeft" fmla="*/ 0 w 315000"/>
                  <a:gd name="textAreaRight" fmla="*/ 315360 w 31500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40600"/>
              <a:chOff x="954000" y="5282640"/>
              <a:chExt cx="1062360" cy="8406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120" y="5546520"/>
                <a:ext cx="251640" cy="3027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5480" y="5765760"/>
                <a:ext cx="430560" cy="25164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720" y="5407200"/>
                <a:ext cx="450000" cy="1281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297E-DF27-4598-92E3-075D9F129A53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%20&#1076;&#1077;&#1090;&#1080;%20&#1080;%20&#1087;&#1088;&#1072;&#1074;&#1072;&amp;noreask=1&amp;img_url=primamedia.ru%2Ffiles%2F83391.jpg&amp;pos=9&amp;rpt=simage&amp;lr=5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text=&#1082;&#1072;&#1088;&#1090;&#1080;&#1085;&#1082;&#1080;%20%20&#1076;&#1077;&#1090;&#1080;%20&#1080;%20&#1087;&#1088;&#1072;&#1074;&#1072;&amp;noreask=1&amp;img_url=wiki.iteach.ru%2Fimages%2F0%2F0e%2F1303195573_prevyupravarus.jpg&amp;pos=16&amp;rpt=simage&amp;lr=5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p=5&amp;text=&#1082;&#1072;&#1088;&#1090;&#1080;&#1085;&#1082;&#1080;%20%20&#1076;&#1077;&#1090;&#1080;%20&#1080;%20&#1087;&#1088;&#1072;&#1074;&#1072;&amp;noreask=1&amp;img_url=ads.mpcstudios.com%2Fuploads%2F2424%2F2009%2F2%2F24%2Fmedium_nature.jpg&amp;pos=166&amp;rpt=simage&amp;lr=54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55920" y="596520"/>
            <a:ext cx="61927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200" spc="-1" strike="noStrike">
                <a:solidFill>
                  <a:srgbClr val="006666"/>
                </a:solidFill>
                <a:latin typeface="Verdana"/>
              </a:rPr>
              <a:t>ПРОЕКТ</a:t>
            </a:r>
            <a:endParaRPr b="0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2895120" y="2666520"/>
            <a:ext cx="61470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Verdana"/>
              </a:rPr>
              <a:t>«Маленькие  дети – большие  права» </a:t>
            </a:r>
            <a:endParaRPr b="0" lang="en-US" sz="6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Picture 5" descr="i?id=233935788-00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28600"/>
            <a:ext cx="358164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5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Verdana"/>
              </a:rPr>
              <a:t>Реализация проекта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990360"/>
            <a:ext cx="82296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ПОЗНА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685800" y="1735560"/>
            <a:ext cx="8109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▪  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Вводная беседа с детьми по знакомству с Конвенцией о правах ребен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▪  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Циклы  познавательных  бесед «Права  детей»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"Что такое право?"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"У каждого есть имя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Семья – семь Я"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"Как дружить без ссоры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"За свое постаю, а чужое не возьму"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"Худо тому, кто добра не делает никому"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"Дети и взрослые "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"Жизнь дана на добрые дела"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"Труд и отдых"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"Грамоте учиться всегда, пригодиться"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"Каждый маленький ребенок, должен знать это с пеленок" и др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2436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Реализация проек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066680"/>
            <a:ext cx="82296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ЧТЕНИЕ ХУДОЖЕСТВЕННОЙ ЛИТЕРАТУР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762120" y="2208240"/>
            <a:ext cx="78897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Организация  выставки  книг  «Мир  детства»,  «День  знаний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Картотека  пословиц  и  поговорок  о  семь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Чтение произведений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-  «Бабушка»  З.Александровой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- «Цветик  -  семицветик В.Катаева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- «Айболит» К.Чуковского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- «Заюшкина избушка» русская народная сказка;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- «Филиппок» Л.Толстого  и др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Реализация проек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440" y="1600200"/>
            <a:ext cx="80010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КОММУНИКАЦИЯ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838080" y="2624400"/>
            <a:ext cx="7772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Беседы  о  правовых  праздниках  «День прав человека»,  «День защиты детей»  и т.п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Оформление   фотоальбома   «Мои   самые   любимые»   с   рисунками   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рассказами детей о своей семь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Разучивание стихотворения О.Бундура «Большая семья»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Реализация проек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219320"/>
            <a:ext cx="822960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cc33"/>
                </a:solidFill>
                <a:latin typeface="Verdana"/>
              </a:rPr>
              <a:t>СОЦИАЛИЗАЦИЯ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Сюжетно-ролевые  игр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Семья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Школа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Детский  сад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▪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Словесные  дидактические  игры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Назови  меня  ласково»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Назови  меня  полным  именем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Можно – нельзя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Развивающие  игры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Мои  права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Я должен…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Кто  нарушил  права?»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Мы  разные,  но у нас равные права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Реализация проек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19320"/>
            <a:ext cx="8229600" cy="48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ТРУД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Совместно  с  родителями  подбор  картотеки  «Профессии  мам и пап»  и «Профессии задействованные в правосудии»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Изготовление  атрибутов для сюжетно-ролевых игр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БЕЗОПАСНОС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Игра-беседа  «Если   чужой стучится в дверь»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ЗДОРОВЬ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Совместная продуктивная деятельность детей и родителей «Если хочешь  быть здоров».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Реализация проек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ФИЗИЧЕСКАЯ КУЛЬТУР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Подвижные игры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Поводырь»,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Разноцветный букет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Хороводные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Друг, дружочек, становись в кружочек»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Угадай по голосу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«Я знаю много имен девочек (мальчиков)»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Реализация проек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ХУДОЖЕСТВЕННОЕ ТВОРЧЕСТВ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Оформление  фото-презентации  «Права  наших  детей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Создание коллажа  «Можно - нельзя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Конкурс  рисунков  «Папа,  мама, я дружная  семья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Совместная  продуктивная  деятельность  детей  и  родителей   «Цветок имени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Коллективная продуктивная деятельность детей - аппликация на тему «Хоровод дружбы».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Verdana"/>
              </a:rPr>
              <a:t>Реализация проект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МУЗЫК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762120" y="2513520"/>
            <a:ext cx="7772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Организация совместного с родителями праздника, посвященного Дню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Матер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Слушание и обсуждение песни «Мамонтенок»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▪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Театрализованное итоговое развлечение «Маленьким детям – большие права»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72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Verdana"/>
              </a:rPr>
              <a:t>Реализация проекта</a:t>
            </a:r>
            <a:br>
              <a:rPr sz="2800"/>
            </a:br>
            <a:r>
              <a:rPr b="1" lang="ru-RU" sz="2800" spc="-1" strike="noStrike">
                <a:solidFill>
                  <a:srgbClr val="33cc33"/>
                </a:solidFill>
                <a:latin typeface="Verdana"/>
              </a:rPr>
              <a:t>Формы взаимодействия с семьей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Результаты анкетирования родителе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Опрошенных -33 челове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33% -не могут назвать названия документов и прав ребен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38% - затрудняются в формулировке прав, имеющихся у ребен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41% -родители применяют наказания к своему ребенку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30% - считают наказания допустимыми в отдельных случаях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Tahoma"/>
              </a:rPr>
              <a:t>29% - уверены, что телесные наказания и иные унижения недопустим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7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Verdana"/>
              </a:rPr>
              <a:t>Опрос родителей на предмет индивидуальных особенностей ребенка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spcBef>
                <a:spcPts val="451"/>
              </a:spcBef>
              <a:buClr>
                <a:srgbClr val="0070c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Verdana"/>
              </a:rPr>
              <a:t>Индивидуальные формы работы с родителями (беседы, консультации, посещение семей, поручения родителям и др.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ндивидуальные формы работы с родителями (беседы, консультации, посещение семей,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Библиотека выходного дня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2849400" cy="4456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2"/>
          <a:stretch/>
        </p:blipFill>
        <p:spPr>
          <a:xfrm>
            <a:off x="5943600" y="2286000"/>
            <a:ext cx="2700360" cy="4319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3"/>
          <a:stretch/>
        </p:blipFill>
        <p:spPr>
          <a:xfrm>
            <a:off x="1143000" y="3048120"/>
            <a:ext cx="2700360" cy="3581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4"/>
          <a:stretch/>
        </p:blipFill>
        <p:spPr>
          <a:xfrm>
            <a:off x="3581280" y="1447920"/>
            <a:ext cx="2519640" cy="395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440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Verdana"/>
              </a:rPr>
              <a:t>АКТУАЛЬНОСТЬ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3352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Правовое воспитание дошкольников является сложным процессом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Verdana"/>
              </a:rPr>
              <a:t>Раннее правовое воспитание способствует общему социальному развитию ребенка, созданию условий для формирования его правосознания и правосообразного поведени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Verdana"/>
              </a:rPr>
              <a:t>Правовое воспитание в детском саду предусматривает отношение к ребенку и его родителям как к партнерам в условиях сотрудничества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6633"/>
                </a:solidFill>
                <a:latin typeface="Verdana"/>
              </a:rPr>
              <a:t>Самые первичные представления о социальных нормах поведения людей, о необходимости определенного порядка в человеческих взаимоотношениях приобретаются в детстве, еще в дошкольный период.</a:t>
            </a:r>
            <a:r>
              <a:rPr b="1" lang="ru-RU" sz="2000" spc="-1" strike="noStrike">
                <a:solidFill>
                  <a:srgbClr val="00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Verdana"/>
              </a:rPr>
              <a:t>В дошкольные годы наиболее активно формируются взгляды, жизненные позиции, типичные мотивы поведения личности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Почтовый ящик «Ваш вопрос — наш ответ»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7" name="Picture 3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3387600" cy="4456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3809880" y="2286000"/>
            <a:ext cx="5040360" cy="377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Verdana"/>
              </a:rPr>
              <a:t>Использование наглядной информации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2700360" cy="41385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"/>
          <p:cNvPicPr/>
          <p:nvPr/>
        </p:nvPicPr>
        <p:blipFill>
          <a:blip r:embed="rId2"/>
          <a:stretch/>
        </p:blipFill>
        <p:spPr>
          <a:xfrm>
            <a:off x="1981080" y="3581280"/>
            <a:ext cx="3959280" cy="28195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"/>
          <p:cNvPicPr/>
          <p:nvPr/>
        </p:nvPicPr>
        <p:blipFill>
          <a:blip r:embed="rId3"/>
          <a:stretch/>
        </p:blipFill>
        <p:spPr>
          <a:xfrm>
            <a:off x="4071960" y="1643040"/>
            <a:ext cx="2519280" cy="3780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"/>
          <p:cNvPicPr/>
          <p:nvPr/>
        </p:nvPicPr>
        <p:blipFill>
          <a:blip r:embed="rId4"/>
          <a:stretch/>
        </p:blipFill>
        <p:spPr>
          <a:xfrm>
            <a:off x="5000760" y="4157640"/>
            <a:ext cx="3390840" cy="2471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5"/>
          <a:stretch/>
        </p:blipFill>
        <p:spPr>
          <a:xfrm>
            <a:off x="6711840" y="1785960"/>
            <a:ext cx="227988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Verdana"/>
              </a:rPr>
              <a:t>Изготовление альбомов «Герб моей семьи», «Права ребенка»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1362240" y="1600200"/>
            <a:ext cx="6419520" cy="44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48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17480"/>
                <a:tab algn="l" pos="1436760"/>
                <a:tab algn="l" pos="2155680"/>
                <a:tab algn="l" pos="2874960"/>
                <a:tab algn="l" pos="3594240"/>
                <a:tab algn="l" pos="4313160"/>
                <a:tab algn="l" pos="5032440"/>
                <a:tab algn="l" pos="5751360"/>
                <a:tab algn="l" pos="6470640"/>
                <a:tab algn="l" pos="7189920"/>
                <a:tab algn="l" pos="7908840"/>
                <a:tab algn="l" pos="8628120"/>
                <a:tab algn="l" pos="9347040"/>
                <a:tab algn="l" pos="10066320"/>
                <a:tab algn="l" pos="107856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Помогает установить доверительные отношения с семьями детей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- Помогает оказывать помощь родителям в повышении правовой компетентности, заинтересованность их данной темой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-Родители становятся полноправными участниками образовательного процесса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Verdana"/>
              </a:rPr>
              <a:t>-дети комфортно чувствуют себя дома и в детском саду</a:t>
            </a:r>
            <a:br>
              <a:rPr sz="2800"/>
            </a:b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Verdana"/>
              </a:rPr>
              <a:t>Спасибо за внимание!</a:t>
            </a:r>
            <a:br>
              <a:rPr sz="4400"/>
            </a:b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2190600" y="1979640"/>
            <a:ext cx="476280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Verdana"/>
              </a:rPr>
              <a:t>ЦЕЛЬ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33"/>
                </a:solidFill>
                <a:latin typeface="Verdana"/>
              </a:rPr>
              <a:t>Создание  условий  для</a:t>
            </a:r>
            <a:r>
              <a:rPr b="1" lang="ru-RU" sz="3200" spc="-1" strike="noStrike">
                <a:solidFill>
                  <a:srgbClr val="33cc33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33cc33"/>
                </a:solidFill>
                <a:latin typeface="Verdana"/>
              </a:rPr>
              <a:t>формирования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33"/>
                </a:solidFill>
                <a:latin typeface="Verdana"/>
              </a:rPr>
              <a:t>  </a:t>
            </a:r>
            <a:r>
              <a:rPr b="1" i="1" lang="ru-RU" sz="3200" spc="-1" strike="noStrike">
                <a:solidFill>
                  <a:srgbClr val="33cc33"/>
                </a:solidFill>
                <a:latin typeface="Verdana"/>
              </a:rPr>
              <a:t>правосознания  у  детей  дошкольного  возраста,    содействие и   объединение  усилий  детского  сада  и  семьи  по  выполнению  прав  ребенка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5" descr="i?id=193855296-45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838080"/>
            <a:ext cx="22352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44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Verdana"/>
              </a:rPr>
              <a:t>ЗАДАЧИ 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33520" y="1294920"/>
            <a:ext cx="822960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Verdana"/>
              </a:rPr>
              <a:t>для детей</a:t>
            </a:r>
            <a:r>
              <a:rPr b="0" i="1" lang="ru-RU" sz="2800" spc="-1" strike="noStrike">
                <a:solidFill>
                  <a:srgbClr val="33cc33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Verdana"/>
              </a:rPr>
              <a:t>расширить  представления  детей  о  своей  принадлежности  к  человеческому  сообществу,  о  правах  детей  в  мире,  дать  элементарные  представления  о  свободе  личности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66"/>
                </a:solidFill>
                <a:latin typeface="Verdana"/>
              </a:rPr>
              <a:t>формировать  чувство  собственного  достоинства,  осознания  своих  прав  и  свобод,  чувство  ответственности  за  другого  человека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7" descr="i?id=292124944-53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5029200"/>
            <a:ext cx="2133720" cy="16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6034320" cy="119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Verdana"/>
              </a:rPr>
              <a:t>ЗАДАЧИ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Verdana"/>
              </a:rPr>
              <a:t>для педагогов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Verdana"/>
              </a:rPr>
              <a:t>уточнить,  закрепить  и  углубить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33cc33"/>
                </a:solidFill>
                <a:latin typeface="Verdana"/>
              </a:rPr>
              <a:t>знания   работников  ДОУ об   основных   положениях   нормативно-законодательных  актов  по  защите  прав  де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Verdana"/>
              </a:rPr>
              <a:t>обобщить  опыт  работы  воспитателей  по  реализации   Конвенции  о  правах  ребенка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Verdana"/>
              </a:rPr>
              <a:t>содействовать   созданию  обстановки  психологического  комфорт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33"/>
                </a:solidFill>
                <a:latin typeface="Verdana"/>
              </a:rPr>
              <a:t>организовать  диагностическое  обследование  родителей  с  целью  выявления  отношения  к  правам  и  достоинствам  маленького  ребенка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4" descr="MC900212117[1]"/>
          <p:cNvPicPr/>
          <p:nvPr/>
        </p:nvPicPr>
        <p:blipFill>
          <a:blip r:embed="rId1"/>
          <a:stretch/>
        </p:blipFill>
        <p:spPr>
          <a:xfrm>
            <a:off x="7010280" y="228600"/>
            <a:ext cx="165096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44000" cy="73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Verdana"/>
              </a:rPr>
              <a:t>ЗАДАЧИ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43000"/>
            <a:ext cx="82296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Verdana"/>
              </a:rPr>
              <a:t>для родителей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Verdana"/>
              </a:rPr>
              <a:t>с  помощью  разнообразных  методов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Verdana"/>
              </a:rPr>
              <a:t>   </a:t>
            </a:r>
            <a:r>
              <a:rPr b="1" i="1" lang="ru-RU" sz="2400" spc="-1" strike="noStrike">
                <a:solidFill>
                  <a:srgbClr val="ff0066"/>
                </a:solidFill>
                <a:latin typeface="Verdana"/>
              </a:rPr>
              <a:t>и  приемов  оптимизировать  работу  с  родителями  детей  старшего  дошкольного  возраста, повысить  правовой  уровень  культуры  родител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Verdana"/>
              </a:rPr>
              <a:t>активизировать  интересы  детей  и  родителей  в  области  прав  и  обязанносте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Verdana"/>
              </a:rPr>
              <a:t>подчеркнуть   роль  взрослого    в  формировании  поведения  ребенка,  ценность  каждого  ребенка  для  общества  вне  зависимости  от  его  индивидуальных  особенностей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6" descr="i?id=248995770-32-72&amp;n=21"/>
          <p:cNvPicPr/>
          <p:nvPr/>
        </p:nvPicPr>
        <p:blipFill>
          <a:blip r:embed="rId1"/>
          <a:stretch/>
        </p:blipFill>
        <p:spPr>
          <a:xfrm>
            <a:off x="7620120" y="228600"/>
            <a:ext cx="114300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440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Verdana"/>
              </a:rPr>
              <a:t>ИТОГОВОЕ </a:t>
            </a:r>
            <a:br>
              <a:rPr sz="4800"/>
            </a:br>
            <a:r>
              <a:rPr b="1" lang="ru-RU" sz="4800" spc="-1" strike="noStrike">
                <a:solidFill>
                  <a:srgbClr val="6600ff"/>
                </a:solidFill>
                <a:latin typeface="Verdana"/>
              </a:rPr>
              <a:t>мероприятие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7616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33"/>
                </a:solidFill>
                <a:latin typeface="Verdana"/>
              </a:rPr>
              <a:t>Форма проведения:  </a:t>
            </a: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театрализованное развлечени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cc33"/>
                </a:solidFill>
                <a:latin typeface="Verdana"/>
              </a:rPr>
              <a:t>Название игрового мероприятия проекта</a:t>
            </a:r>
            <a:r>
              <a:rPr b="0" i="1" lang="ru-RU" sz="3200" spc="-1" strike="noStrike">
                <a:solidFill>
                  <a:srgbClr val="33cc33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99"/>
                </a:solidFill>
                <a:latin typeface="Verdana"/>
              </a:rPr>
              <a:t>«Маленьким детям – большие права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5" descr="i?id=292578436-18-72&amp;n=21"/>
          <p:cNvPicPr/>
          <p:nvPr/>
        </p:nvPicPr>
        <p:blipFill>
          <a:blip r:embed="rId1"/>
          <a:stretch/>
        </p:blipFill>
        <p:spPr>
          <a:xfrm>
            <a:off x="3657600" y="4484520"/>
            <a:ext cx="2819520" cy="21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ff"/>
                </a:solidFill>
                <a:latin typeface="Verdana"/>
              </a:rPr>
              <a:t>ОЖИДАЕМЫЕ </a:t>
            </a:r>
            <a:br>
              <a:rPr sz="4400"/>
            </a:br>
            <a:r>
              <a:rPr b="1" lang="ru-RU" sz="4400" spc="-1" strike="noStrike">
                <a:solidFill>
                  <a:srgbClr val="6600ff"/>
                </a:solidFill>
                <a:latin typeface="Verdana"/>
              </a:rPr>
              <a:t>результаты по проекту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Сформированы элементарные представления детей  о свободе личности как достижении человечеств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В  процессе  правового  воспитания важно, чтобы  дошкольник  усвоил ключевые  понятия: закон, право, правонарушения, национальные отношения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Сформированы элементарные гражданские  навыки: открытость к диалогу, толерантность, умение решать возникающие в повседневной  жизни  конфликты  правовыми  способам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Повышение  уровня  правовой  культуры  родителе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Сформированная  организационно-правовая  основа  взаимодействия  родителей,  детей  и  педагогов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Активизация интересов  детей  и  родителей  в  области  прав  и обязанностей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Обобщение  опыта работы воспитателей  и  специалистов  ДОУ  по  тем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00ff"/>
                </a:solidFill>
                <a:latin typeface="Verdana"/>
              </a:rPr>
              <a:t>ПРОДУКТ проекта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Театрализованное итоговое развлечение «Маленьким детям – большие права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Оформление  фото-презентации  «Права  наших  детей»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99"/>
                </a:solidFill>
                <a:latin typeface="Verdana"/>
              </a:rPr>
              <a:t>Картотека  пословиц  и  поговорок  о  семье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Анкетирование  «Какие  вы  знаете  документы  по  правам  ребенка», «Хорошие  ли  вы родители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▪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Консультация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▪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Творческие  задания  совместно  с  родителями,  сочинения  на  тему: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- «Домашние обязанности  детей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- «Мой мир» (с рисунками и  фото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▪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обрание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 «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рава родителей, права детей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▪ </a:t>
            </a: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Папка – передвижка «Права детей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Verdana"/>
              </a:rPr>
              <a:t>Совместное оформление с родителями фотовыставки «Моя семья»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4T11:38:09Z</dcterms:created>
  <dc:creator>Родители</dc:creator>
  <dc:description/>
  <dc:language>en-US</dc:language>
  <cp:lastModifiedBy>Анастасия</cp:lastModifiedBy>
  <dcterms:modified xsi:type="dcterms:W3CDTF">2013-08-28T11:47:58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