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12.gif" ContentType="image/gif"/>
  <Override PartName="/ppt/media/image10.jpeg" ContentType="image/jpeg"/>
  <Override PartName="/ppt/media/image5.png" ContentType="image/png"/>
  <Override PartName="/ppt/media/image8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2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gif" ContentType="image/gif"/>
  <Override PartName="/ppt/media/image14.jpeg" ContentType="image/jpeg"/>
  <Override PartName="/ppt/media/image2.png" ContentType="image/png"/>
  <Override PartName="/ppt/media/image3.png" ContentType="image/png"/>
  <Override PartName="/ppt/media/image23.gif" ContentType="image/gif"/>
  <Override PartName="/ppt/media/image4.png" ContentType="image/png"/>
  <Override PartName="/ppt/media/image2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4061-58A2-4D73-8CDD-1E1A2DD6F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86200" y="3397320"/>
            <a:ext cx="502776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1F7F-3D6A-4D54-A79D-DD4BD1A2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86200" y="3397320"/>
            <a:ext cx="502776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D49C-4004-40E5-8492-CDBB3E5EA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86200" y="3397320"/>
            <a:ext cx="502776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02EF-8316-4012-92E1-EEFF363EF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96A8-4E1F-4DEE-A1DD-ED354E6FA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86200" y="3397320"/>
            <a:ext cx="502776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0A99-5605-48E1-8B01-E1954BE1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86200" y="3397320"/>
            <a:ext cx="502776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3442-2535-422C-A9A1-DD787932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86200" y="3397320"/>
            <a:ext cx="502776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085A-27DD-4759-BF6B-B65979660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86200" y="3397320"/>
            <a:ext cx="502776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30F0-7E66-43E5-83C8-8F4B817C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86200" y="3397320"/>
            <a:ext cx="5027760" cy="80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3D00-0D81-4F5F-9181-785247EA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86200" y="3397320"/>
            <a:ext cx="502776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4D23-6896-49BF-B71E-78F6E669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86200" y="3397320"/>
            <a:ext cx="502776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6475-8B95-4F1C-AF1D-1211D0C2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86200" y="3397320"/>
            <a:ext cx="502776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1D0F-354F-4AD0-9E25-C3E4B7F0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86200" y="3397320"/>
            <a:ext cx="502776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4ED4-0B0F-4F59-ABEC-DB048536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86200" y="3397320"/>
            <a:ext cx="502776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3393A-2A00-49C5-BBB3-CA466A08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86200" y="3397320"/>
            <a:ext cx="502776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30F73-041E-43D3-B16D-BBD76ADD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86200" y="3397320"/>
            <a:ext cx="502776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BDDD-39D6-491E-BAC1-B79DE83A0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86200" y="3397320"/>
            <a:ext cx="502776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D2EB-2169-40DE-9456-9F6A52C8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86200" y="3397320"/>
            <a:ext cx="502776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6440-D530-4BEE-9A92-00351224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86200" y="3397320"/>
            <a:ext cx="502776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E274-A0B5-4124-BC7D-3EAD115F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86200" y="3397320"/>
            <a:ext cx="5027760" cy="80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E527-17E3-40A2-B2F3-609B9EC9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86200" y="3397320"/>
            <a:ext cx="502776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67B7-76F5-4774-89E6-A4DF191B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86200" y="3397320"/>
            <a:ext cx="502776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795A-2081-4D21-A0AE-39E17761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86200" y="3397320"/>
            <a:ext cx="502776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0668-2976-49CF-BA5B-5F8DE039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-290880"/>
            <a:ext cx="739008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685800"/>
            <a:ext cx="708516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60720"/>
            <a:ext cx="2131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689520"/>
            <a:ext cx="28940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2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A7D2837-705A-44B2-9A0C-29837B2C1165}" type="slidenum">
              <a:rPr b="1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-1066680" y="-457200"/>
            <a:ext cx="4360680" cy="7924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86200" y="3397320"/>
            <a:ext cx="502776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89520"/>
            <a:ext cx="21319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3720" y="6689520"/>
            <a:ext cx="28940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2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941351F-428D-4E32-B3B5-C8BED10ACBDD}" type="slidenum">
              <a:rPr b="0" lang="ru-RU" sz="10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64000" y="4508280"/>
            <a:ext cx="5184720" cy="16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Impact"/>
              </a:rPr>
              <a:t>Мир увлечений</a:t>
            </a:r>
            <a:br>
              <a:rPr sz="4400"/>
            </a:br>
            <a:r>
              <a:rPr b="0" i="1" lang="ru-RU" sz="3200" spc="-1" strike="noStrike">
                <a:solidFill>
                  <a:srgbClr val="ffffff"/>
                </a:solidFill>
                <a:latin typeface="Impact"/>
              </a:rPr>
              <a:t>Работу выполнила ученица 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Impact"/>
              </a:rPr>
              <a:t>2 «Б» класса ГОУ СОШ №399</a:t>
            </a:r>
            <a:br>
              <a:rPr sz="3200"/>
            </a:br>
            <a:r>
              <a:rPr b="0" i="1" lang="ru-RU" sz="3200" spc="-1" strike="noStrike">
                <a:solidFill>
                  <a:srgbClr val="ffffff"/>
                </a:solidFill>
                <a:latin typeface="Impact"/>
              </a:rPr>
              <a:t>Фраенова А</a:t>
            </a:r>
            <a:r>
              <a:rPr b="0" i="1" lang="en-US" sz="3200" spc="-1" strike="noStrike">
                <a:solidFill>
                  <a:srgbClr val="ffffff"/>
                </a:solidFill>
                <a:latin typeface="Impact"/>
              </a:rPr>
              <a:t>.</a:t>
            </a:r>
            <a:r>
              <a:rPr b="0" i="1" lang="ru-RU" sz="3200" spc="-1" strike="noStrike">
                <a:solidFill>
                  <a:srgbClr val="ffffff"/>
                </a:solidFill>
                <a:latin typeface="Impact"/>
              </a:rPr>
              <a:t> А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-531720"/>
            <a:ext cx="4357800" cy="7924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640" y="-4329720"/>
            <a:ext cx="6984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987640" y="1196640"/>
            <a:ext cx="51847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У меня много разных увлечений. Я люблю кататься на роликах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Устраивать гонки с мальчишками на радиоуправляемых машинках.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Мне нравиться читать реп на школьных концертах.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2"/>
          <a:stretch/>
        </p:blipFill>
        <p:spPr>
          <a:xfrm>
            <a:off x="6300720" y="3573360"/>
            <a:ext cx="2590920" cy="29768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2987640" y="3716280"/>
            <a:ext cx="338472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Но мое самое главное увлечение – это сладости. Я непросто ем сладости, я сама их готовлю! Когда я выросту, то обязательно стану шеф поваром кондитерских изделий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86200" y="3397320"/>
            <a:ext cx="502776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6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DSCN5446"/>
          <p:cNvPicPr/>
          <p:nvPr/>
        </p:nvPicPr>
        <p:blipFill>
          <a:blip r:embed="rId2"/>
          <a:stretch/>
        </p:blipFill>
        <p:spPr>
          <a:xfrm>
            <a:off x="5219640" y="333360"/>
            <a:ext cx="1873440" cy="244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DSCN5410"/>
          <p:cNvPicPr/>
          <p:nvPr/>
        </p:nvPicPr>
        <p:blipFill>
          <a:blip r:embed="rId3"/>
          <a:stretch/>
        </p:blipFill>
        <p:spPr>
          <a:xfrm>
            <a:off x="4140360" y="2924280"/>
            <a:ext cx="2520720" cy="3456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DSCN5425"/>
          <p:cNvPicPr/>
          <p:nvPr/>
        </p:nvPicPr>
        <p:blipFill>
          <a:blip r:embed="rId4"/>
          <a:stretch/>
        </p:blipFill>
        <p:spPr>
          <a:xfrm>
            <a:off x="6804000" y="3357720"/>
            <a:ext cx="1728720" cy="3240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DSCN5414"/>
          <p:cNvPicPr/>
          <p:nvPr/>
        </p:nvPicPr>
        <p:blipFill>
          <a:blip r:embed="rId5"/>
          <a:stretch/>
        </p:blipFill>
        <p:spPr>
          <a:xfrm>
            <a:off x="7236000" y="907920"/>
            <a:ext cx="1692000" cy="1484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DSCN5433"/>
          <p:cNvPicPr/>
          <p:nvPr/>
        </p:nvPicPr>
        <p:blipFill>
          <a:blip r:embed="rId6"/>
          <a:stretch/>
        </p:blipFill>
        <p:spPr>
          <a:xfrm>
            <a:off x="468360" y="4005360"/>
            <a:ext cx="3095640" cy="24922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5"/>
          <p:cNvSpPr/>
          <p:nvPr/>
        </p:nvSpPr>
        <p:spPr>
          <a:xfrm>
            <a:off x="303120" y="111240"/>
            <a:ext cx="38372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то бы готовить вкусно надо учиться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этому я читаю книги, покупа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журналы про выпечку.  Многому мен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учила мама. Так же я была на маст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лассе в кафе Андерсон, где узна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ного нового и интересног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17" descr=""/>
          <p:cNvPicPr/>
          <p:nvPr/>
        </p:nvPicPr>
        <p:blipFill>
          <a:blip r:embed="rId7"/>
          <a:stretch/>
        </p:blipFill>
        <p:spPr>
          <a:xfrm>
            <a:off x="3708360" y="333360"/>
            <a:ext cx="10638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32000" y="-733680"/>
            <a:ext cx="420480" cy="78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7451640" y="4076640"/>
            <a:ext cx="1432080" cy="25416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1692360" y="692280"/>
            <a:ext cx="6121440" cy="21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 кондитерском деле много всяки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хитростей и секре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Чем больше ты знаешь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тем вкуснее готовиш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700360" y="2565360"/>
            <a:ext cx="4680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Открою несколько секре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.Не открывайте духовку в первые15 минут выпечки, иначе бисквит опад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.Разрыхлитель для теста можно заменить содой разведенной уксус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.Торт должен простоять не меньше, чем полдня. Чтобы пропитаться и стать вкусны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86200" y="3397320"/>
            <a:ext cx="502776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6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DSCN5384"/>
          <p:cNvPicPr/>
          <p:nvPr/>
        </p:nvPicPr>
        <p:blipFill>
          <a:blip r:embed="rId2"/>
          <a:stretch/>
        </p:blipFill>
        <p:spPr>
          <a:xfrm>
            <a:off x="179280" y="260280"/>
            <a:ext cx="2376720" cy="244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DSCN5385"/>
          <p:cNvPicPr/>
          <p:nvPr/>
        </p:nvPicPr>
        <p:blipFill>
          <a:blip r:embed="rId3"/>
          <a:stretch/>
        </p:blipFill>
        <p:spPr>
          <a:xfrm>
            <a:off x="2771640" y="2421000"/>
            <a:ext cx="2305080" cy="2232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DSCN5386"/>
          <p:cNvPicPr/>
          <p:nvPr/>
        </p:nvPicPr>
        <p:blipFill>
          <a:blip r:embed="rId4"/>
          <a:stretch/>
        </p:blipFill>
        <p:spPr>
          <a:xfrm>
            <a:off x="1476360" y="4941720"/>
            <a:ext cx="2232000" cy="1729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11"/>
          <p:cNvSpPr/>
          <p:nvPr/>
        </p:nvSpPr>
        <p:spPr>
          <a:xfrm>
            <a:off x="5580000" y="476280"/>
            <a:ext cx="288144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т так я готовлю свои слад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ексы - это одно из любимых сладост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мы и бабушки. Поэтому когда я хочу их порадовать, пеку шоколадные кексек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этом рецепте есть свой секре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тесто я кладу кусочки шоколада. От чего кексы становятся по-настоящему шоколадные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13" descr=""/>
          <p:cNvPicPr/>
          <p:nvPr/>
        </p:nvPicPr>
        <p:blipFill>
          <a:blip r:embed="rId5"/>
          <a:stretch/>
        </p:blipFill>
        <p:spPr>
          <a:xfrm>
            <a:off x="468360" y="2781360"/>
            <a:ext cx="15843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86200" y="3397320"/>
            <a:ext cx="502776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6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tretch/>
        </p:blipFill>
        <p:spPr>
          <a:xfrm>
            <a:off x="6443640" y="4365720"/>
            <a:ext cx="2089080" cy="21114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7"/>
          <p:cNvSpPr/>
          <p:nvPr/>
        </p:nvSpPr>
        <p:spPr>
          <a:xfrm>
            <a:off x="250920" y="189000"/>
            <a:ext cx="453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Так же в кондитерском деле важно, какую посуд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ы используете пр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риготовлении блю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24000" y="1628640"/>
            <a:ext cx="8640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Преимущества силиконовых форм для выпечк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.Силиконовые формы для выпечки занимают на кухне немного мес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2.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Любое блюдо, приготовленное в силиконовой форме, легко вынимаетс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.В силиконовой посуде можно готовить блюда в духовки или в микроволновк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.Формы из силикона яркие и красивы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9" descr="DSCN5538"/>
          <p:cNvPicPr/>
          <p:nvPr/>
        </p:nvPicPr>
        <p:blipFill>
          <a:blip r:embed="rId3"/>
          <a:stretch/>
        </p:blipFill>
        <p:spPr>
          <a:xfrm>
            <a:off x="2916360" y="4221000"/>
            <a:ext cx="3095640" cy="2233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"/>
          <p:cNvPicPr/>
          <p:nvPr/>
        </p:nvPicPr>
        <p:blipFill>
          <a:blip r:embed="rId4"/>
          <a:stretch/>
        </p:blipFill>
        <p:spPr>
          <a:xfrm>
            <a:off x="900000" y="4437000"/>
            <a:ext cx="15130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480" y="-4663080"/>
            <a:ext cx="8280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6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17" name="Picture 9" descr="DSCN5142"/>
          <p:cNvPicPr/>
          <p:nvPr/>
        </p:nvPicPr>
        <p:blipFill>
          <a:blip r:embed="rId1"/>
          <a:stretch/>
        </p:blipFill>
        <p:spPr>
          <a:xfrm>
            <a:off x="3059280" y="692280"/>
            <a:ext cx="4174920" cy="36716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0"/>
          <p:cNvSpPr/>
          <p:nvPr/>
        </p:nvSpPr>
        <p:spPr>
          <a:xfrm>
            <a:off x="2556000" y="4581360"/>
            <a:ext cx="59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Этот торт я сделала своему братику на его день рожд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2" descr=""/>
          <p:cNvPicPr/>
          <p:nvPr/>
        </p:nvPicPr>
        <p:blipFill>
          <a:blip r:embed="rId2"/>
          <a:stretch/>
        </p:blipFill>
        <p:spPr>
          <a:xfrm>
            <a:off x="7308720" y="1268280"/>
            <a:ext cx="147636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86200" y="3397320"/>
            <a:ext cx="5027760" cy="17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6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611280" y="4508640"/>
            <a:ext cx="6337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ahoma"/>
              </a:rPr>
              <a:t>Спасибо за внимани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900000" y="981000"/>
            <a:ext cx="188604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8T16:07:32Z</dcterms:created>
  <dc:creator>gheka</dc:creator>
  <dc:description/>
  <dc:language>en-US</dc:language>
  <cp:lastModifiedBy>skuns05</cp:lastModifiedBy>
  <dcterms:modified xsi:type="dcterms:W3CDTF">2017-10-08T17:21:48Z</dcterms:modified>
  <cp:revision>58</cp:revision>
  <dc:subject/>
  <dc:title>Silly Mime</dc:title>
</cp:coreProperties>
</file>