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14.jpeg" ContentType="image/jpeg"/>
  <Override PartName="/ppt/media/image2.png" ContentType="image/png"/>
  <Override PartName="/ppt/media/image3.png" ContentType="image/png"/>
  <Override PartName="/ppt/media/image23.gif" ContentType="image/gif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CCD-BDB8-4CF4-933C-A1D9E810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A6E-0F91-4273-8DCD-A2E286A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575-F1BA-4F54-B0F6-9EA38D08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154-80EC-46D7-9EBC-C8966AA9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46D5-C515-442E-B6AA-EFBE4362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5B8-5375-4E59-9582-90648EF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2D8-119C-47EE-B698-E3CBF089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2B7-CFE9-4A71-AE5D-15434C1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63E5-776B-4FE5-9BAD-042D4A1B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86200" y="3397320"/>
            <a:ext cx="5027760" cy="80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0C7-1D3E-4CDF-92A7-5B42112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E203-0BAA-44BF-A873-FC0A5D6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70D-8C3B-436A-B95C-7ED8ACC8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C040-01F0-4C79-931F-FD9AE59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960-EB46-43DF-9A57-F67141A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5D20-A291-443A-9023-71F180D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DE2-218B-404A-9FC9-E486F9F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E38-00DC-486E-8E22-AF1FD0C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B2C-11FF-4D1E-9A0A-B9AA50C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7AD-CE3A-40A0-9E81-1762C29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622-2294-4CB7-9FEE-3989DB1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86200" y="3397320"/>
            <a:ext cx="5027760" cy="80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A7F-7F63-4BF6-8B27-27898E6F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13-0A88-4306-B991-86EE38A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292-2328-4CD1-9457-6D58C18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D03-8F41-4B17-AA72-82DC343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-290880"/>
            <a:ext cx="739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685800"/>
            <a:ext cx="708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60720"/>
            <a:ext cx="2131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689520"/>
            <a:ext cx="2894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2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B5D66-FAFA-4A8D-9115-BE95A3524C13}" type="slidenum">
              <a:rPr b="1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066680" y="-457200"/>
            <a:ext cx="4360680" cy="792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89520"/>
            <a:ext cx="2131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689520"/>
            <a:ext cx="2894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2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15B0DA-8078-4A54-9DBB-2DB47C39FF23}" type="slidenum"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64000" y="4508280"/>
            <a:ext cx="5184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Impact"/>
              </a:rPr>
              <a:t>Мир увлечений</a:t>
            </a:r>
            <a:br>
              <a:rPr sz="44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Работу выполнила ученица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2 «Б» класса ГОУ СОШ №399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Фраенова А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 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-531720"/>
            <a:ext cx="4357800" cy="792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-432972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87640" y="1196640"/>
            <a:ext cx="51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 меня много разных увлечений. Я люблю кататься на роликах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страивать гонки с мальчишками на радиоуправляемых машинках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не нравиться читать реп на школьных концертах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590920" cy="2976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987640" y="3716280"/>
            <a:ext cx="3384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мое самое главное увлечение – это сладости. Я непросто ем сладости, я сама их готовлю! Когда я выросту, то обязательно стану шеф поваром кондитерских издели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SCN5446"/>
          <p:cNvPicPr/>
          <p:nvPr/>
        </p:nvPicPr>
        <p:blipFill>
          <a:blip r:embed="rId2"/>
          <a:stretch/>
        </p:blipFill>
        <p:spPr>
          <a:xfrm>
            <a:off x="5219640" y="333360"/>
            <a:ext cx="18734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DSCN5410"/>
          <p:cNvPicPr/>
          <p:nvPr/>
        </p:nvPicPr>
        <p:blipFill>
          <a:blip r:embed="rId3"/>
          <a:stretch/>
        </p:blipFill>
        <p:spPr>
          <a:xfrm>
            <a:off x="4140360" y="2924280"/>
            <a:ext cx="2520720" cy="345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SCN5425"/>
          <p:cNvPicPr/>
          <p:nvPr/>
        </p:nvPicPr>
        <p:blipFill>
          <a:blip r:embed="rId4"/>
          <a:stretch/>
        </p:blipFill>
        <p:spPr>
          <a:xfrm>
            <a:off x="6804000" y="3357720"/>
            <a:ext cx="172872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SCN5414"/>
          <p:cNvPicPr/>
          <p:nvPr/>
        </p:nvPicPr>
        <p:blipFill>
          <a:blip r:embed="rId5"/>
          <a:stretch/>
        </p:blipFill>
        <p:spPr>
          <a:xfrm>
            <a:off x="7236000" y="907920"/>
            <a:ext cx="169200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SCN5433"/>
          <p:cNvPicPr/>
          <p:nvPr/>
        </p:nvPicPr>
        <p:blipFill>
          <a:blip r:embed="rId6"/>
          <a:stretch/>
        </p:blipFill>
        <p:spPr>
          <a:xfrm>
            <a:off x="468360" y="4005360"/>
            <a:ext cx="3095640" cy="249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5"/>
          <p:cNvSpPr/>
          <p:nvPr/>
        </p:nvSpPr>
        <p:spPr>
          <a:xfrm>
            <a:off x="303120" y="111240"/>
            <a:ext cx="38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бы готовить вкусно надо учить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я читаю книги, покупа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урналы про выпечку.  Многому ме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чила мама. Так же я была на ма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е в кафе Андерсон, где узн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 нового и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"/>
          <p:cNvPicPr/>
          <p:nvPr/>
        </p:nvPicPr>
        <p:blipFill>
          <a:blip r:embed="rId7"/>
          <a:stretch/>
        </p:blipFill>
        <p:spPr>
          <a:xfrm>
            <a:off x="3708360" y="333360"/>
            <a:ext cx="106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-733680"/>
            <a:ext cx="420480" cy="78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432080" cy="2541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692360" y="692280"/>
            <a:ext cx="612144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ондитерском деле много вся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хитростей и секр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м больше ты знаеш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 вкуснее готов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700360" y="2565360"/>
            <a:ext cx="468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крою несколько секр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Не открывайте духовку в первые15 минут выпечки, иначе бисквит опад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Разрыхлитель для теста можно заменить содой разведенной уксус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Торт должен простоять не меньше, чем полдня. Чтобы пропитаться и стать вкус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N5384"/>
          <p:cNvPicPr/>
          <p:nvPr/>
        </p:nvPicPr>
        <p:blipFill>
          <a:blip r:embed="rId2"/>
          <a:stretch/>
        </p:blipFill>
        <p:spPr>
          <a:xfrm>
            <a:off x="179280" y="260280"/>
            <a:ext cx="23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SCN5385"/>
          <p:cNvPicPr/>
          <p:nvPr/>
        </p:nvPicPr>
        <p:blipFill>
          <a:blip r:embed="rId3"/>
          <a:stretch/>
        </p:blipFill>
        <p:spPr>
          <a:xfrm>
            <a:off x="2771640" y="242100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SCN5386"/>
          <p:cNvPicPr/>
          <p:nvPr/>
        </p:nvPicPr>
        <p:blipFill>
          <a:blip r:embed="rId4"/>
          <a:stretch/>
        </p:blipFill>
        <p:spPr>
          <a:xfrm>
            <a:off x="1476360" y="4941720"/>
            <a:ext cx="2232000" cy="1729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5580000" y="476280"/>
            <a:ext cx="2881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т так я готовлю свои слад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ксы - это одно из любимых слад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мы и бабушки. Поэтому когда я хочу их порадовать, пеку шоколадные кексе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м рецепте есть свой секр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сто я кладу кусочки шоколада. От чего кексы становятся по-настоящему шоколадны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158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2089080" cy="2111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250920" y="18900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ак же в кондитерском деле важно, какую посу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 используете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готовлении блю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24000" y="162864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имущества силиконовых форм для выпеч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Силиконовые формы для выпечки занимают на кухне немного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Любое блюдо, приготовленное в силиконовой форме, легко выним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В силиконовой посуде можно готовить блюда в духовки или в микроволнов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Формы из силикона яркие и красив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DSCN5538"/>
          <p:cNvPicPr/>
          <p:nvPr/>
        </p:nvPicPr>
        <p:blipFill>
          <a:blip r:embed="rId3"/>
          <a:stretch/>
        </p:blipFill>
        <p:spPr>
          <a:xfrm>
            <a:off x="2916360" y="4221000"/>
            <a:ext cx="309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51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-4663080"/>
            <a:ext cx="828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7" name="Picture 9" descr="DSCN5142"/>
          <p:cNvPicPr/>
          <p:nvPr/>
        </p:nvPicPr>
        <p:blipFill>
          <a:blip r:embed="rId1"/>
          <a:stretch/>
        </p:blipFill>
        <p:spPr>
          <a:xfrm>
            <a:off x="3059280" y="692280"/>
            <a:ext cx="4174920" cy="367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556000" y="458136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тот торт я сделала своему братику на его день ро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47636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611280" y="4508640"/>
            <a:ext cx="633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8860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6:07:32Z</dcterms:created>
  <dc:creator>gheka</dc:creator>
  <dc:description/>
  <dc:language>en-US</dc:language>
  <cp:lastModifiedBy>skuns05</cp:lastModifiedBy>
  <dcterms:modified xsi:type="dcterms:W3CDTF">2017-10-08T17:21:48Z</dcterms:modified>
  <cp:revision>58</cp:revision>
  <dc:subject/>
  <dc:title>Silly Mime</dc:title>
</cp:coreProperties>
</file>