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3492-DC77-4651-90B4-07DD8FE2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33716-0CD8-46E4-9057-D825D4AD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E441F-BDFB-4BB6-99D0-FCF58D01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AC05-6D0D-42C6-8A93-EE585582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96EE-CCCC-4492-BA5D-5AED18E2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6D23-13F0-48B8-ABD8-7FBA1A1C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9B994-93E6-4AEF-BD75-9E99B8C8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EEA9-3317-48DF-AF8B-6602200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41B-6A97-4957-8878-99CCC17F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EDC9-24E5-4628-9B8A-C98BF17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1CB0-D234-4708-A770-172C70C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E8BB-0AF6-4E1D-9A12-54A71333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D5C5-BD0E-457C-BC23-706EF1CC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F5C2-5D47-447F-BF64-FFE77D2D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C207-511A-4A21-AB06-ECCDB77B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6EFB-C4CD-474E-9745-444AD2C63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0A88-E359-4D23-8A58-21E1B485A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AFDF-A417-4D10-82E9-FFB41964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DB65D-135E-4E83-A77E-957179F9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8F99C-C26A-4851-A7B4-8C511099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B9FA1-5314-41F0-BD04-C52759B7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8B2C3-F210-455A-A479-1FDD2295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1076-EF41-4660-8835-E387D231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1D218-C9A4-4E1A-B10B-DB319A22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F525-A6D2-407E-9918-EA4E15AC63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AFFD-97B6-41BA-9DEA-3FB740CEFED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3" descr="C:\Users\User\Desktop\гжель\Слайд1.JPG"/>
          <p:cNvPicPr/>
          <p:nvPr/>
        </p:nvPicPr>
        <p:blipFill>
          <a:blip r:embed="rId1"/>
          <a:stretch/>
        </p:blipFill>
        <p:spPr>
          <a:xfrm>
            <a:off x="-3492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Picture 2" descr="C:\Users\User\Desktop\гжель\Слайд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2" descr="C:\Users\User\Desktop\гжель\Слайд11.JPG"/>
          <p:cNvPicPr/>
          <p:nvPr/>
        </p:nvPicPr>
        <p:blipFill>
          <a:blip r:embed="rId1"/>
          <a:stretch/>
        </p:blipFill>
        <p:spPr>
          <a:xfrm>
            <a:off x="-28440" y="-93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2" descr="C:\Users\User\Desktop\гжель\Слайд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C:\Users\User\Desktop\гжель\Слайд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2" descr="C:\Users\User\Desktop\гжель\Слайд2.JPG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2" descr="C:\Users\User\Desktop\гжель\Слайд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Picture 2" descr="C:\Users\User\Desktop\гжель\Слайд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C:\Users\User\Desktop\гжель\Слайд5.JPG"/>
          <p:cNvPicPr/>
          <p:nvPr/>
        </p:nvPicPr>
        <p:blipFill>
          <a:blip r:embed="rId1"/>
          <a:stretch/>
        </p:blipFill>
        <p:spPr>
          <a:xfrm>
            <a:off x="-28440" y="-46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2" descr="C:\Users\User\Desktop\гжель\Слайд6.JPG"/>
          <p:cNvPicPr/>
          <p:nvPr/>
        </p:nvPicPr>
        <p:blipFill>
          <a:blip r:embed="rId1"/>
          <a:stretch/>
        </p:blipFill>
        <p:spPr>
          <a:xfrm>
            <a:off x="22320" y="23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C:\Users\User\Desktop\гжель\Слайд7.JPG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2" descr="C:\Users\User\Desktop\гжель\Слайд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2" descr="C:\Users\User\Desktop\гжель\Слайд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9:09:05Z</dcterms:created>
  <dc:creator>Галина</dc:creator>
  <dc:description/>
  <dc:language>en-US</dc:language>
  <cp:lastModifiedBy>Пользователь</cp:lastModifiedBy>
  <dcterms:modified xsi:type="dcterms:W3CDTF">2017-10-07T16:59:26Z</dcterms:modified>
  <cp:revision>18</cp:revision>
  <dc:subject/>
  <dc:title>Народные промыслы</dc:title>
</cp:coreProperties>
</file>