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3274-2B0B-4170-A273-B84D7BB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F9C1-B3D7-4547-B0E5-D2317C38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079D-3687-43A8-9551-93C09F50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CA40-0190-49BA-8024-60CCB846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0289-0C84-4C25-AD77-AA1B8B53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A1D-1F75-4535-B6B6-3CCCDF27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003C-363E-494E-8318-D26B80C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71DA-A1F7-4A85-8959-A47640D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036-DD86-4466-A909-C9EB57E9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C15-8B14-479D-A1FA-474DCE3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8081-A8FC-4052-9DF6-F77AC14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274C-D6DC-4145-87E6-B9CEFEF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7AD8-D039-4140-A9C7-E571B6CE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55E-FF16-4AED-A559-67C5F84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C49-040A-4411-9EDB-3237874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630-A250-4BDD-BE16-FEA7873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4C68-212B-4F6F-83F6-7203086D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E230-9D13-48F5-8B39-F5F0EFD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B3D1-A9B7-4C0A-BF98-BCE98B6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DF08-AEAD-4C52-8A1B-501FD3D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D61C-B3DA-461C-A726-56BE246B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8781-D7E9-458E-9BAB-3EC6E61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CFA2-66B3-45BA-8E20-C8F48B1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7845-ABCF-459E-8C02-0895D6F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A99-89F3-49B6-B1C5-2095506D47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470-7828-416D-89E0-FA63FCA9AE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" descr="C:\Users\User\Desktop\гжель\Слайд1.JPG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2" descr="C:\Users\User\Desktop\гжель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" descr="C:\Users\User\Desktop\гжель\Слайд11.JPG"/>
          <p:cNvPicPr/>
          <p:nvPr/>
        </p:nvPicPr>
        <p:blipFill>
          <a:blip r:embed="rId1"/>
          <a:stretch/>
        </p:blipFill>
        <p:spPr>
          <a:xfrm>
            <a:off x="-28440" y="-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C:\Users\User\Desktop\гжель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C:\Users\User\Desktop\гжель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2" descr="C:\Users\User\Desktop\гжель\Слайд2.JPG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C:\Users\User\Desktop\гжель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C:\Users\User\Desktop\гжель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C:\Users\User\Desktop\гжель\Слайд5.JPG"/>
          <p:cNvPicPr/>
          <p:nvPr/>
        </p:nvPicPr>
        <p:blipFill>
          <a:blip r:embed="rId1"/>
          <a:stretch/>
        </p:blipFill>
        <p:spPr>
          <a:xfrm>
            <a:off x="-2844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C:\Users\User\Desktop\гжель\Слайд6.JPG"/>
          <p:cNvPicPr/>
          <p:nvPr/>
        </p:nvPicPr>
        <p:blipFill>
          <a:blip r:embed="rId1"/>
          <a:stretch/>
        </p:blipFill>
        <p:spPr>
          <a:xfrm>
            <a:off x="22320" y="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C:\Users\User\Desktop\гжель\Слайд7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User\Desktop\гжель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2" descr="C:\Users\User\Desktop\гжель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9:09:05Z</dcterms:created>
  <dc:creator>Галина</dc:creator>
  <dc:description/>
  <dc:language>en-US</dc:language>
  <cp:lastModifiedBy>Пользователь</cp:lastModifiedBy>
  <dcterms:modified xsi:type="dcterms:W3CDTF">2017-10-07T16:59:26Z</dcterms:modified>
  <cp:revision>18</cp:revision>
  <dc:subject/>
  <dc:title>Народные промыслы</dc:title>
</cp:coreProperties>
</file>