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6119-865C-41EC-95FB-108C9E94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9ED47-9F42-4C4F-8239-2367AB4F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E681B-4E63-4AA8-AFEB-20DD55CC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2455D-92E1-4FF6-A85F-8782DEA5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1B5C-0FD7-434E-8FA8-E65F1F8D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AFE9-47F2-412F-91F2-3AAB4FAE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872F-EBB6-4E15-A2C8-20634E7D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554E-C3AB-4F15-A56F-690E96EA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31A37-F1A6-4EDC-B396-02F55DBA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C208-21A3-4C06-86F3-CBD1E854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B2D9-8D25-4232-9FDE-E1285A6D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7DA7-6A81-4B9F-8590-2DB6B807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C97C-9A4A-4A56-B963-9532F33F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91FF-65CA-4013-B36C-72889579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0B31-874C-4230-B531-0757015A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9038-E995-48E5-8C7E-6BE9B0146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06DE-310F-44FC-94EA-2347BFF28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5CE4C-8C75-4943-8BFC-A48D4D5B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4686-9DE6-4364-837E-1A84628B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B0BEA-B2B9-4105-95C3-07C29689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4088-1A10-4685-AA1E-940CE57E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CC11-1805-4F36-A9C2-3F64C74E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1DB3F-2DB5-4D79-B4D3-59AA52F1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8C9B0-7172-4386-B5BA-099DF904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61E3-0DB3-4D26-991D-D35549266D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9506-EE40-40D0-A007-98BEFF1255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2" descr="C:\Users\User\Desktop\МАМИНА АТТЕСТАЦИЯ\разработки на сайт\золотая хохлома\Народные промыслы Золотая хохлома\Слайд1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2" descr="C:\Users\User\Desktop\МАМИНА АТТЕСТАЦИЯ\разработки на сайт\золотая хохлома\Народные промыслы Золотая хохлома\Слайд10.JPG"/>
          <p:cNvPicPr/>
          <p:nvPr/>
        </p:nvPicPr>
        <p:blipFill>
          <a:blip r:embed="rId1"/>
          <a:stretch/>
        </p:blipFill>
        <p:spPr>
          <a:xfrm>
            <a:off x="-255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2" descr="C:\Users\User\Desktop\МАМИНА АТТЕСТАЦИЯ\разработки на сайт\золотая хохлома\Народные промыслы Золотая хохлома\Слайд11.JPG"/>
          <p:cNvPicPr/>
          <p:nvPr/>
        </p:nvPicPr>
        <p:blipFill>
          <a:blip r:embed="rId1"/>
          <a:stretch/>
        </p:blipFill>
        <p:spPr>
          <a:xfrm>
            <a:off x="-270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2" descr="C:\Users\User\Desktop\МАМИНА АТТЕСТАЦИЯ\разработки на сайт\золотая хохлома\Народные промыслы Золотая хохлома\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2" descr="C:\Users\User\Desktop\МАМИНА АТТЕСТАЦИЯ\разработки на сайт\золотая хохлома\Народные промыслы Золотая хохлома\Слайд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Users\User\Desktop\МАМИНА АТТЕСТАЦИЯ\разработки на сайт\золотая хохлома\Народные промыслы Золотая хохлома\Слайд2.JPG"/>
          <p:cNvPicPr/>
          <p:nvPr/>
        </p:nvPicPr>
        <p:blipFill>
          <a:blip r:embed="rId1"/>
          <a:stretch/>
        </p:blipFill>
        <p:spPr>
          <a:xfrm>
            <a:off x="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2" descr="C:\Users\User\Desktop\МАМИНА АТТЕСТАЦИЯ\разработки на сайт\золотая хохлома\Народные промыслы Золотая хохлома\Слайд3.JPG"/>
          <p:cNvPicPr/>
          <p:nvPr/>
        </p:nvPicPr>
        <p:blipFill>
          <a:blip r:embed="rId1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7" name="Picture 2" descr="C:\Users\User\Desktop\МАМИНА АТТЕСТАЦИЯ\разработки на сайт\золотая хохлома\Народные промыслы Золотая хохлома\Слайд4.JPG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9" name="Picture 2" descr="C:\Users\User\Desktop\МАМИНА АТТЕСТАЦИЯ\разработки на сайт\золотая хохлома\Народные промыслы Золотая хохлома\Слайд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Users\User\Desktop\МАМИНА АТТЕСТАЦИЯ\разработки на сайт\золотая хохлома\Народные промыслы Золотая хохлома\Слайд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2" descr="C:\Users\User\Desktop\МАМИНА АТТЕСТАЦИЯ\разработки на сайт\золотая хохлома\Народные промыслы Золотая хохлома\Слайд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2" descr="C:\Users\User\Desktop\МАМИНА АТТЕСТАЦИЯ\разработки на сайт\золотая хохлома\Народные промыслы Золотая хохлома\Слайд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2" descr="C:\Users\User\Desktop\МАМИНА АТТЕСТАЦИЯ\разработки на сайт\золотая хохлома\Народные промыслы Золотая хохлома\Слайд9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5:26:13Z</dcterms:created>
  <dc:creator>Галина</dc:creator>
  <dc:description/>
  <dc:language>en-US</dc:language>
  <cp:lastModifiedBy>Пользователь</cp:lastModifiedBy>
  <dcterms:modified xsi:type="dcterms:W3CDTF">2017-10-07T17:16:54Z</dcterms:modified>
  <cp:revision>22</cp:revision>
  <dc:subject/>
  <dc:title>Народные промыслы</dc:title>
</cp:coreProperties>
</file>