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639E-ACCC-4E34-9BCF-436A5295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024F-062D-41CB-BAB3-6BA0796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195A-ABB7-4DE5-94A3-DF3CF7F1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34BB-31A4-41ED-BBF7-898E696A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E32-ECF9-4F81-BFEC-16A1D735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B18-041C-4028-A522-43CD0A9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5D0-0EDD-41AE-B8CE-A11A28D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4CE3-DFFF-438B-A005-AD3E2617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E694-3964-4614-B599-FF53882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A96B-9850-4914-AD80-8E204685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7210-46C1-44FB-ACE2-AA3694B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1DF4-21C1-4638-AA4E-5AF1A31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589-5D1F-4278-A79A-5B05AD6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CD92-1F22-4CEF-9334-5A3A0EE8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75FA-C8FD-4CD7-B21A-8B4F9444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82C-5545-4098-BA45-FD780883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576-D349-4D0D-BF59-4D491848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0AEB-0ED8-4CAD-92A7-80296496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9F22-A370-4FDC-BF51-52DB94E5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50F7-5940-4D2E-B89C-5262727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C489-1DC8-4E9D-96B9-5E83BF8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8FDC-934A-4A6E-9091-8D10067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D706-1CE8-424B-A467-81E8532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F2B7-2B6E-4753-8DD9-02E9B40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E9A3-754B-433D-8F18-655D79C302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024-4052-4097-8FAB-46D9EE2DB7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2" descr="C:\Users\User\Desktop\МАМИНА АТТЕСТАЦИЯ\разработки на сайт\золотая хохлома\Народные промыслы Золотая хохлома\Слайд1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C:\Users\User\Desktop\МАМИНА АТТЕСТАЦИЯ\разработки на сайт\золотая хохлома\Народные промыслы Золотая хохлома\Слайд10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2" descr="C:\Users\User\Desktop\МАМИНА АТТЕСТАЦИЯ\разработки на сайт\золотая хохлома\Народные промыслы Золотая хохлома\Слайд11.JPG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C:\Users\User\Desktop\МАМИНА АТТЕСТАЦИЯ\разработки на сайт\золотая хохлома\Народные промыслы Золотая хохлома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2" descr="C:\Users\User\Desktop\МАМИНА АТТЕСТАЦИЯ\разработки на сайт\золотая хохлома\Народные промыслы Золотая хохлом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User\Desktop\МАМИНА АТТЕСТАЦИЯ\разработки на сайт\золотая хохлома\Народные промыслы Золотая хохлома\Слайд2.JPG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2" descr="C:\Users\User\Desktop\МАМИНА АТТЕСТАЦИЯ\разработки на сайт\золотая хохлома\Народные промыслы Золотая хохлома\Слайд3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2" descr="C:\Users\User\Desktop\МАМИНА АТТЕСТАЦИЯ\разработки на сайт\золотая хохлома\Народные промыслы Золотая хохлома\Слайд4.JPG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2" descr="C:\Users\User\Desktop\МАМИНА АТТЕСТАЦИЯ\разработки на сайт\золотая хохлома\Народные промыслы Золотая хохлом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МАМИНА АТТЕСТАЦИЯ\разработки на сайт\золотая хохлома\Народные промыслы Золотая хохлом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C:\Users\User\Desktop\МАМИНА АТТЕСТАЦИЯ\разработки на сайт\золотая хохлома\Народные промыслы Золотая хохлом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C:\Users\User\Desktop\МАМИНА АТТЕСТАЦИЯ\разработки на сайт\золотая хохлома\Народные промыслы Золотая хохлома\Слайд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C:\Users\User\Desktop\МАМИНА АТТЕСТАЦИЯ\разработки на сайт\золотая хохлома\Народные промыслы Золотая хохлома\Слайд9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5:26:13Z</dcterms:created>
  <dc:creator>Галина</dc:creator>
  <dc:description/>
  <dc:language>en-US</dc:language>
  <cp:lastModifiedBy>Пользователь</cp:lastModifiedBy>
  <dcterms:modified xsi:type="dcterms:W3CDTF">2017-10-07T17:16:54Z</dcterms:modified>
  <cp:revision>22</cp:revision>
  <dc:subject/>
  <dc:title>Народные промыслы</dc:title>
</cp:coreProperties>
</file>