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861-B803-4E73-A7F6-0FA6D31EA9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DEC-1827-4F54-9BDF-1D45DBB32B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6DA-82C7-42BD-BF9A-09BFA2AE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0CD-10EA-4F56-8216-5C4402B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3BA-7DF6-4A3B-8A76-434DD601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9F0-984C-446D-BBAC-6731F766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BAE-4169-4952-A5AA-1A9A7D56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2A0A-F377-4D4E-9BB8-48694F9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B93-39D0-4AB7-AA6A-B845FA4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C416-4918-4E71-B662-55DDB43F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D4F1-F40D-4A02-9847-5066F98D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1C49-13E4-4004-9547-2B00B14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F7A-D2F2-49F6-B0BF-34A6FAD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8E2-DB02-4B8C-B0BB-A3D0325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79C2-A9D0-4AE9-ADB4-560CA7A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3E5-64F7-48ED-9F40-4FF0158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BFEC-47FA-4821-A071-B2B78D5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FEB6-E0DC-4E5C-8ACD-07A323B7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9E4-7E82-4BE7-855D-148B9C2D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DD3A-B22F-4B87-9F3C-8AF931F3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4307-36B4-4B70-A7DF-05363A3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64E0-8B8F-4870-8344-803DDF6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33A6-4EA6-4B97-9E91-4D587EDD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19F4-B2F2-47B9-8ED9-2560353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799-D187-4542-9E49-F6F2A8F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2222-843F-4E14-9A85-0E7511D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B96D-FDEE-4E96-B21C-AF300453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9FE8-8E1F-4E46-B528-A37926C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AD72-B7FE-47BE-90E2-DC6B9B1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9596-4337-4F88-AC09-844574D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DF7C-B277-44C5-A3FD-39A9CD3B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94D9-2087-4CE0-A01E-66AC84A7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EDCA1-FCA2-4E35-818F-C29122D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CC1B-F428-4222-A115-E7FE715F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718A-1AA5-42C5-B118-67BE0C9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E7B-175F-4A5A-8AA4-7D80607C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A184-2DE8-4C0A-8F6B-59B5FC9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E07D-B26B-408D-815C-14E3CFEC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EAED-7B5A-4091-9033-EB02039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A73B-8C47-40BB-86EE-F64604D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E761-0020-47AE-BD3E-59069C2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35F4-7DCC-4BED-AFA2-08B2819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C8C4-A55F-4ADB-92D2-3BCA8B9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E510-F70E-4418-85E9-02B3C4AB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DC40-29AE-4EFF-B337-7BEF4326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5663-ED3B-4C48-B168-261A68DC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9D1-AD7F-44A9-A3AA-07D51D6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EFFA-AECB-4FCF-AE27-AFC1ADA8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629F-B3ED-4523-842B-8BCC5AC6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F681-A055-4DF0-98E0-F5B487A6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A857-02D5-4C91-9AD6-53FF3C9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4DF8-59C9-4B52-8C4D-2B29BF9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2476-709C-42D8-8AC8-AFDD43D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B9A6-8C69-4055-B779-099AC5D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089D-AB85-426B-9084-B303993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3F8C-4C51-4EA5-A194-A11165F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2004-AC84-4DF8-868F-0413E909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63F-F587-4325-8147-E4A12FC3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1625-758F-4922-B947-409868C8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8CDF-BC03-4DEB-A71A-8734950A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4217-9D64-4233-B869-DA455389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F7B6-9572-4EF9-88C1-9FEE251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2CE6-30BC-4E8A-B5AB-651990B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AB696-D336-412E-A5A8-95C40CAB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55BF-3BBE-4EB5-BCBC-881F2F9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0F69-D45C-4087-8FA2-928E0F8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5C2E-4D86-4D8E-B312-69C8766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E402-24DA-453E-8184-4DCF933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EA7-CA84-49D0-BFBA-CD5F7BE6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898D4-44B5-482C-A709-FA25C1BB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3DAC-EBFE-4F71-B2D3-798868FE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7130-FE2F-4917-AB84-539769C7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663D-E872-4A7A-AF00-10F844F6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6EC2-E9AA-4990-A765-0143679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79E3-F00A-48BC-BCDE-1CFADBB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AD05-EACC-4C63-A4C2-56920D0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F9D1-85DE-45D1-BEF0-3429B99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E515E-43F8-477B-B686-F32640F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DD0FD-2CE4-4A7B-9891-9E1FA7F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4D5-85B2-412B-8F0D-DAD5EC3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23EA-4FC9-4185-A2EC-CEE7768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6ACEC-8244-43C2-8636-3B2EC33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C459-0B82-4B39-83CF-A4C4553B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E94F2-4B27-41A6-A281-6D3DCFB0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052A5-471F-487B-8648-AA9F53F4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387-1F4E-4A28-9200-A563332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688-6D81-469A-9884-AF1FB4332B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15D-9214-43E3-B589-3F6DD2ED71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D1BD-331C-4CBB-9BC6-19A5110AE0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AC07-F46D-4809-A008-2328843614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415-5C0B-42A0-B41C-85C778960D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D59D-31F3-474A-9F19-3925F299662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EAA-A8EB-4141-AA35-4D9A4E39F5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ndara"/>
              </a:rPr>
              <a:t>Навыки вождения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(упражнения на площадке)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16000" y="378936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выполнил мастер производственного обучения   Забродин Александр Владимирович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39640" y="189000"/>
          <a:ext cx="8136000" cy="6462720"/>
        </p:xfrm>
        <a:graphic>
          <a:graphicData uri="http://schemas.openxmlformats.org/drawingml/2006/table">
            <a:tbl>
              <a:tblPr/>
              <a:tblGrid>
                <a:gridCol w="550800"/>
                <a:gridCol w="6274080"/>
                <a:gridCol w="1311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прерывистую линию  (по проекции левого бо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AutoShape 59"/>
          <p:cNvSpPr/>
          <p:nvPr/>
        </p:nvSpPr>
        <p:spPr>
          <a:xfrm>
            <a:off x="8820000" y="6534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пп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передним х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6" descr="пп"/>
          <p:cNvPicPr/>
          <p:nvPr/>
        </p:nvPicPr>
        <p:blipFill>
          <a:blip r:embed="rId2"/>
          <a:stretch/>
        </p:blipFill>
        <p:spPr>
          <a:xfrm>
            <a:off x="7307280" y="3284640"/>
            <a:ext cx="1585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54 0.00949 C -0.10625 0.00185 -0.10138 0.00579 -0.13298 0.00764 C -0.15121 0.02407 -0.16996 0.03056 -0.19149 0.03611 C -0.21666 0.03542 -0.24236 0.03843 -0.26718 0.03241 C -0.27621 0.03032 -0.28559 0.02269 -0.29427 0.01898 C -0.29722 0.01782 -0.30295 0.01528 -0.30295 0.01528 C -0.31666 0.00232 -0.29635 0.0206 -0.31284 0.00949 C -0.31406 0.00857 -0.31475 0.00671 -0.31579 0.00556 C -0.32395 -0.00324 -0.33281 -0.0169 -0.34288 -0.02106 C -0.34375 -0.02199 -0.34809 -0.02731 -0.34861 -0.0287 C -0.35382 -0.04051 -0.34583 -0.0287 -0.35295 -0.03819 C -0.36232 -0.06366 -0.34878 -0.02917 -0.36007 -0.05139 C -0.36163 -0.0544 -0.36215 -0.06458 -0.36284 -0.06667 C -0.36336 -0.06829 -0.36493 -0.06921 -0.36579 -0.0706 C -0.36788 -0.07431 -0.37152 -0.08194 -0.37152 -0.08194 C -0.37465 -0.09514 -0.37204 -0.09074 -0.37725 -0.09722 C -0.37916 -0.10486 -0.38003 -0.10787 -0.38576 -0.11065 C -0.39166 -0.11806 -0.39809 -0.12801 -0.40573 -0.13148 C -0.40868 -0.13403 -0.41145 -0.13657 -0.41441 -0.13912 C -0.41579 -0.14028 -0.41597 -0.14329 -0.41718 -0.14491 C -0.421 -0.15 -0.425 -0.15278 -0.43003 -0.1544 C -0.43385 -0.15926 -0.43784 -0.15995 -0.44288 -0.16204 C -0.44635 -0.17616 -0.45902 -0.18194 -0.46857 -0.18681 C -0.48437 -0.18403 -0.50017 -0.18356 -0.51579 -0.18866 C -0.54392 -0.21366 -0.56909 -0.18472 -0.59583 -0.18472 E">
                                      <p:cBhvr>
                                        <p:cTn id="8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539640" y="189000"/>
          <a:ext cx="8136000" cy="6462720"/>
        </p:xfrm>
        <a:graphic>
          <a:graphicData uri="http://schemas.openxmlformats.org/drawingml/2006/table">
            <a:tbl>
              <a:tblPr/>
              <a:tblGrid>
                <a:gridCol w="550800"/>
                <a:gridCol w="6274080"/>
                <a:gridCol w="1311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прерывистую линию  (по проекции левого бо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AutoShape 59"/>
          <p:cNvSpPr/>
          <p:nvPr/>
        </p:nvSpPr>
        <p:spPr>
          <a:xfrm>
            <a:off x="8748720" y="6464160"/>
            <a:ext cx="395280" cy="393840"/>
          </a:xfrm>
          <a:custGeom>
            <a:avLst/>
            <a:gdLst>
              <a:gd name="textAreaLeft" fmla="*/ 25200 w 395280"/>
              <a:gd name="textAreaRight" fmla="*/ 370080 w 39528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10839" y="3837"/>
                </a:moveTo>
                <a:lnTo>
                  <a:pt x="13416" y="6448"/>
                </a:lnTo>
                <a:lnTo>
                  <a:pt x="13416" y="4707"/>
                </a:lnTo>
                <a:lnTo>
                  <a:pt x="15191" y="4707"/>
                </a:lnTo>
                <a:lnTo>
                  <a:pt x="15191" y="8224"/>
                </a:lnTo>
                <a:lnTo>
                  <a:pt x="17802" y="10800"/>
                </a:lnTo>
                <a:lnTo>
                  <a:pt x="16149" y="10800"/>
                </a:lnTo>
                <a:lnTo>
                  <a:pt x="16149" y="17989"/>
                </a:lnTo>
                <a:lnTo>
                  <a:pt x="5530" y="17989"/>
                </a:lnTo>
                <a:lnTo>
                  <a:pt x="5530" y="10800"/>
                </a:lnTo>
                <a:lnTo>
                  <a:pt x="3876" y="10800"/>
                </a:lnTo>
                <a:close/>
              </a:path>
              <a:path fill="darkenLess" w="21679" h="21600">
                <a:moveTo>
                  <a:pt x="13416" y="6448"/>
                </a:moveTo>
                <a:lnTo>
                  <a:pt x="13416" y="4707"/>
                </a:lnTo>
                <a:lnTo>
                  <a:pt x="15191" y="4707"/>
                </a:lnTo>
                <a:lnTo>
                  <a:pt x="15191" y="8224"/>
                </a:lnTo>
                <a:close/>
              </a:path>
              <a:path fill="darkenLess" w="21679" h="21600">
                <a:moveTo>
                  <a:pt x="9917" y="14299"/>
                </a:moveTo>
                <a:lnTo>
                  <a:pt x="11762" y="14299"/>
                </a:lnTo>
                <a:lnTo>
                  <a:pt x="11762" y="17989"/>
                </a:lnTo>
                <a:lnTo>
                  <a:pt x="16149" y="17989"/>
                </a:lnTo>
                <a:lnTo>
                  <a:pt x="16149" y="10800"/>
                </a:lnTo>
                <a:lnTo>
                  <a:pt x="5530" y="10800"/>
                </a:lnTo>
                <a:lnTo>
                  <a:pt x="5530" y="17989"/>
                </a:lnTo>
                <a:lnTo>
                  <a:pt x="991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1978200" y="333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шеходного перех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20760" y="1146240"/>
            <a:ext cx="842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24000" y="144360"/>
          <a:ext cx="8496000" cy="6597720"/>
        </p:xfrm>
        <a:graphic>
          <a:graphicData uri="http://schemas.openxmlformats.org/drawingml/2006/table">
            <a:tbl>
              <a:tblPr/>
              <a:tblGrid>
                <a:gridCol w="6329160"/>
                <a:gridCol w="21668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ки кандидата в 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 без остановки линию «СТОП» перед пешеходным переходом (по проекции переднего габарита ТС на горизонтальную плоск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сил скорость движения более 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л ТС на расстоянии более 1,0 м перед линией «СТОП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 движение ранее, чем через 3 сек после фиксации ТС в неподвижном состоя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последовательность выполнения упражнения, предусмотренную для закрытой, для движения, площадк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AutoShape 91"/>
          <p:cNvSpPr/>
          <p:nvPr/>
        </p:nvSpPr>
        <p:spPr>
          <a:xfrm>
            <a:off x="8893080" y="6534000"/>
            <a:ext cx="250920" cy="32400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324000"/>
              <a:gd name="textAreaBottom" fmla="*/ 307800 h 324000"/>
            </a:gdLst>
            <a:ahLst/>
            <a:rect l="textAreaLeft" t="textAreaTop" r="textAreaRight" b="textAreaBottom"/>
            <a:pathLst>
              <a:path w="21600" h="27882">
                <a:moveTo>
                  <a:pt x="0" y="0"/>
                </a:moveTo>
                <a:lnTo>
                  <a:pt x="21600" y="0"/>
                </a:lnTo>
                <a:lnTo>
                  <a:pt x="21600" y="27882"/>
                </a:lnTo>
                <a:lnTo>
                  <a:pt x="0" y="27882"/>
                </a:lnTo>
                <a:close/>
              </a:path>
              <a:path fill="lightenLess" w="21600" h="27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882">
                <a:moveTo>
                  <a:pt x="21600" y="0"/>
                </a:moveTo>
                <a:lnTo>
                  <a:pt x="21600" y="27882"/>
                </a:lnTo>
                <a:lnTo>
                  <a:pt x="20200" y="26482"/>
                </a:lnTo>
                <a:lnTo>
                  <a:pt x="20200" y="1400"/>
                </a:lnTo>
                <a:close/>
              </a:path>
              <a:path fill="darkenLess" w="21600" h="27882">
                <a:moveTo>
                  <a:pt x="21600" y="27882"/>
                </a:moveTo>
                <a:lnTo>
                  <a:pt x="0" y="27882"/>
                </a:lnTo>
                <a:lnTo>
                  <a:pt x="1400" y="26482"/>
                </a:lnTo>
                <a:lnTo>
                  <a:pt x="20200" y="26482"/>
                </a:lnTo>
                <a:close/>
              </a:path>
              <a:path fill="lighten" w="21600" h="27882">
                <a:moveTo>
                  <a:pt x="0" y="27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482"/>
                </a:lnTo>
                <a:close/>
              </a:path>
              <a:path fill="darken" w="21600" h="27882">
                <a:moveTo>
                  <a:pt x="10800" y="6978"/>
                </a:moveTo>
                <a:lnTo>
                  <a:pt x="13376" y="9589"/>
                </a:lnTo>
                <a:lnTo>
                  <a:pt x="13376" y="7848"/>
                </a:lnTo>
                <a:lnTo>
                  <a:pt x="15152" y="7848"/>
                </a:lnTo>
                <a:lnTo>
                  <a:pt x="15152" y="11365"/>
                </a:lnTo>
                <a:lnTo>
                  <a:pt x="17763" y="13941"/>
                </a:lnTo>
                <a:lnTo>
                  <a:pt x="16109" y="13941"/>
                </a:lnTo>
                <a:lnTo>
                  <a:pt x="16109" y="21130"/>
                </a:lnTo>
                <a:lnTo>
                  <a:pt x="5491" y="21130"/>
                </a:lnTo>
                <a:lnTo>
                  <a:pt x="5491" y="13941"/>
                </a:lnTo>
                <a:lnTo>
                  <a:pt x="3837" y="13941"/>
                </a:lnTo>
                <a:close/>
              </a:path>
              <a:path fill="darkenLess" w="21600" h="27882">
                <a:moveTo>
                  <a:pt x="13376" y="9589"/>
                </a:moveTo>
                <a:lnTo>
                  <a:pt x="13376" y="7848"/>
                </a:lnTo>
                <a:lnTo>
                  <a:pt x="15152" y="7848"/>
                </a:lnTo>
                <a:lnTo>
                  <a:pt x="15152" y="11365"/>
                </a:lnTo>
                <a:close/>
              </a:path>
              <a:path fill="darkenLess" w="21600" h="27882">
                <a:moveTo>
                  <a:pt x="9877" y="17440"/>
                </a:moveTo>
                <a:lnTo>
                  <a:pt x="11723" y="17440"/>
                </a:lnTo>
                <a:lnTo>
                  <a:pt x="11723" y="21130"/>
                </a:lnTo>
                <a:lnTo>
                  <a:pt x="16109" y="21130"/>
                </a:lnTo>
                <a:lnTo>
                  <a:pt x="16109" y="13941"/>
                </a:lnTo>
                <a:lnTo>
                  <a:pt x="5491" y="13941"/>
                </a:lnTo>
                <a:lnTo>
                  <a:pt x="5491" y="21130"/>
                </a:lnTo>
                <a:lnTo>
                  <a:pt x="9877" y="21130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305928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рекрёс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50920" y="115920"/>
          <a:ext cx="8642160" cy="6553080"/>
        </p:xfrm>
        <a:graphic>
          <a:graphicData uri="http://schemas.openxmlformats.org/drawingml/2006/table">
            <a:tbl>
              <a:tblPr/>
              <a:tblGrid>
                <a:gridCol w="6551640"/>
                <a:gridCol w="2090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ки кандидата в 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оответствующий указатель поворота при пересечении перекрестка с поворотом направо или нал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оезд перекрестка затрачено более 30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 линию «СТОП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оезд перекрестка затрачено более 20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сил скорость движения более 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л ТС на расстоянии более 1,0 м перед линией «СТОП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последовательность выполнения упражнения, предусмотренную для закрытой, для движения, площадк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AutoShape 117"/>
          <p:cNvSpPr/>
          <p:nvPr/>
        </p:nvSpPr>
        <p:spPr>
          <a:xfrm>
            <a:off x="8929800" y="6607080"/>
            <a:ext cx="214200" cy="25092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50920"/>
              <a:gd name="textAreaBottom" fmla="*/ 237240 h 250920"/>
            </a:gdLst>
            <a:ahLst/>
            <a:rect l="textAreaLeft" t="textAreaTop" r="textAreaRight" b="textAreaBottom"/>
            <a:pathLst>
              <a:path w="21600" h="25297">
                <a:moveTo>
                  <a:pt x="0" y="0"/>
                </a:moveTo>
                <a:lnTo>
                  <a:pt x="21600" y="0"/>
                </a:lnTo>
                <a:lnTo>
                  <a:pt x="21600" y="25297"/>
                </a:lnTo>
                <a:lnTo>
                  <a:pt x="0" y="25297"/>
                </a:lnTo>
                <a:close/>
              </a:path>
              <a:path fill="lightenLess" w="21600" h="25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7">
                <a:moveTo>
                  <a:pt x="21600" y="0"/>
                </a:moveTo>
                <a:lnTo>
                  <a:pt x="21600" y="25297"/>
                </a:lnTo>
                <a:lnTo>
                  <a:pt x="20200" y="23897"/>
                </a:lnTo>
                <a:lnTo>
                  <a:pt x="20200" y="1400"/>
                </a:lnTo>
                <a:close/>
              </a:path>
              <a:path fill="darkenLess" w="21600" h="25297">
                <a:moveTo>
                  <a:pt x="21600" y="25297"/>
                </a:moveTo>
                <a:lnTo>
                  <a:pt x="0" y="25297"/>
                </a:lnTo>
                <a:lnTo>
                  <a:pt x="1400" y="23897"/>
                </a:lnTo>
                <a:lnTo>
                  <a:pt x="20200" y="23897"/>
                </a:lnTo>
                <a:close/>
              </a:path>
              <a:path fill="lighten" w="21600" h="25297">
                <a:moveTo>
                  <a:pt x="0" y="25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7"/>
                </a:lnTo>
                <a:close/>
              </a:path>
              <a:path fill="darken" w="21600" h="25297">
                <a:moveTo>
                  <a:pt x="10800" y="5685"/>
                </a:moveTo>
                <a:lnTo>
                  <a:pt x="13376" y="8296"/>
                </a:lnTo>
                <a:lnTo>
                  <a:pt x="13376" y="6556"/>
                </a:lnTo>
                <a:lnTo>
                  <a:pt x="15152" y="6556"/>
                </a:lnTo>
                <a:lnTo>
                  <a:pt x="15152" y="10072"/>
                </a:lnTo>
                <a:lnTo>
                  <a:pt x="17763" y="12648"/>
                </a:lnTo>
                <a:lnTo>
                  <a:pt x="16109" y="12648"/>
                </a:lnTo>
                <a:lnTo>
                  <a:pt x="16109" y="19838"/>
                </a:lnTo>
                <a:lnTo>
                  <a:pt x="5491" y="19838"/>
                </a:lnTo>
                <a:lnTo>
                  <a:pt x="5491" y="12648"/>
                </a:lnTo>
                <a:lnTo>
                  <a:pt x="3837" y="12648"/>
                </a:lnTo>
                <a:close/>
              </a:path>
              <a:path fill="darkenLess" w="21600" h="25297">
                <a:moveTo>
                  <a:pt x="13376" y="8296"/>
                </a:moveTo>
                <a:lnTo>
                  <a:pt x="13376" y="6556"/>
                </a:lnTo>
                <a:lnTo>
                  <a:pt x="15152" y="6556"/>
                </a:lnTo>
                <a:lnTo>
                  <a:pt x="15152" y="10072"/>
                </a:lnTo>
                <a:close/>
              </a:path>
              <a:path fill="darkenLess" w="21600" h="25297">
                <a:moveTo>
                  <a:pt x="9877" y="16147"/>
                </a:moveTo>
                <a:lnTo>
                  <a:pt x="11723" y="16147"/>
                </a:lnTo>
                <a:lnTo>
                  <a:pt x="11723" y="19838"/>
                </a:lnTo>
                <a:lnTo>
                  <a:pt x="16109" y="19838"/>
                </a:lnTo>
                <a:lnTo>
                  <a:pt x="16109" y="12648"/>
                </a:lnTo>
                <a:lnTo>
                  <a:pt x="5491" y="12648"/>
                </a:lnTo>
                <a:lnTo>
                  <a:pt x="5491" y="19838"/>
                </a:lnTo>
                <a:lnTo>
                  <a:pt x="9877" y="19838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468360" y="333360"/>
            <a:ext cx="8424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именование упраж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1" action="ppaction://hlinksldjump"/>
              </a:rPr>
              <a:t>Въезд в бок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Остановка и трогание на подъё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3" action="ppaction://hlinksldjump"/>
              </a:rPr>
              <a:t>Развор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задним хо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ме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передним хо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онн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шеходного пере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рекрёс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3635280" y="33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Въезд в бо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ff4"/>
          <p:cNvPicPr/>
          <p:nvPr/>
        </p:nvPicPr>
        <p:blipFill>
          <a:blip r:embed="rId1"/>
          <a:srcRect l="8960" t="0" r="11193" b="21480"/>
          <a:stretch/>
        </p:blipFill>
        <p:spPr>
          <a:xfrm>
            <a:off x="538200" y="1125360"/>
            <a:ext cx="817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11280" y="333360"/>
          <a:ext cx="8064360" cy="6262560"/>
        </p:xfrm>
        <a:graphic>
          <a:graphicData uri="http://schemas.openxmlformats.org/drawingml/2006/table">
            <a:tbl>
              <a:tblPr/>
              <a:tblGrid>
                <a:gridCol w="498240"/>
                <a:gridCol w="6262920"/>
                <a:gridCol w="1303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AutoShape 59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2050920" y="33336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становка и трогание на подъеме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5" descr="ff2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395280" y="333360"/>
          <a:ext cx="8352000" cy="6215040"/>
        </p:xfrm>
        <a:graphic>
          <a:graphicData uri="http://schemas.openxmlformats.org/drawingml/2006/table">
            <a:tbl>
              <a:tblPr/>
              <a:tblGrid>
                <a:gridCol w="565200"/>
                <a:gridCol w="6440400"/>
                <a:gridCol w="1346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 откат более допустим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AutoShape 51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682800" y="3592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Развор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ff1"/>
          <p:cNvPicPr/>
          <p:nvPr/>
        </p:nvPicPr>
        <p:blipFill>
          <a:blip r:embed="rId1"/>
          <a:stretch/>
        </p:blipFill>
        <p:spPr>
          <a:xfrm>
            <a:off x="544680" y="1628640"/>
            <a:ext cx="799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24000" y="264960"/>
          <a:ext cx="8496000" cy="6259680"/>
        </p:xfrm>
        <a:graphic>
          <a:graphicData uri="http://schemas.openxmlformats.org/drawingml/2006/table">
            <a:tbl>
              <a:tblPr/>
              <a:tblGrid>
                <a:gridCol w="574560"/>
                <a:gridCol w="6551640"/>
                <a:gridCol w="136980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AutoShape 58"/>
          <p:cNvSpPr/>
          <p:nvPr/>
        </p:nvSpPr>
        <p:spPr>
          <a:xfrm>
            <a:off x="8821800" y="6535800"/>
            <a:ext cx="322200" cy="3222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136880" y="40356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Параллельная парковка задним ходо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5" descr="ff3"/>
          <p:cNvPicPr/>
          <p:nvPr/>
        </p:nvPicPr>
        <p:blipFill>
          <a:blip r:embed="rId1"/>
          <a:srcRect l="0" t="0" r="0" b="6068"/>
          <a:stretch/>
        </p:blipFill>
        <p:spPr>
          <a:xfrm>
            <a:off x="395280" y="1293840"/>
            <a:ext cx="83534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6:19:05Z</dcterms:created>
  <dc:creator>Николай</dc:creator>
  <dc:description/>
  <dc:language>en-US</dc:language>
  <cp:lastModifiedBy>Александр</cp:lastModifiedBy>
  <cp:lastPrinted>2017-02-22T09:40:35Z</cp:lastPrinted>
  <dcterms:modified xsi:type="dcterms:W3CDTF">2017-10-03T12:40:27Z</dcterms:modified>
  <cp:revision>18</cp:revision>
  <dc:subject/>
  <dc:title>Слайд 1</dc:title>
</cp:coreProperties>
</file>