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9E66-3D60-4C6D-89EE-F30966B32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D1AA-DC6E-4D56-8229-7DE5A9B959E9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FE8-E523-45D4-A179-FC828331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43B3-1DC4-40BC-8560-E430A294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9D94-1E54-4B7E-AE71-8DCDD42C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2D-BAEA-4B4F-BF9C-15064A1D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3BD-253F-44BF-9D9A-69FE8166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EBBB-3BA6-4CF4-82B6-4B0991C9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5AB-BF8B-474E-8C0F-79032005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7828-6025-44FD-A823-A7EC00B6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7C014-9F8A-4F55-A22C-758CAEEA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1774-1CFE-4DE9-847E-93B3B366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CFC5-1FB6-4C2D-AC2E-B99E25A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F6A-45E1-4F44-8749-0688DBFE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5527-4C66-4393-8BF7-0F99859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B194-D5AB-4CB4-B5FB-F8F8A6F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318B-AF41-43AF-AB85-101DD85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BA97-ADEE-4962-9689-F9320208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EC7A-825C-4341-B1BC-C113454A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CB97A-8AF5-467D-8747-A6ECA681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0BAF-571D-40CF-B496-04AC1D05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3B55-8938-4676-85B3-27C77C2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ED20B-0860-4A07-9C6E-413871DB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8A16-BC03-4898-BD69-71A94233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F0F9-0CFE-4289-8989-52F755E4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6A98-BC2D-4E64-8D9A-6364ECBF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57423-0D2F-4D98-B9EF-6976193E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7C880-9EFF-497D-80AB-5DC42078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55D01-16E3-4B4F-A8A1-8CE5922B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F1C49-5B40-43A5-9314-7E202064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488C-9535-42F8-B340-48A31E39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22F2F-40F8-4853-94D8-AD10EC79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C80AA-6C1F-4585-B39A-6F295C52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9ACE4-EE0B-492A-B658-514D128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F886-9A30-46DF-ADD5-301DFAF8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9020-EA66-40AD-950F-A01314A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985BE-AC57-4B1D-B6D0-782DF821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D8D8E-ECC3-4914-AFC4-19B8E376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77246-9389-480B-A033-D1D4AF8E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EA8B-8971-4C7B-9C68-289AEFF8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30DE1-F818-4834-A4D7-487FD75F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DD2E0-06B7-41E5-AE31-8D61D96A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2FA21-AEDD-4C07-94AC-C608F71E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B074-5316-4E11-B86C-8444D30CF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7E5E9-1511-4F63-A485-4BBC8EB5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94B55-B674-4C8D-BE2F-AE0D68BFD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814-121E-4202-9545-0E4C94E5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7EEC-6063-4980-AEAF-EF6017B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ACF76-695C-473C-9DC7-F5E59830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AD844-4C03-48E7-9EDB-8B040CED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0088-03C9-48A0-BC13-E1BB7FCF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03892-6EA2-4BCF-B773-A3EAC81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A9673-7DE6-4B89-BD53-434E04E0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B981D-E43C-4690-A4F9-7BFC3B1B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538C5-0A90-49D0-BD91-811FA3E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89683-873A-45AA-B179-AC75231C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A389B-34C3-4780-91CC-434FAB41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ED6-4246-4A33-8B0D-455D124B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E4AC4-3987-4633-A7D0-532D0F90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C58F-521D-4EBA-AB8A-EF81613C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F1888-176D-4962-B66B-631BD87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D75A3-9E6D-484A-B5AA-10C6357B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4FF25-3E21-44F7-B11D-E7A6D738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0F847-0317-454C-BA9C-5845441B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B2630-7738-49E8-9807-B1DFD023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89E72-485F-44FB-AF41-CC6475C2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3B501-CF37-49FE-9D03-6CFAED2B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D2F0B-504B-4476-996A-878DAD79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C38-5CAD-422D-AA22-3C79BF53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E2595-0055-49F1-A133-260DCDCC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27EE-491B-4678-B1A0-AF868A54B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60406-A199-429E-BA21-6BAE1C6E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08FEAD-4FDC-457D-9FA1-65B70A31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B0E77-E341-42EC-AD3E-58CD45C5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FCC9-9259-4E1F-B940-219658BD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D95B1-FEA6-40B6-B9C4-A66F4F79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BBBC2-3E42-42E0-9545-449DBFF1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12024-805E-481D-87DF-AB2FDEC6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9AB0D-19C8-4F05-9A23-7768325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0EB-797D-4227-9373-56789CC9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263B7-8E0E-437C-AF57-CDA6542B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87D0B-C1FB-4E85-B88E-9C82AC2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BB192-5D9E-4DC8-AAC3-4629F0E0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C36C6-AA79-4566-865E-1AC37903D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829BD-EF64-4913-AC70-90244EF92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446D-8482-47E4-9237-9286F1B0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D73-9C32-4369-B038-03E238909A1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D750-9F06-4556-8E0A-3BC3A01A7EB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CC43-9455-4DAB-A8FA-B8BE0DD2664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D84D-6C1F-4580-89E0-0A8643F54FD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C571-F7D7-4841-8A02-C7E1AA3D039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BA57-582C-4B9A-A38D-E20C13F38CAE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C40B-18F1-444A-8EFA-4D7D3A2BF3C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Candara"/>
              </a:rPr>
              <a:t>Навыки вождения </a:t>
            </a: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(упражнения на площадке)</a:t>
            </a: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116000" y="378936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Candara"/>
              </a:rPr>
              <a:t>выполнил мастер производственного обучения   Забродин Александр Владимирович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"/>
          <p:cNvGraphicFramePr/>
          <p:nvPr/>
        </p:nvGraphicFramePr>
        <p:xfrm>
          <a:off x="539640" y="189000"/>
          <a:ext cx="8136000" cy="6462720"/>
        </p:xfrm>
        <a:graphic>
          <a:graphicData uri="http://schemas.openxmlformats.org/drawingml/2006/table">
            <a:tbl>
              <a:tblPr/>
              <a:tblGrid>
                <a:gridCol w="550800"/>
                <a:gridCol w="6274080"/>
                <a:gridCol w="1311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прерывистую линию  (по проекции левого бо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AutoShape 59"/>
          <p:cNvSpPr/>
          <p:nvPr/>
        </p:nvSpPr>
        <p:spPr>
          <a:xfrm>
            <a:off x="8820000" y="6534000"/>
            <a:ext cx="324000" cy="32400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24000"/>
              <a:gd name="textAreaBottom" fmla="*/ 30312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4" descr="пп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31784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1258920" y="40464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передним хо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Picture 6" descr="пп"/>
          <p:cNvPicPr/>
          <p:nvPr/>
        </p:nvPicPr>
        <p:blipFill>
          <a:blip r:embed="rId2"/>
          <a:stretch/>
        </p:blipFill>
        <p:spPr>
          <a:xfrm>
            <a:off x="7307280" y="3284640"/>
            <a:ext cx="1585800" cy="8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854 0.00949 C -0.10625 0.00185 -0.10138 0.00579 -0.13298 0.00764 C -0.15121 0.02407 -0.16996 0.03056 -0.19149 0.03611 C -0.21666 0.03542 -0.24236 0.03843 -0.26718 0.03241 C -0.27621 0.03032 -0.28559 0.02269 -0.29427 0.01898 C -0.29722 0.01782 -0.30295 0.01528 -0.30295 0.01528 C -0.31666 0.00232 -0.29635 0.0206 -0.31284 0.00949 C -0.31406 0.00857 -0.31475 0.00671 -0.31579 0.00556 C -0.32395 -0.00324 -0.33281 -0.0169 -0.34288 -0.02106 C -0.34375 -0.02199 -0.34809 -0.02731 -0.34861 -0.0287 C -0.35382 -0.04051 -0.34583 -0.0287 -0.35295 -0.03819 C -0.36232 -0.06366 -0.34878 -0.02917 -0.36007 -0.05139 C -0.36163 -0.0544 -0.36215 -0.06458 -0.36284 -0.06667 C -0.36336 -0.06829 -0.36493 -0.06921 -0.36579 -0.0706 C -0.36788 -0.07431 -0.37152 -0.08194 -0.37152 -0.08194 C -0.37465 -0.09514 -0.37204 -0.09074 -0.37725 -0.09722 C -0.37916 -0.10486 -0.38003 -0.10787 -0.38576 -0.11065 C -0.39166 -0.11806 -0.39809 -0.12801 -0.40573 -0.13148 C -0.40868 -0.13403 -0.41145 -0.13657 -0.41441 -0.13912 C -0.41579 -0.14028 -0.41597 -0.14329 -0.41718 -0.14491 C -0.421 -0.15 -0.425 -0.15278 -0.43003 -0.1544 C -0.43385 -0.15926 -0.43784 -0.15995 -0.44288 -0.16204 C -0.44635 -0.17616 -0.45902 -0.18194 -0.46857 -0.18681 C -0.48437 -0.18403 -0.50017 -0.18356 -0.51579 -0.18866 C -0.54392 -0.21366 -0.56909 -0.18472 -0.59583 -0.18472 E">
                                      <p:cBhvr>
                                        <p:cTn id="87" dur="2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539640" y="189000"/>
          <a:ext cx="8136000" cy="6462720"/>
        </p:xfrm>
        <a:graphic>
          <a:graphicData uri="http://schemas.openxmlformats.org/drawingml/2006/table">
            <a:tbl>
              <a:tblPr/>
              <a:tblGrid>
                <a:gridCol w="550800"/>
                <a:gridCol w="6274080"/>
                <a:gridCol w="1311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прерывистую линию  (по проекции левого борт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AutoShape 59"/>
          <p:cNvSpPr/>
          <p:nvPr/>
        </p:nvSpPr>
        <p:spPr>
          <a:xfrm>
            <a:off x="8748720" y="6464160"/>
            <a:ext cx="395280" cy="393840"/>
          </a:xfrm>
          <a:custGeom>
            <a:avLst/>
            <a:gdLst>
              <a:gd name="textAreaLeft" fmla="*/ 25200 w 395280"/>
              <a:gd name="textAreaRight" fmla="*/ 370080 w 39528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10839" y="3837"/>
                </a:moveTo>
                <a:lnTo>
                  <a:pt x="13416" y="6448"/>
                </a:lnTo>
                <a:lnTo>
                  <a:pt x="13416" y="4707"/>
                </a:lnTo>
                <a:lnTo>
                  <a:pt x="15191" y="4707"/>
                </a:lnTo>
                <a:lnTo>
                  <a:pt x="15191" y="8224"/>
                </a:lnTo>
                <a:lnTo>
                  <a:pt x="17802" y="10800"/>
                </a:lnTo>
                <a:lnTo>
                  <a:pt x="16149" y="10800"/>
                </a:lnTo>
                <a:lnTo>
                  <a:pt x="16149" y="17989"/>
                </a:lnTo>
                <a:lnTo>
                  <a:pt x="5530" y="17989"/>
                </a:lnTo>
                <a:lnTo>
                  <a:pt x="5530" y="10800"/>
                </a:lnTo>
                <a:lnTo>
                  <a:pt x="3876" y="10800"/>
                </a:lnTo>
                <a:close/>
              </a:path>
              <a:path fill="darkenLess" w="21679" h="21600">
                <a:moveTo>
                  <a:pt x="13416" y="6448"/>
                </a:moveTo>
                <a:lnTo>
                  <a:pt x="13416" y="4707"/>
                </a:lnTo>
                <a:lnTo>
                  <a:pt x="15191" y="4707"/>
                </a:lnTo>
                <a:lnTo>
                  <a:pt x="15191" y="8224"/>
                </a:lnTo>
                <a:close/>
              </a:path>
              <a:path fill="darkenLess" w="21679" h="21600">
                <a:moveTo>
                  <a:pt x="9917" y="14299"/>
                </a:moveTo>
                <a:lnTo>
                  <a:pt x="11762" y="14299"/>
                </a:lnTo>
                <a:lnTo>
                  <a:pt x="11762" y="17989"/>
                </a:lnTo>
                <a:lnTo>
                  <a:pt x="16149" y="17989"/>
                </a:lnTo>
                <a:lnTo>
                  <a:pt x="16149" y="10800"/>
                </a:lnTo>
                <a:lnTo>
                  <a:pt x="5530" y="10800"/>
                </a:lnTo>
                <a:lnTo>
                  <a:pt x="5530" y="17989"/>
                </a:lnTo>
                <a:lnTo>
                  <a:pt x="991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4"/>
          <p:cNvSpPr/>
          <p:nvPr/>
        </p:nvSpPr>
        <p:spPr>
          <a:xfrm>
            <a:off x="1978200" y="333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шеходного перех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5" descr=""/>
          <p:cNvPicPr/>
          <p:nvPr/>
        </p:nvPicPr>
        <p:blipFill>
          <a:blip r:embed="rId1"/>
          <a:stretch/>
        </p:blipFill>
        <p:spPr>
          <a:xfrm>
            <a:off x="320760" y="1146240"/>
            <a:ext cx="8424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324000" y="144360"/>
          <a:ext cx="8496000" cy="6597720"/>
        </p:xfrm>
        <a:graphic>
          <a:graphicData uri="http://schemas.openxmlformats.org/drawingml/2006/table">
            <a:tbl>
              <a:tblPr/>
              <a:tblGrid>
                <a:gridCol w="6329160"/>
                <a:gridCol w="21668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ки кандидата в 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 без остановки линию «СТОП» перед пешеходным переходом (по проекции переднего габарита ТС на горизонтальную плоск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сил скорость движения более 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л ТС на расстоянии более 1,0 м перед линией «СТОП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 движение ранее, чем через 3 сек после фиксации ТС в неподвижном состоян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последовательность выполнения упражнения, предусмотренную для закрытой, для движения, площадк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9" name="AutoShape 91"/>
          <p:cNvSpPr/>
          <p:nvPr/>
        </p:nvSpPr>
        <p:spPr>
          <a:xfrm>
            <a:off x="8893080" y="6534000"/>
            <a:ext cx="250920" cy="32400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324000"/>
              <a:gd name="textAreaBottom" fmla="*/ 307800 h 324000"/>
            </a:gdLst>
            <a:ahLst/>
            <a:rect l="textAreaLeft" t="textAreaTop" r="textAreaRight" b="textAreaBottom"/>
            <a:pathLst>
              <a:path w="21600" h="27882">
                <a:moveTo>
                  <a:pt x="0" y="0"/>
                </a:moveTo>
                <a:lnTo>
                  <a:pt x="21600" y="0"/>
                </a:lnTo>
                <a:lnTo>
                  <a:pt x="21600" y="27882"/>
                </a:lnTo>
                <a:lnTo>
                  <a:pt x="0" y="27882"/>
                </a:lnTo>
                <a:close/>
              </a:path>
              <a:path fill="lightenLess" w="21600" h="278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882">
                <a:moveTo>
                  <a:pt x="21600" y="0"/>
                </a:moveTo>
                <a:lnTo>
                  <a:pt x="21600" y="27882"/>
                </a:lnTo>
                <a:lnTo>
                  <a:pt x="20200" y="26482"/>
                </a:lnTo>
                <a:lnTo>
                  <a:pt x="20200" y="1400"/>
                </a:lnTo>
                <a:close/>
              </a:path>
              <a:path fill="darkenLess" w="21600" h="27882">
                <a:moveTo>
                  <a:pt x="21600" y="27882"/>
                </a:moveTo>
                <a:lnTo>
                  <a:pt x="0" y="27882"/>
                </a:lnTo>
                <a:lnTo>
                  <a:pt x="1400" y="26482"/>
                </a:lnTo>
                <a:lnTo>
                  <a:pt x="20200" y="26482"/>
                </a:lnTo>
                <a:close/>
              </a:path>
              <a:path fill="lighten" w="21600" h="27882">
                <a:moveTo>
                  <a:pt x="0" y="278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6482"/>
                </a:lnTo>
                <a:close/>
              </a:path>
              <a:path fill="darken" w="21600" h="27882">
                <a:moveTo>
                  <a:pt x="10800" y="6978"/>
                </a:moveTo>
                <a:lnTo>
                  <a:pt x="13376" y="9589"/>
                </a:lnTo>
                <a:lnTo>
                  <a:pt x="13376" y="7848"/>
                </a:lnTo>
                <a:lnTo>
                  <a:pt x="15152" y="7848"/>
                </a:lnTo>
                <a:lnTo>
                  <a:pt x="15152" y="11365"/>
                </a:lnTo>
                <a:lnTo>
                  <a:pt x="17763" y="13941"/>
                </a:lnTo>
                <a:lnTo>
                  <a:pt x="16109" y="13941"/>
                </a:lnTo>
                <a:lnTo>
                  <a:pt x="16109" y="21130"/>
                </a:lnTo>
                <a:lnTo>
                  <a:pt x="5491" y="21130"/>
                </a:lnTo>
                <a:lnTo>
                  <a:pt x="5491" y="13941"/>
                </a:lnTo>
                <a:lnTo>
                  <a:pt x="3837" y="13941"/>
                </a:lnTo>
                <a:close/>
              </a:path>
              <a:path fill="darkenLess" w="21600" h="27882">
                <a:moveTo>
                  <a:pt x="13376" y="9589"/>
                </a:moveTo>
                <a:lnTo>
                  <a:pt x="13376" y="7848"/>
                </a:lnTo>
                <a:lnTo>
                  <a:pt x="15152" y="7848"/>
                </a:lnTo>
                <a:lnTo>
                  <a:pt x="15152" y="11365"/>
                </a:lnTo>
                <a:close/>
              </a:path>
              <a:path fill="darkenLess" w="21600" h="27882">
                <a:moveTo>
                  <a:pt x="9877" y="17440"/>
                </a:moveTo>
                <a:lnTo>
                  <a:pt x="11723" y="17440"/>
                </a:lnTo>
                <a:lnTo>
                  <a:pt x="11723" y="21130"/>
                </a:lnTo>
                <a:lnTo>
                  <a:pt x="16109" y="21130"/>
                </a:lnTo>
                <a:lnTo>
                  <a:pt x="16109" y="13941"/>
                </a:lnTo>
                <a:lnTo>
                  <a:pt x="5491" y="13941"/>
                </a:lnTo>
                <a:lnTo>
                  <a:pt x="5491" y="21130"/>
                </a:lnTo>
                <a:lnTo>
                  <a:pt x="9877" y="21130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3059280" y="33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рекрёс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5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960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250920" y="115920"/>
          <a:ext cx="8642160" cy="6553080"/>
        </p:xfrm>
        <a:graphic>
          <a:graphicData uri="http://schemas.openxmlformats.org/drawingml/2006/table">
            <a:tbl>
              <a:tblPr/>
              <a:tblGrid>
                <a:gridCol w="6551640"/>
                <a:gridCol w="2090520"/>
              </a:tblGrid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шибки кандидата в в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 балл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оответствующий указатель поворота при пересечении перекрестка с поворотом направо или нал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оезд перекрестка затрачено более 30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ек линию «СТОП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проезд перекрестка затрачено более 20 с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ысил скорость движения более 20 км/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тановил ТС на расстоянии более 1,0 м перед линией «СТОП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последовательность выполнения упражнения, предусмотренную для закрытой, для движения, площадки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AutoShape 117"/>
          <p:cNvSpPr/>
          <p:nvPr/>
        </p:nvSpPr>
        <p:spPr>
          <a:xfrm>
            <a:off x="8929800" y="6607080"/>
            <a:ext cx="214200" cy="250920"/>
          </a:xfrm>
          <a:custGeom>
            <a:avLst/>
            <a:gdLst>
              <a:gd name="textAreaLeft" fmla="*/ 13680 w 214200"/>
              <a:gd name="textAreaRight" fmla="*/ 200520 w 214200"/>
              <a:gd name="textAreaTop" fmla="*/ 13680 h 250920"/>
              <a:gd name="textAreaBottom" fmla="*/ 237240 h 250920"/>
            </a:gdLst>
            <a:ahLst/>
            <a:rect l="textAreaLeft" t="textAreaTop" r="textAreaRight" b="textAreaBottom"/>
            <a:pathLst>
              <a:path w="21600" h="25297">
                <a:moveTo>
                  <a:pt x="0" y="0"/>
                </a:moveTo>
                <a:lnTo>
                  <a:pt x="21600" y="0"/>
                </a:lnTo>
                <a:lnTo>
                  <a:pt x="21600" y="25297"/>
                </a:lnTo>
                <a:lnTo>
                  <a:pt x="0" y="25297"/>
                </a:lnTo>
                <a:close/>
              </a:path>
              <a:path fill="lightenLess" w="21600" h="25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97">
                <a:moveTo>
                  <a:pt x="21600" y="0"/>
                </a:moveTo>
                <a:lnTo>
                  <a:pt x="21600" y="25297"/>
                </a:lnTo>
                <a:lnTo>
                  <a:pt x="20200" y="23897"/>
                </a:lnTo>
                <a:lnTo>
                  <a:pt x="20200" y="1400"/>
                </a:lnTo>
                <a:close/>
              </a:path>
              <a:path fill="darkenLess" w="21600" h="25297">
                <a:moveTo>
                  <a:pt x="21600" y="25297"/>
                </a:moveTo>
                <a:lnTo>
                  <a:pt x="0" y="25297"/>
                </a:lnTo>
                <a:lnTo>
                  <a:pt x="1400" y="23897"/>
                </a:lnTo>
                <a:lnTo>
                  <a:pt x="20200" y="23897"/>
                </a:lnTo>
                <a:close/>
              </a:path>
              <a:path fill="lighten" w="21600" h="25297">
                <a:moveTo>
                  <a:pt x="0" y="25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97"/>
                </a:lnTo>
                <a:close/>
              </a:path>
              <a:path fill="darken" w="21600" h="25297">
                <a:moveTo>
                  <a:pt x="10800" y="5685"/>
                </a:moveTo>
                <a:lnTo>
                  <a:pt x="13376" y="8296"/>
                </a:lnTo>
                <a:lnTo>
                  <a:pt x="13376" y="6556"/>
                </a:lnTo>
                <a:lnTo>
                  <a:pt x="15152" y="6556"/>
                </a:lnTo>
                <a:lnTo>
                  <a:pt x="15152" y="10072"/>
                </a:lnTo>
                <a:lnTo>
                  <a:pt x="17763" y="12648"/>
                </a:lnTo>
                <a:lnTo>
                  <a:pt x="16109" y="12648"/>
                </a:lnTo>
                <a:lnTo>
                  <a:pt x="16109" y="19838"/>
                </a:lnTo>
                <a:lnTo>
                  <a:pt x="5491" y="19838"/>
                </a:lnTo>
                <a:lnTo>
                  <a:pt x="5491" y="12648"/>
                </a:lnTo>
                <a:lnTo>
                  <a:pt x="3837" y="12648"/>
                </a:lnTo>
                <a:close/>
              </a:path>
              <a:path fill="darkenLess" w="21600" h="25297">
                <a:moveTo>
                  <a:pt x="13376" y="8296"/>
                </a:moveTo>
                <a:lnTo>
                  <a:pt x="13376" y="6556"/>
                </a:lnTo>
                <a:lnTo>
                  <a:pt x="15152" y="6556"/>
                </a:lnTo>
                <a:lnTo>
                  <a:pt x="15152" y="10072"/>
                </a:lnTo>
                <a:close/>
              </a:path>
              <a:path fill="darkenLess" w="21600" h="25297">
                <a:moveTo>
                  <a:pt x="9877" y="16147"/>
                </a:moveTo>
                <a:lnTo>
                  <a:pt x="11723" y="16147"/>
                </a:lnTo>
                <a:lnTo>
                  <a:pt x="11723" y="19838"/>
                </a:lnTo>
                <a:lnTo>
                  <a:pt x="16109" y="19838"/>
                </a:lnTo>
                <a:lnTo>
                  <a:pt x="16109" y="12648"/>
                </a:lnTo>
                <a:lnTo>
                  <a:pt x="5491" y="12648"/>
                </a:lnTo>
                <a:lnTo>
                  <a:pt x="5491" y="19838"/>
                </a:lnTo>
                <a:lnTo>
                  <a:pt x="9877" y="19838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4"/>
          <p:cNvSpPr/>
          <p:nvPr/>
        </p:nvSpPr>
        <p:spPr>
          <a:xfrm>
            <a:off x="468360" y="333360"/>
            <a:ext cx="8424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именование упражн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1" action="ppaction://hlinksldjump"/>
              </a:rPr>
              <a:t>Въезд в бок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2" action="ppaction://hlinksldjump"/>
              </a:rPr>
              <a:t>Остановка и трогание на подъём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8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80ff"/>
                </a:solidFill>
                <a:uFillTx/>
                <a:latin typeface="Times New Roman"/>
                <a:ea typeface="Arial"/>
                <a:hlinkClick r:id="rId3" action="ppaction://hlinksldjump"/>
              </a:rPr>
              <a:t>Разворо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задним хо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Змей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араллельная парковка передним ход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Тонне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шеходного перех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езд перекрёс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4"/>
          <p:cNvSpPr/>
          <p:nvPr/>
        </p:nvSpPr>
        <p:spPr>
          <a:xfrm>
            <a:off x="3635280" y="333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Въезд в бок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Picture 5" descr="ff4"/>
          <p:cNvPicPr/>
          <p:nvPr/>
        </p:nvPicPr>
        <p:blipFill>
          <a:blip r:embed="rId1"/>
          <a:srcRect l="8960" t="0" r="11193" b="21480"/>
          <a:stretch/>
        </p:blipFill>
        <p:spPr>
          <a:xfrm>
            <a:off x="538200" y="1125360"/>
            <a:ext cx="817236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611280" y="333360"/>
          <a:ext cx="8064360" cy="6262560"/>
        </p:xfrm>
        <a:graphic>
          <a:graphicData uri="http://schemas.openxmlformats.org/drawingml/2006/table">
            <a:tbl>
              <a:tblPr/>
              <a:tblGrid>
                <a:gridCol w="498240"/>
                <a:gridCol w="6262920"/>
                <a:gridCol w="1303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AutoShape 59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2050920" y="333360"/>
            <a:ext cx="56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Остановка и трогание на подъеме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5" descr="ff2"/>
          <p:cNvPicPr/>
          <p:nvPr/>
        </p:nvPicPr>
        <p:blipFill>
          <a:blip r:embed="rId1"/>
          <a:stretch/>
        </p:blipFill>
        <p:spPr>
          <a:xfrm>
            <a:off x="539640" y="1557360"/>
            <a:ext cx="8136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395280" y="333360"/>
          <a:ext cx="8352000" cy="6215040"/>
        </p:xfrm>
        <a:graphic>
          <a:graphicData uri="http://schemas.openxmlformats.org/drawingml/2006/table">
            <a:tbl>
              <a:tblPr/>
              <a:tblGrid>
                <a:gridCol w="565200"/>
                <a:gridCol w="6440400"/>
                <a:gridCol w="13464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л откат более допустим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2" name="AutoShape 51"/>
          <p:cNvSpPr/>
          <p:nvPr/>
        </p:nvSpPr>
        <p:spPr>
          <a:xfrm>
            <a:off x="8820000" y="6524640"/>
            <a:ext cx="324000" cy="333360"/>
          </a:xfrm>
          <a:custGeom>
            <a:avLst/>
            <a:gdLst>
              <a:gd name="textAreaLeft" fmla="*/ 20880 w 324000"/>
              <a:gd name="textAreaRight" fmla="*/ 303120 w 324000"/>
              <a:gd name="textAreaTop" fmla="*/ 20880 h 333360"/>
              <a:gd name="textAreaBottom" fmla="*/ 312480 h 333360"/>
            </a:gdLst>
            <a:ahLst/>
            <a:rect l="textAreaLeft" t="textAreaTop" r="textAreaRight" b="textAreaBottom"/>
            <a:pathLst>
              <a:path w="21600" h="22223">
                <a:moveTo>
                  <a:pt x="0" y="0"/>
                </a:moveTo>
                <a:lnTo>
                  <a:pt x="21600" y="0"/>
                </a:lnTo>
                <a:lnTo>
                  <a:pt x="21600" y="22223"/>
                </a:lnTo>
                <a:lnTo>
                  <a:pt x="0" y="22223"/>
                </a:lnTo>
                <a:close/>
              </a:path>
              <a:path fill="lightenLess" w="21600" h="222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23">
                <a:moveTo>
                  <a:pt x="21600" y="0"/>
                </a:moveTo>
                <a:lnTo>
                  <a:pt x="21600" y="22223"/>
                </a:lnTo>
                <a:lnTo>
                  <a:pt x="20200" y="20823"/>
                </a:lnTo>
                <a:lnTo>
                  <a:pt x="20200" y="1400"/>
                </a:lnTo>
                <a:close/>
              </a:path>
              <a:path fill="darkenLess" w="21600" h="22223">
                <a:moveTo>
                  <a:pt x="21600" y="22223"/>
                </a:moveTo>
                <a:lnTo>
                  <a:pt x="0" y="22223"/>
                </a:lnTo>
                <a:lnTo>
                  <a:pt x="1400" y="20823"/>
                </a:lnTo>
                <a:lnTo>
                  <a:pt x="20200" y="20823"/>
                </a:lnTo>
                <a:close/>
              </a:path>
              <a:path fill="lighten" w="21600" h="22223">
                <a:moveTo>
                  <a:pt x="0" y="222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23"/>
                </a:lnTo>
                <a:close/>
              </a:path>
              <a:path fill="darken" w="21600" h="22223">
                <a:moveTo>
                  <a:pt x="10800" y="4149"/>
                </a:moveTo>
                <a:lnTo>
                  <a:pt x="13376" y="6760"/>
                </a:ln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lnTo>
                  <a:pt x="17763" y="11112"/>
                </a:lnTo>
                <a:lnTo>
                  <a:pt x="16109" y="11112"/>
                </a:lnTo>
                <a:lnTo>
                  <a:pt x="16109" y="18301"/>
                </a:lnTo>
                <a:lnTo>
                  <a:pt x="5491" y="18301"/>
                </a:lnTo>
                <a:lnTo>
                  <a:pt x="5491" y="11112"/>
                </a:lnTo>
                <a:lnTo>
                  <a:pt x="3837" y="11112"/>
                </a:lnTo>
                <a:close/>
              </a:path>
              <a:path fill="darkenLess" w="21600" h="22223">
                <a:moveTo>
                  <a:pt x="13376" y="6760"/>
                </a:moveTo>
                <a:lnTo>
                  <a:pt x="13376" y="5019"/>
                </a:lnTo>
                <a:lnTo>
                  <a:pt x="15152" y="5019"/>
                </a:lnTo>
                <a:lnTo>
                  <a:pt x="15152" y="8535"/>
                </a:lnTo>
                <a:close/>
              </a:path>
              <a:path fill="darkenLess" w="21600" h="22223">
                <a:moveTo>
                  <a:pt x="9877" y="14611"/>
                </a:moveTo>
                <a:lnTo>
                  <a:pt x="11723" y="14611"/>
                </a:lnTo>
                <a:lnTo>
                  <a:pt x="11723" y="18301"/>
                </a:lnTo>
                <a:lnTo>
                  <a:pt x="16109" y="18301"/>
                </a:lnTo>
                <a:lnTo>
                  <a:pt x="16109" y="11112"/>
                </a:lnTo>
                <a:lnTo>
                  <a:pt x="5491" y="11112"/>
                </a:lnTo>
                <a:lnTo>
                  <a:pt x="5491" y="18301"/>
                </a:lnTo>
                <a:lnTo>
                  <a:pt x="9877" y="18301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3682800" y="35928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Развор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5" descr="ff1"/>
          <p:cNvPicPr/>
          <p:nvPr/>
        </p:nvPicPr>
        <p:blipFill>
          <a:blip r:embed="rId1"/>
          <a:stretch/>
        </p:blipFill>
        <p:spPr>
          <a:xfrm>
            <a:off x="544680" y="1628640"/>
            <a:ext cx="799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324000" y="264960"/>
          <a:ext cx="8496000" cy="6259680"/>
        </p:xfrm>
        <a:graphic>
          <a:graphicData uri="http://schemas.openxmlformats.org/drawingml/2006/table">
            <a:tbl>
              <a:tblPr/>
              <a:tblGrid>
                <a:gridCol w="574560"/>
                <a:gridCol w="6551640"/>
                <a:gridCol w="1369800"/>
              </a:tblGrid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шиб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Б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ил элементы констру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ил траекторию дви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ёк линию стоп (по проекции переднего бампе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ключил стояночный тормо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ключил передач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полнил упражнение при одноразовом включении передачи заднего х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Л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ыполнении упражнения двигатель загло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AutoShape 58"/>
          <p:cNvSpPr/>
          <p:nvPr/>
        </p:nvSpPr>
        <p:spPr>
          <a:xfrm>
            <a:off x="8821800" y="6535800"/>
            <a:ext cx="322200" cy="322200"/>
          </a:xfrm>
          <a:custGeom>
            <a:avLst/>
            <a:gdLst>
              <a:gd name="textAreaLeft" fmla="*/ 20880 w 322200"/>
              <a:gd name="textAreaRight" fmla="*/ 301320 w 322200"/>
              <a:gd name="textAreaTop" fmla="*/ 20880 h 322200"/>
              <a:gd name="textAreaBottom" fmla="*/ 301320 h 3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1136880" y="40356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Параллельная парковка задним ходом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  <a:ea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5" descr="ff3"/>
          <p:cNvPicPr/>
          <p:nvPr/>
        </p:nvPicPr>
        <p:blipFill>
          <a:blip r:embed="rId1"/>
          <a:srcRect l="0" t="0" r="0" b="6068"/>
          <a:stretch/>
        </p:blipFill>
        <p:spPr>
          <a:xfrm>
            <a:off x="395280" y="1293840"/>
            <a:ext cx="83534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6:19:05Z</dcterms:created>
  <dc:creator>Николай</dc:creator>
  <dc:description/>
  <dc:language>en-US</dc:language>
  <cp:lastModifiedBy>Александр</cp:lastModifiedBy>
  <cp:lastPrinted>2017-02-22T09:40:35Z</cp:lastPrinted>
  <dcterms:modified xsi:type="dcterms:W3CDTF">2017-10-03T12:40:27Z</dcterms:modified>
  <cp:revision>18</cp:revision>
  <dc:subject/>
  <dc:title>Слайд 1</dc:title>
</cp:coreProperties>
</file>