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836-C9C4-42EB-B86E-BADD321F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431-F34B-4DC0-83DA-CDD462F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AC2-1504-4ACE-AF10-50007415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DAB-487D-4AD9-9C79-B217CD5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EB2-04CF-48B5-BC35-08FBD5DB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CDF-4C7E-4E2C-909F-B3BBB09B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FB4-25FB-404D-9FA4-759682BD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40A-9916-466A-BB93-5C44BB6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309-1328-4570-8809-5E27B715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C1C-22AD-4E22-B6B3-B2A09AA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366-EF1F-4866-8BB0-FF7F121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822-CE5B-4085-B32E-379B59A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450-D1CF-4F14-B666-5131B38EA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Математика. 4 клас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Числа от 1 до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(устные вычисл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дготовила Филиппова С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197485[1]"/>
          <p:cNvPicPr/>
          <p:nvPr/>
        </p:nvPicPr>
        <p:blipFill>
          <a:blip r:embed="rId1"/>
          <a:stretch/>
        </p:blipFill>
        <p:spPr>
          <a:xfrm>
            <a:off x="3348000" y="2421000"/>
            <a:ext cx="280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Продолжаем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684360" y="18900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C900078968[1]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вторить нумерацию многозначных чи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Технологии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доровьесберегающ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ценива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Установите закономерность и продолжите каждый ряд еще на два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345, 346, 347,    … ,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100, 300, 500,    … , 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1000, 999, 998,  … ,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780, 740, 700,    … , 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5219640" y="2066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669000" y="2809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9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669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99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246640" y="35164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99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213520" y="42670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0d3d"/>
                </a:solidFill>
                <a:latin typeface="Arial"/>
              </a:rPr>
              <a:t>6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672240" y="4221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0d3d"/>
                </a:solidFill>
                <a:latin typeface="Arial"/>
              </a:rPr>
              <a:t>6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219640" y="2809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7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6672240" y="20480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C900199330[1]"/>
          <p:cNvPicPr/>
          <p:nvPr/>
        </p:nvPicPr>
        <p:blipFill>
          <a:blip r:embed="rId1"/>
          <a:stretch/>
        </p:blipFill>
        <p:spPr>
          <a:xfrm>
            <a:off x="1187280" y="333360"/>
            <a:ext cx="705672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Следующи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амените числа суммой разрядных слагаем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95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7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40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05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MC900360834[1]"/>
          <p:cNvPicPr/>
          <p:nvPr/>
        </p:nvPicPr>
        <p:blipFill>
          <a:blip r:embed="rId1"/>
          <a:stretch/>
        </p:blipFill>
        <p:spPr>
          <a:xfrm>
            <a:off x="5932440" y="1557360"/>
            <a:ext cx="2879640" cy="4105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40000" y="17305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0+90+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340000" y="25430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+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340000" y="342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0+4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600280" y="44607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0+200+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Какие числа записаны в виде су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+4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00+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00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Как называются такие слагае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900389102[1]"/>
          <p:cNvPicPr/>
          <p:nvPr/>
        </p:nvPicPr>
        <p:blipFill>
          <a:blip r:embed="rId1"/>
          <a:stretch/>
        </p:blipFill>
        <p:spPr>
          <a:xfrm>
            <a:off x="6516720" y="4724280"/>
            <a:ext cx="237636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3670200" y="15796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34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595600" y="32432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7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987640" y="248292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97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Сравнит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5л       54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0кг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5кв.см      348кв.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78 см      876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359093[1]"/>
          <p:cNvPicPr/>
          <p:nvPr/>
        </p:nvPicPr>
        <p:blipFill>
          <a:blip r:embed="rId1"/>
          <a:stretch/>
        </p:blipFill>
        <p:spPr>
          <a:xfrm>
            <a:off x="6732720" y="3357720"/>
            <a:ext cx="2411280" cy="3311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523960" y="2401920"/>
            <a:ext cx="6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b050"/>
                </a:solidFill>
                <a:latin typeface="Arial"/>
              </a:rPr>
              <a:t>&g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857680" y="4005360"/>
            <a:ext cx="66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3564000" y="3181320"/>
            <a:ext cx="66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190600" y="1557360"/>
            <a:ext cx="6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трех одинаковых тетрадях 54 листа. Сколько тетрадей получится из 72 лис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415484[1]"/>
          <p:cNvPicPr/>
          <p:nvPr/>
        </p:nvPicPr>
        <p:blipFill>
          <a:blip r:embed="rId1"/>
          <a:stretch/>
        </p:blipFill>
        <p:spPr>
          <a:xfrm>
            <a:off x="2411280" y="3589200"/>
            <a:ext cx="44420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Провер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314784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72:18=4 (т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получится 4 тетр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C900361192[1]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900000" y="1700280"/>
            <a:ext cx="698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54:3=18 (л.) в одной тетрад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42:54Z</dcterms:created>
  <dc:creator>Школа</dc:creator>
  <dc:description/>
  <dc:language>en-US</dc:language>
  <cp:lastModifiedBy>МАМАН</cp:lastModifiedBy>
  <dcterms:modified xsi:type="dcterms:W3CDTF">2017-09-03T09:16:49Z</dcterms:modified>
  <cp:revision>8</cp:revision>
  <dc:subject/>
  <dc:title>Математика. 4 класс.</dc:title>
</cp:coreProperties>
</file>