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7C91-AA96-4BF1-A033-D5992BA2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F73-09E2-43E5-B2C9-85166988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35F1-A026-4291-979A-E1949F93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50F-6CFB-4DC2-BDE2-34F10DE8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F28-E76A-46AC-8D83-4603E021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AF8-40EA-4379-9818-C1635D3B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561C-413E-4DCA-B4F2-65351013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B31E-1723-4409-B559-5B521C15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F19-BD78-4AD5-A5D6-9867CB20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2A6-64CD-4796-B37D-AB0ED56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46A2-21DD-49AB-812C-338E603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72D3-2594-4638-A5BD-75337CC2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804-1B7D-4C70-9854-FAA36BD8BE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Математика. 4 клас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Числа от 1 до 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Arial"/>
              </a:rPr>
              <a:t>(устные вычислен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одготовила Филиппова С.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197485[1]"/>
          <p:cNvPicPr/>
          <p:nvPr/>
        </p:nvPicPr>
        <p:blipFill>
          <a:blip r:embed="rId1"/>
          <a:stretch/>
        </p:blipFill>
        <p:spPr>
          <a:xfrm>
            <a:off x="3348000" y="2421000"/>
            <a:ext cx="28083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9900"/>
                </a:solidFill>
                <a:latin typeface="Arial"/>
              </a:rPr>
              <a:t>Продолжаем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4"/>
          <p:cNvSpPr txBox="1"/>
          <p:nvPr/>
        </p:nvSpPr>
        <p:spPr>
          <a:xfrm>
            <a:off x="684360" y="189000"/>
            <a:ext cx="75596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работу!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MC900078968[1]"/>
          <p:cNvPicPr/>
          <p:nvPr/>
        </p:nvPicPr>
        <p:blipFill>
          <a:blip r:embed="rId1"/>
          <a:stretch/>
        </p:blipFill>
        <p:spPr>
          <a:xfrm>
            <a:off x="1187280" y="260280"/>
            <a:ext cx="68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7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Цель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овторить нумерацию многозначных чис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"/>
              </a:rPr>
              <a:t>Технологии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блемного диалога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доровьесберегающие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оценива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"/>
              </a:rPr>
              <a:t>Установите закономерность и продолжите каждый ряд еще на два числ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) 345, 346, 347,    … ,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)100, 300, 500,    … , 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) 1000, 999, 998,  … ,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) 780, 740, 700,    … ,     …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5219640" y="20667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8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6669000" y="2809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9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6669000" y="3429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99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5246640" y="35164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997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213520" y="426708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0d3d"/>
                </a:solidFill>
                <a:latin typeface="Arial"/>
              </a:rPr>
              <a:t>66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0"/>
          <p:cNvSpPr/>
          <p:nvPr/>
        </p:nvSpPr>
        <p:spPr>
          <a:xfrm>
            <a:off x="6672240" y="42210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d0d3d"/>
                </a:solidFill>
                <a:latin typeface="Arial"/>
              </a:rPr>
              <a:t>62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5219640" y="28098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Arial"/>
              </a:rPr>
              <a:t>70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6672240" y="204804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34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MC900199330[1]"/>
          <p:cNvPicPr/>
          <p:nvPr/>
        </p:nvPicPr>
        <p:blipFill>
          <a:blip r:embed="rId1"/>
          <a:stretch/>
        </p:blipFill>
        <p:spPr>
          <a:xfrm>
            <a:off x="1187280" y="333360"/>
            <a:ext cx="7056720" cy="6120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Arial"/>
              </a:rPr>
              <a:t>Следующие зад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Замените числа суммой разрядных слагаем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73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95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07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40=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205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MC900360834[1]"/>
          <p:cNvPicPr/>
          <p:nvPr/>
        </p:nvPicPr>
        <p:blipFill>
          <a:blip r:embed="rId1"/>
          <a:stretch/>
        </p:blipFill>
        <p:spPr>
          <a:xfrm>
            <a:off x="5932440" y="1557360"/>
            <a:ext cx="2879640" cy="4105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40000" y="17305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0+90+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2340000" y="254304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+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2340000" y="342900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00+4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600280" y="446076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000+200+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1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Какие числа записаны в виде суммы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00+40+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900+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700+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Как называются такие слагаем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MC900389102[1]"/>
          <p:cNvPicPr/>
          <p:nvPr/>
        </p:nvPicPr>
        <p:blipFill>
          <a:blip r:embed="rId1"/>
          <a:stretch/>
        </p:blipFill>
        <p:spPr>
          <a:xfrm>
            <a:off x="6516720" y="4724280"/>
            <a:ext cx="2376360" cy="192888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3670200" y="157968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34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595600" y="324324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70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2987640" y="2482920"/>
            <a:ext cx="21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Arial"/>
              </a:rPr>
              <a:t>= 97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0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"/>
              </a:rPr>
              <a:t>Сравнит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5л       54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20кг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к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5кв.см      348кв.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678 см      876 с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359093[1]"/>
          <p:cNvPicPr/>
          <p:nvPr/>
        </p:nvPicPr>
        <p:blipFill>
          <a:blip r:embed="rId1"/>
          <a:stretch/>
        </p:blipFill>
        <p:spPr>
          <a:xfrm>
            <a:off x="6732720" y="3357720"/>
            <a:ext cx="2411280" cy="331128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2523960" y="2401920"/>
            <a:ext cx="6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b050"/>
                </a:solidFill>
                <a:latin typeface="Arial"/>
              </a:rPr>
              <a:t>&g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8"/>
          <p:cNvSpPr/>
          <p:nvPr/>
        </p:nvSpPr>
        <p:spPr>
          <a:xfrm>
            <a:off x="2857680" y="4005360"/>
            <a:ext cx="66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3564000" y="3181320"/>
            <a:ext cx="666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2190600" y="1557360"/>
            <a:ext cx="667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Решите задач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трех одинаковых тетрадях 54 листа. Сколько тетрадей получится из 72 лис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415484[1]"/>
          <p:cNvPicPr/>
          <p:nvPr/>
        </p:nvPicPr>
        <p:blipFill>
          <a:blip r:embed="rId1"/>
          <a:stretch/>
        </p:blipFill>
        <p:spPr>
          <a:xfrm>
            <a:off x="2411280" y="3589200"/>
            <a:ext cx="444204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6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Проверк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1280" y="3147840"/>
            <a:ext cx="8229600" cy="14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) 72:18=4 (т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получится 4 тетрад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MC900361192[1]"/>
          <p:cNvPicPr/>
          <p:nvPr/>
        </p:nvPicPr>
        <p:blipFill>
          <a:blip r:embed="rId1"/>
          <a:stretch/>
        </p:blipFill>
        <p:spPr>
          <a:xfrm>
            <a:off x="2987640" y="4581360"/>
            <a:ext cx="2808360" cy="1943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900000" y="1700280"/>
            <a:ext cx="698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) 54:3=18 (л.) в одной тетрад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31T09:42:54Z</dcterms:created>
  <dc:creator>Школа</dc:creator>
  <dc:description/>
  <dc:language>en-US</dc:language>
  <cp:lastModifiedBy>МАМАН</cp:lastModifiedBy>
  <dcterms:modified xsi:type="dcterms:W3CDTF">2017-09-03T09:16:49Z</dcterms:modified>
  <cp:revision>8</cp:revision>
  <dc:subject/>
  <dc:title>Математика. 4 класс.</dc:title>
</cp:coreProperties>
</file>