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5.png" ContentType="image/png"/>
  <Override PartName="/ppt/media/image43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EB01-9D3D-46E4-A04A-AACAF374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38721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051D-84F7-4D57-8530-EA8A49CE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744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BDF7-BFFF-452D-A580-840376DF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36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332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36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332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185-FE45-426E-9DD0-794F3798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D9198-22D1-464B-B69F-25273166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CCDD2-366A-4AC9-8F05-DBE31F81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9F07-C3D5-48C1-BA1A-E7BCC6FD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6F61-968A-4AC3-93BA-B352F22B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30DA-E10C-45D4-B743-D1D04D8F5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8E81-9985-4B61-9C69-D73C5736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25F1-9F80-4446-A32D-99366C64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824F-B837-448E-A371-0870C5C6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744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1A4C-EBF6-41A1-85F4-367B1F54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43C5-5000-4A29-BB28-786B728C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1760" y="38721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0A9B-3FD5-40B0-B311-A810676C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744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92FA-3F8A-468E-8A08-BC735A8C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36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63320" y="152352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176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36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63320" y="3872160"/>
            <a:ext cx="242892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46E9-9F59-4664-80C9-45FF8B403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258A-8719-4A91-A064-EE822E72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CC52-E6FB-4D5C-A07C-10B6314F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FED9-47D9-4055-B897-A85A99F8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3045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F74C-0D78-4046-B505-B020759B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2372-DB85-4203-B058-42D25375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7440" y="387216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FA4-1DA0-430E-8381-978D3C89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7440" y="1523520"/>
            <a:ext cx="3681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3872160"/>
            <a:ext cx="75438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52D2-3216-4E05-B009-297B7470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5235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5909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96216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4320" y="609588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3271-168C-43A1-B856-D03180F3EAE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ffff99"/>
                </a:solidFill>
                <a:latin typeface="Arial Black"/>
              </a:rPr>
              <a:t>Click to edit the title text format</a:t>
            </a:r>
            <a:endParaRPr b="0" lang="en-US" sz="56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17220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BA11-AD79-41C5-A61A-140B69DB1EF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484280"/>
            <a:ext cx="82440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Ориентирование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на    местности</a:t>
            </a:r>
            <a:endParaRPr b="0" lang="en-US" sz="48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71280" y="836640"/>
            <a:ext cx="756108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cccc"/>
                </a:solidFill>
                <a:latin typeface="Arial"/>
              </a:rPr>
              <a:t>Окружающий мир 4 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2182680" cy="2087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372360" y="544500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979640" y="2349360"/>
            <a:ext cx="5400720" cy="4051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004760" y="236520"/>
            <a:ext cx="7247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ый безотказный небесный «компас» - солнц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ждое утро поднимается оно над горизонтом, в пол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стигает наибольшей высоты и затем опускается вс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иже и ниже, пока вновь не спрячется за горизонт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о место, где солнце появляется над горизонто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зывается востоком, а где заходит – запад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403280" y="1762200"/>
            <a:ext cx="6264360" cy="4475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872280" y="307800"/>
            <a:ext cx="709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мпас – это прибор, который помогает определи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ороны света. Красная стрелка всегда показывает на юг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 синяя на север. Справа будет восток, а слева запа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3240000" cy="3240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227640" y="1052640"/>
            <a:ext cx="2506680" cy="3639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763640" y="3573360"/>
            <a:ext cx="4392720" cy="292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92560" y="351000"/>
            <a:ext cx="47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кие были компасы ра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211640" y="2492280"/>
            <a:ext cx="4535640" cy="3959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3527280" cy="3961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920" y="333360"/>
            <a:ext cx="870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стность, изображённая условными знаками на лис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умаги, называется картой. На ней вверху –север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изу – юг, справа – восток, слева – запа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6156360" cy="4618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30780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нет компаса, то север и юг можно определить п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асам. Нужно направить часовую стрелку на солнце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сленную линию на « 1», разделить угол попола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учите « юг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58240" y="262080"/>
            <a:ext cx="554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репахи могут ориентироваться по солнц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 ещё не до конца ясно  как они могу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ходить конечную цель путешеств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5832720" cy="437508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332000" y="1268280"/>
            <a:ext cx="6842160" cy="4873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050200" y="26028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чёлы ориентируются по солнц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89000"/>
            <a:ext cx="84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юлени совершают сезонные кочевья с севера на ю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тупление холодов, вероятно, приводит в движение сил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ставляющие тюленей отправляться на юг. Самцы покидаю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жбища раньше самок, чтобы на новом месте занять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готовить территорию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692360" y="2000160"/>
            <a:ext cx="5976720" cy="45975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Бабочки"/>
          <p:cNvPicPr/>
          <p:nvPr/>
        </p:nvPicPr>
        <p:blipFill>
          <a:blip r:embed="rId2"/>
          <a:stretch/>
        </p:blipFill>
        <p:spPr>
          <a:xfrm>
            <a:off x="1547640" y="1413000"/>
            <a:ext cx="6193080" cy="4645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468440" y="260280"/>
            <a:ext cx="639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утром и вечером тень от крыльев бабоч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правлена на восток, то в полдень с севера на ю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619280" y="1790640"/>
            <a:ext cx="6119640" cy="4591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38088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одовые кольца на спине пня  отдельно стоящего дерева располагаются неравномерно: с южной стороны он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ычно толщ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60800" y="333360"/>
            <a:ext cx="723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з карты и компаса не отправятся в полёт самолёт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поплывут корабли по морям, не поедут автомоби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альнюю дорог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2863800" cy="4816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780000" y="2133720"/>
            <a:ext cx="504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глубокой древности, когда не бы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щё компасов, люди находили пу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солнцу и по звёзд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588000" y="3573360"/>
            <a:ext cx="2033640" cy="3005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284720" y="3573360"/>
            <a:ext cx="2008080" cy="30085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189000"/>
            <a:ext cx="88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движении необходимо запоминать ориентир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ать зарубки.  Без зрительных ориентиров челове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лесу начинает кружить, поскольку правая но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ает шаг чуть шире лев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19280" y="1484280"/>
            <a:ext cx="6265800" cy="50119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5280" y="476280"/>
            <a:ext cx="412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вает, что животные нападают на человека, ес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ни напуганы неожиданной встречей, защищ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тёнышей или ране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38520" y="765000"/>
            <a:ext cx="4237200" cy="5756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4000" y="3981600"/>
            <a:ext cx="3600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не удалось выйти 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комый путь, вспомни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щё раз знакомые ориенти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учше всего протяжённые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шумные шоссе, дорог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удоходную ре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403280" y="1341360"/>
            <a:ext cx="6840720" cy="5130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19240" y="307800"/>
            <a:ext cx="8600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павшие за много километров от дома домаш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вотные и без компаса успешно находят дорог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м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547640" y="1844640"/>
            <a:ext cx="5977080" cy="4492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9280" y="307800"/>
            <a:ext cx="885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авильно определить направление в степ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может норка суслика. Грызуны, как правил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ход в своё жилище делают с южной сторо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4470120" cy="5729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4840200" y="639720"/>
            <a:ext cx="4237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южных районах растё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компасное» раст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латук. Листья 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щены на зап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восток плоскостям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на север и юг – рёбр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75840" y="423720"/>
            <a:ext cx="716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ветущий подсолнечник поворачивает сво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ловку за солнц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92200" y="326880"/>
            <a:ext cx="815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ошади давно доказали свою исключительну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особность к запоминанию. Их умение запоминать доро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пасло жизнь не одному заблудившемуся ездо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258920" y="1484280"/>
            <a:ext cx="6664320" cy="49989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94560" y="382680"/>
            <a:ext cx="844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Приближенно определить время в летние утрен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часы можно также по пробуждению пт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и их первым песня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Название пти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Время первой песни (часы)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Зяблик 2—2.30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Малиновка 3—4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Перепел 3.30—4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Дрозд 4—4.30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Пеночка 4—5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Синица 5—6</a:t>
            </a:r>
            <a:br>
              <a:rPr sz="2400"/>
            </a:b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Воробей 6—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6012000" y="2349360"/>
            <a:ext cx="2871720" cy="19162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6084720" y="4581360"/>
            <a:ext cx="2737080" cy="1878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672560" y="234324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ябл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39480" y="24145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линов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54000" y="4503600"/>
            <a:ext cx="94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роз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250920" y="4508640"/>
            <a:ext cx="2663640" cy="2219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3840" y="443088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ноч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95280" y="1130040"/>
            <a:ext cx="48974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Козлобородник луговой 4—5 10—11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Цикорий 5—6 15—19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Шиповник полевой 5—6 20—21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Одуванчик 6—7 15—18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Осот полевой 7—8 11—12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Лен полевой 7—8 17—18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Ястребинка зонтичная 7—8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 18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19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Кувшинка белая 8—9 19—20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Фиалка трехцветная 8—9 16—17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Гвоздика полевая 10—11 14—15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Ноготки полевые 10—11 16—17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Кислица 10—11 18—19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Мать-и-мачеха 10—11 18—19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Табак душистый 20—21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Смолевка 21—22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Arial"/>
              </a:rPr>
              <a:t>Фиалка ночная 21—2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80200" y="27936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риентирование по цвет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867280" y="1773360"/>
            <a:ext cx="2586240" cy="41497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52360" y="259920"/>
            <a:ext cx="8640720" cy="198828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9200" bIns="79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3305"/>
                </a:solidFill>
                <a:latin typeface="Arial"/>
              </a:rPr>
              <a:t>Если </a:t>
            </a:r>
            <a:r>
              <a:rPr b="0" lang="ru-RU" sz="2000" spc="-1" strike="noStrike">
                <a:solidFill>
                  <a:srgbClr val="ff3305"/>
                </a:solidFill>
                <a:latin typeface="Arial"/>
              </a:rPr>
              <a:t>вы</a:t>
            </a:r>
            <a:r>
              <a:rPr b="0" lang="cs-CZ" sz="2000" spc="-1" strike="noStrike">
                <a:solidFill>
                  <a:srgbClr val="ff3305"/>
                </a:solidFill>
                <a:latin typeface="Arial"/>
              </a:rPr>
              <a:t> заблудились и разведка не дает надежды правильно сориентироваться, то при отсутствии дорог </a:t>
            </a:r>
            <a:r>
              <a:rPr b="0" lang="ru-RU" sz="2000" spc="-1" strike="noStrike">
                <a:solidFill>
                  <a:srgbClr val="ff3305"/>
                </a:solidFill>
                <a:latin typeface="Arial"/>
              </a:rPr>
              <a:t>вам</a:t>
            </a:r>
            <a:r>
              <a:rPr b="0" lang="cs-CZ" sz="2000" spc="-1" strike="noStrike">
                <a:solidFill>
                  <a:srgbClr val="ff3305"/>
                </a:solidFill>
                <a:latin typeface="Arial"/>
              </a:rPr>
              <a:t> надо выходить на «воду» и идти вдоль нее вниз по течению: ручей приведет к речке, та — к большой реке, на которой </a:t>
            </a:r>
            <a:r>
              <a:rPr b="0" lang="ru-RU" sz="2000" spc="-1" strike="noStrike">
                <a:solidFill>
                  <a:srgbClr val="ff3305"/>
                </a:solidFill>
                <a:latin typeface="Arial"/>
              </a:rPr>
              <a:t>вы</a:t>
            </a:r>
            <a:r>
              <a:rPr b="0" lang="cs-CZ" sz="2000" spc="-1" strike="noStrike">
                <a:solidFill>
                  <a:srgbClr val="ff3305"/>
                </a:solidFill>
                <a:latin typeface="Arial"/>
              </a:rPr>
              <a:t> обязательно встрет</a:t>
            </a:r>
            <a:r>
              <a:rPr b="0" lang="ru-RU" sz="2000" spc="-1" strike="noStrike">
                <a:solidFill>
                  <a:srgbClr val="ff3305"/>
                </a:solidFill>
                <a:latin typeface="Arial"/>
              </a:rPr>
              <a:t>ите</a:t>
            </a:r>
            <a:r>
              <a:rPr b="0" lang="cs-CZ" sz="2000" spc="-1" strike="noStrike">
                <a:solidFill>
                  <a:srgbClr val="ff3305"/>
                </a:solidFill>
                <a:latin typeface="Arial"/>
              </a:rPr>
              <a:t> человека, жилье, получ</a:t>
            </a:r>
            <a:r>
              <a:rPr b="0" lang="ru-RU" sz="2000" spc="-1" strike="noStrike">
                <a:solidFill>
                  <a:srgbClr val="ff3305"/>
                </a:solidFill>
                <a:latin typeface="Arial"/>
              </a:rPr>
              <a:t>ите</a:t>
            </a:r>
            <a:r>
              <a:rPr b="0" lang="cs-CZ" sz="2000" spc="-1" strike="noStrike">
                <a:solidFill>
                  <a:srgbClr val="ff3305"/>
                </a:solidFill>
                <a:latin typeface="Arial"/>
              </a:rPr>
              <a:t> необходимую помощь. По пути следует оставлять на видных местах </a:t>
            </a:r>
            <a:r>
              <a:rPr b="0" lang="ru-RU" sz="2000" spc="-1" strike="noStrike">
                <a:solidFill>
                  <a:srgbClr val="ff3305"/>
                </a:solidFill>
                <a:latin typeface="Arial"/>
              </a:rPr>
              <a:t>пометки,</a:t>
            </a:r>
            <a:r>
              <a:rPr b="0" lang="cs-CZ" sz="2000" spc="-1" strike="noStrike">
                <a:solidFill>
                  <a:srgbClr val="ff3305"/>
                </a:solidFill>
                <a:latin typeface="Arial"/>
              </a:rPr>
              <a:t>  записки — это облегчит и ускорит </a:t>
            </a:r>
            <a:r>
              <a:rPr b="0" lang="ru-RU" sz="2000" spc="-1" strike="noStrike">
                <a:solidFill>
                  <a:srgbClr val="ff3305"/>
                </a:solidFill>
                <a:latin typeface="Arial"/>
              </a:rPr>
              <a:t> ваш </a:t>
            </a:r>
            <a:r>
              <a:rPr b="0" lang="cs-CZ" sz="2000" spc="-1" strike="noStrike">
                <a:solidFill>
                  <a:srgbClr val="ff3305"/>
                </a:solidFill>
                <a:latin typeface="Arial"/>
              </a:rPr>
              <a:t>поиск</a:t>
            </a:r>
            <a:r>
              <a:rPr b="0" lang="ru-RU" sz="2000" spc="-1" strike="noStrike">
                <a:solidFill>
                  <a:srgbClr val="ff3305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419640" y="2421000"/>
            <a:ext cx="5327640" cy="39956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3378240" cy="4505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30780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ра берёзы всегда белее и чище с южной сторо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рещины, неровности и наросты находятся всег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северной стороне дере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184400" y="1628640"/>
            <a:ext cx="3027240" cy="4654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 Black"/>
              </a:rPr>
              <a:t>       </a:t>
            </a:r>
            <a:r>
              <a:rPr b="0" lang="ru-RU" sz="4000" spc="-1" strike="noStrike">
                <a:solidFill>
                  <a:srgbClr val="ffff99"/>
                </a:solidFill>
                <a:latin typeface="Arial Black"/>
              </a:rPr>
              <a:t>Верите    ли   вы?</a:t>
            </a:r>
            <a:endParaRPr b="0" lang="en-US" sz="4000" spc="-1" strike="noStrike">
              <a:solidFill>
                <a:srgbClr val="ffff99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604800" y="1268280"/>
            <a:ext cx="84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то после дождя раньше просыхает южная сторона предмето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68360" y="1700280"/>
            <a:ext cx="2160720" cy="1620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861080" y="2133720"/>
            <a:ext cx="4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0840" y="3429000"/>
            <a:ext cx="78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ерите ли вы, что на стволах сосен с южной стороны выступа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мола, а на северной тянется вдоль ствола тёмная полос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39640" y="4194000"/>
            <a:ext cx="3095640" cy="2322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768920" y="4960800"/>
            <a:ext cx="4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52680" y="398520"/>
            <a:ext cx="734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рите ли вы, что в 12 часов дня волки встают голов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север и начинают вы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2286000" cy="2274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337280" y="133524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4000" y="3429000"/>
            <a:ext cx="54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рите ли вы, что олени точат свои рога только о северную сторону дерев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2495520" cy="37432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626360" y="479124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629440" y="2708280"/>
            <a:ext cx="41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К о н е ц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00360" y="616572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Viki.rdf.r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63680" y="1400040"/>
            <a:ext cx="6737400" cy="5053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26028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рибы растут в основном с северной сторо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ревьев,  пней, кустар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102200" y="322200"/>
            <a:ext cx="4717800" cy="3538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82600" y="3213000"/>
            <a:ext cx="4360680" cy="3270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5158080" cy="4900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5280" y="439560"/>
            <a:ext cx="83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открытой лесной поляне ягоды раньше созревают с юг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284720" y="549360"/>
            <a:ext cx="4275000" cy="31986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Северный лес: брусника"/>
          <p:cNvPicPr/>
          <p:nvPr/>
        </p:nvPicPr>
        <p:blipFill>
          <a:blip r:embed="rId3"/>
          <a:stretch/>
        </p:blipFill>
        <p:spPr>
          <a:xfrm>
            <a:off x="247680" y="1413000"/>
            <a:ext cx="3892680" cy="5008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09440" y="4925880"/>
            <a:ext cx="3909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лесу у пней с южной сторо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годы брусники, черни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рошки поспевают раньш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м на север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76360" y="1484280"/>
            <a:ext cx="6480360" cy="4861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68360" y="33336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большинстве случаев муравейники расположе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 южной стороны деревьев, пней, кустар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Фотография стаи бакланов"/>
          <p:cNvPicPr/>
          <p:nvPr/>
        </p:nvPicPr>
        <p:blipFill>
          <a:blip r:embed="rId2"/>
          <a:stretch/>
        </p:blipFill>
        <p:spPr>
          <a:xfrm>
            <a:off x="1042920" y="1476360"/>
            <a:ext cx="7142400" cy="4761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11280" y="30780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ить стороны света можно по направлен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лёта птиц. Осенью они летят на юг, а весно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сев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2T17:22:13Z</dcterms:created>
  <dc:creator>Берюхов</dc:creator>
  <dc:description/>
  <cp:keywords/>
  <dc:language>en-US</dc:language>
  <cp:lastModifiedBy>Ростовская</cp:lastModifiedBy>
  <dcterms:modified xsi:type="dcterms:W3CDTF">2010-09-15T10:57:41Z</dcterms:modified>
  <cp:revision>18</cp:revision>
  <dc:subject/>
  <dc:title>Ориентирование  на    мест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11049</vt:lpwstr>
  </property>
</Properties>
</file>