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3.jpeg" ContentType="image/jpeg"/>
  <Override PartName="/ppt/media/image37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5.png" ContentType="image/png"/>
  <Override PartName="/ppt/media/image43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50D6-A490-442C-B336-4294052E8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387216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D9FC-A153-446A-8F3D-855730F1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38721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7440" y="38721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8FD2-F73C-4EDB-8636-64B3BA095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360" y="15235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3320" y="15235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38721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360" y="38721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3320" y="38721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E333-E1AB-4007-9E10-AE317A213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6A68-1E76-4958-A0B6-12C3B9D56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B76D-17E5-4F75-A6BD-9D295946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B3C6-3B0A-4344-8EB7-39F6D473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CC13-8398-4E6F-8A2E-135F863D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57CA-1EA7-4B5E-AEBB-34CAB485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3045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0197-AA01-4DC7-B179-7F8B5F2D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1760" y="38721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E156-C299-4491-AAEC-E97EF3CE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D75C-7F37-4A31-BB6E-F00705FA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7440" y="38721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00DE-EF0C-40DC-9056-D907D3EF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1760" y="387216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7B32-4DFF-4551-A00C-33C7CCCD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1760" y="387216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BF25-8E60-4E41-AD9A-1DD39594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1760" y="38721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7440" y="38721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BE9E-8D8F-495A-A288-7A7D87EB4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360" y="15235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63320" y="15235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1760" y="38721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360" y="38721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63320" y="38721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523D-B577-4FD5-8C94-A86B0717E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8B78-6178-4D21-B7A8-52C64C3A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A704-8EFE-4693-B60E-D822A636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5F72-5865-4555-917F-393E03C4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3045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C88B-DB08-43FA-AC27-BB0F88D7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38721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604A-5AD8-4245-959C-83F7436E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7440" y="38721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491D-1A19-4B13-A0AA-95B764CE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387216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FFEF-A036-4A9A-B1E3-D5D860E2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90920" y="609588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6216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4320" y="609588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AF32-05FF-46BE-838F-E1FEF597106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0"/>
            <a:ext cx="7467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99"/>
                </a:solidFill>
                <a:latin typeface="Arial Black"/>
              </a:rPr>
              <a:t>Click to edit the title text format</a:t>
            </a:r>
            <a:endParaRPr b="0" lang="en-US" sz="5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17220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9CB2-8B5C-4498-84AF-642317E4A18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2440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Ориентирование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на    местности</a:t>
            </a:r>
            <a:endParaRPr b="0" lang="en-US" sz="48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71280" y="836640"/>
            <a:ext cx="75610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cccc"/>
                </a:solidFill>
                <a:latin typeface="Arial"/>
              </a:rPr>
              <a:t>Окружающий мир 4 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84360" y="4221000"/>
            <a:ext cx="2182680" cy="2087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372360" y="54450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979640" y="2349360"/>
            <a:ext cx="5400720" cy="4051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004760" y="236520"/>
            <a:ext cx="7247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мый безотказный небесный «компас» - солнц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ждое утро поднимается оно над горизонтом, в пол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стигает наибольшей высоты и затем опускается всё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иже и ниже, пока вновь не спрячется за горизонт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 место, где солнце появляется над горизонто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зывается востоком, а где заходит – запад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403280" y="1762200"/>
            <a:ext cx="6264360" cy="4475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872280" y="307800"/>
            <a:ext cx="709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мпас – это прибор, который помогает определ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ороны света. Красная стрелка всегда показывает на юг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синяя на север. Справа будет восток, а слева запа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3240000" cy="3240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227640" y="1052640"/>
            <a:ext cx="2506680" cy="3639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763640" y="3573360"/>
            <a:ext cx="4392720" cy="292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192560" y="351000"/>
            <a:ext cx="47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кие были компасы раньш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211640" y="2492280"/>
            <a:ext cx="4535640" cy="3959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68360" y="1628640"/>
            <a:ext cx="3527280" cy="3961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920" y="333360"/>
            <a:ext cx="870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стность, изображённая условными знаками на лис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умаги, называется картой. На ней вверху –север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низу – юг, справа – восток, слева – запа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6156360" cy="4618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0920" y="307800"/>
            <a:ext cx="85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нет компаса, то север и юг можно определить п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асам. Нужно направить часовую стрелку на солнце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ысленную линию на « 1», разделить угол попола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чите « юг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758240" y="262080"/>
            <a:ext cx="554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репахи могут ориентироваться по солнц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 ещё не до конца ясно  как они могу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ходить конечную цель путешеств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5832720" cy="43750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332000" y="1268280"/>
            <a:ext cx="6842160" cy="4873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050200" y="26028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чёлы ориентируются по солнц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95280" y="189000"/>
            <a:ext cx="842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юлени совершают сезонные кочевья с севера на ю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ступление холодов, вероятно, приводит в движение сил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ставляющие тюленей отправляться на юг. Самцы покидаю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ежбища раньше самок, чтобы на новом месте занять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готовить территор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692360" y="2000160"/>
            <a:ext cx="5976720" cy="45975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Бабочки"/>
          <p:cNvPicPr/>
          <p:nvPr/>
        </p:nvPicPr>
        <p:blipFill>
          <a:blip r:embed="rId2"/>
          <a:stretch/>
        </p:blipFill>
        <p:spPr>
          <a:xfrm>
            <a:off x="1547640" y="1413000"/>
            <a:ext cx="6193080" cy="4645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468440" y="260280"/>
            <a:ext cx="639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утром и вечером тень от крыльев бабоч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правлена на восток, то в полдень с севера на ю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619280" y="1790640"/>
            <a:ext cx="6119640" cy="4591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380880"/>
            <a:ext cx="84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довые кольца на спине пня  отдельно стоящего дерева располагаются неравномерно: с южной стороны он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ычно толщ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60800" y="333360"/>
            <a:ext cx="723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ез карты и компаса не отправятся в полёт самолёты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поплывут корабли по морям, не поедут автомоби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дальнюю дорог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2863800" cy="4816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780000" y="2133720"/>
            <a:ext cx="504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глубокой древности, когда не бы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щё компасов, люди находили пу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солнцу и по звёзд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588000" y="3573360"/>
            <a:ext cx="2033640" cy="3005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284720" y="3573360"/>
            <a:ext cx="2008080" cy="30085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0920" y="189000"/>
            <a:ext cx="889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движении необходимо запоминать ориентир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лать зарубки.  Без зрительных ориентиров челове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лесу начинает кружить, поскольку правая но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лает шаг чуть шире лев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619280" y="1484280"/>
            <a:ext cx="6265800" cy="50119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95280" y="476280"/>
            <a:ext cx="4124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ывает, что животные нападают на человека, ес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и напуганы неожиданной встречей, защищ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тёнышей или ране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538520" y="765000"/>
            <a:ext cx="4237200" cy="5756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24000" y="3981600"/>
            <a:ext cx="3600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не удалось выйти 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накомый путь, вспомни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щё раз знакомые ориенти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учше всего протяжённые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умные шоссе, дорог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удоходную ре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403280" y="1341360"/>
            <a:ext cx="6840720" cy="5130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19240" y="307800"/>
            <a:ext cx="8600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павшие за много километров от дома домаш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вотные и без компаса успешно находят дорог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м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547640" y="1844640"/>
            <a:ext cx="5977080" cy="4492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79280" y="307800"/>
            <a:ext cx="885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вильно определить направление в степ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может норка суслика. Грызуны, как правило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ход в своё жилище делают с южной сторо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4470120" cy="57290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840200" y="639720"/>
            <a:ext cx="4237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южных районах растё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компасное» раст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латук. Листья 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ращены на запа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восток плоскостям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 на север и юг – рёбр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116000" y="162864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75840" y="423720"/>
            <a:ext cx="716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ветущий подсолнечник поворачивает сво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оловку за солнц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92200" y="326880"/>
            <a:ext cx="815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ошади давно доказали свою исключительну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особность к запоминанию. Их умение запоминать дорог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асло жизнь не одному заблудившемуся ездо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258920" y="1484280"/>
            <a:ext cx="6664320" cy="49989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94560" y="382680"/>
            <a:ext cx="8440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Приближенно определить время в летние утрен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часы можно также по пробуждению пти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и их первым песня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Название пти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Время первой песни (часы)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Зяблик 2—2.30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Малиновка 3—4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Перепел 3.30—4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Дрозд 4—4.30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Пеночка 4—5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Синица 5—6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Воробей 6—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012000" y="2349360"/>
            <a:ext cx="2871720" cy="1916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6084720" y="4581360"/>
            <a:ext cx="2737080" cy="18781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672560" y="234324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ябл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639480" y="241452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линов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54000" y="4503600"/>
            <a:ext cx="94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роз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250920" y="4508640"/>
            <a:ext cx="2663640" cy="22190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03840" y="4430880"/>
            <a:ext cx="12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ноч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5280" y="1130040"/>
            <a:ext cx="4897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Козлобородник луговой 4—5 10—11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Цикорий 5—6 15—19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Шиповник полевой 5—6 20—21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Одуванчик 6—7 15—18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Осот полевой 7—8 11—12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Лен полевой 7—8 17—18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Ястребинка зонтичная 7—8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18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9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Кувшинка белая 8—9 19—20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Фиалка трехцветная 8—9 16—17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Гвоздика полевая 10—11 14—15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Ноготки полевые 10—11 16—17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Кислица 10—11 18—19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Мать-и-мачеха 10—11 18—19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Табак душистый 20—21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Смолевка 21—22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Фиалка ночная 21—22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80200" y="27936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риентирование по цвет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867280" y="1773360"/>
            <a:ext cx="2586240" cy="41497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52360" y="259920"/>
            <a:ext cx="8640720" cy="198828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9200" bIns="79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3305"/>
                </a:solidFill>
                <a:latin typeface="Arial"/>
              </a:rPr>
              <a:t>Если </a:t>
            </a:r>
            <a:r>
              <a:rPr b="0" lang="ru-RU" sz="2000" spc="-1" strike="noStrike">
                <a:solidFill>
                  <a:srgbClr val="ff3305"/>
                </a:solidFill>
                <a:latin typeface="Arial"/>
              </a:rPr>
              <a:t>вы</a:t>
            </a:r>
            <a:r>
              <a:rPr b="0" lang="cs-CZ" sz="2000" spc="-1" strike="noStrike">
                <a:solidFill>
                  <a:srgbClr val="ff3305"/>
                </a:solidFill>
                <a:latin typeface="Arial"/>
              </a:rPr>
              <a:t> заблудились и разведка не дает надежды правильно сориентироваться, то при отсутствии дорог </a:t>
            </a:r>
            <a:r>
              <a:rPr b="0" lang="ru-RU" sz="2000" spc="-1" strike="noStrike">
                <a:solidFill>
                  <a:srgbClr val="ff3305"/>
                </a:solidFill>
                <a:latin typeface="Arial"/>
              </a:rPr>
              <a:t>вам</a:t>
            </a:r>
            <a:r>
              <a:rPr b="0" lang="cs-CZ" sz="2000" spc="-1" strike="noStrike">
                <a:solidFill>
                  <a:srgbClr val="ff3305"/>
                </a:solidFill>
                <a:latin typeface="Arial"/>
              </a:rPr>
              <a:t> надо выходить на «воду» и идти вдоль нее вниз по течению: ручей приведет к речке, та — к большой реке, на которой </a:t>
            </a:r>
            <a:r>
              <a:rPr b="0" lang="ru-RU" sz="2000" spc="-1" strike="noStrike">
                <a:solidFill>
                  <a:srgbClr val="ff3305"/>
                </a:solidFill>
                <a:latin typeface="Arial"/>
              </a:rPr>
              <a:t>вы</a:t>
            </a:r>
            <a:r>
              <a:rPr b="0" lang="cs-CZ" sz="2000" spc="-1" strike="noStrike">
                <a:solidFill>
                  <a:srgbClr val="ff3305"/>
                </a:solidFill>
                <a:latin typeface="Arial"/>
              </a:rPr>
              <a:t> обязательно встрет</a:t>
            </a:r>
            <a:r>
              <a:rPr b="0" lang="ru-RU" sz="2000" spc="-1" strike="noStrike">
                <a:solidFill>
                  <a:srgbClr val="ff3305"/>
                </a:solidFill>
                <a:latin typeface="Arial"/>
              </a:rPr>
              <a:t>ите</a:t>
            </a:r>
            <a:r>
              <a:rPr b="0" lang="cs-CZ" sz="2000" spc="-1" strike="noStrike">
                <a:solidFill>
                  <a:srgbClr val="ff3305"/>
                </a:solidFill>
                <a:latin typeface="Arial"/>
              </a:rPr>
              <a:t> человека, жилье, получ</a:t>
            </a:r>
            <a:r>
              <a:rPr b="0" lang="ru-RU" sz="2000" spc="-1" strike="noStrike">
                <a:solidFill>
                  <a:srgbClr val="ff3305"/>
                </a:solidFill>
                <a:latin typeface="Arial"/>
              </a:rPr>
              <a:t>ите</a:t>
            </a:r>
            <a:r>
              <a:rPr b="0" lang="cs-CZ" sz="2000" spc="-1" strike="noStrike">
                <a:solidFill>
                  <a:srgbClr val="ff3305"/>
                </a:solidFill>
                <a:latin typeface="Arial"/>
              </a:rPr>
              <a:t> необходимую помощь. По пути следует оставлять на видных местах </a:t>
            </a:r>
            <a:r>
              <a:rPr b="0" lang="ru-RU" sz="2000" spc="-1" strike="noStrike">
                <a:solidFill>
                  <a:srgbClr val="ff3305"/>
                </a:solidFill>
                <a:latin typeface="Arial"/>
              </a:rPr>
              <a:t>пометки,</a:t>
            </a:r>
            <a:r>
              <a:rPr b="0" lang="cs-CZ" sz="2000" spc="-1" strike="noStrike">
                <a:solidFill>
                  <a:srgbClr val="ff3305"/>
                </a:solidFill>
                <a:latin typeface="Arial"/>
              </a:rPr>
              <a:t>  записки — это облегчит и ускорит </a:t>
            </a:r>
            <a:r>
              <a:rPr b="0" lang="ru-RU" sz="2000" spc="-1" strike="noStrike">
                <a:solidFill>
                  <a:srgbClr val="ff3305"/>
                </a:solidFill>
                <a:latin typeface="Arial"/>
              </a:rPr>
              <a:t> ваш </a:t>
            </a:r>
            <a:r>
              <a:rPr b="0" lang="cs-CZ" sz="2000" spc="-1" strike="noStrike">
                <a:solidFill>
                  <a:srgbClr val="ff3305"/>
                </a:solidFill>
                <a:latin typeface="Arial"/>
              </a:rPr>
              <a:t>поиск</a:t>
            </a:r>
            <a:r>
              <a:rPr b="0" lang="ru-RU" sz="2000" spc="-1" strike="noStrike">
                <a:solidFill>
                  <a:srgbClr val="ff3305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419640" y="2421000"/>
            <a:ext cx="5327640" cy="39956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6360" y="1700280"/>
            <a:ext cx="3378240" cy="4505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4000" y="30780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ра берёзы всегда белее и чище с южной сторо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щины, неровности и наросты находятся всег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северной стороне дерев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184400" y="1628640"/>
            <a:ext cx="3027240" cy="4654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 Black"/>
              </a:rPr>
              <a:t>       </a:t>
            </a:r>
            <a:r>
              <a:rPr b="0" lang="ru-RU" sz="4000" spc="-1" strike="noStrike">
                <a:solidFill>
                  <a:srgbClr val="ffff99"/>
                </a:solidFill>
                <a:latin typeface="Arial Black"/>
              </a:rPr>
              <a:t>Верите    ли   вы?</a:t>
            </a: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604800" y="1268280"/>
            <a:ext cx="84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то после дождя раньше просыхает южная сторона предметов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2160720" cy="1620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861080" y="2133720"/>
            <a:ext cx="4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0840" y="3429000"/>
            <a:ext cx="78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ите ли вы, что на стволах сосен с южной стороны выступа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мола, а на северной тянется вдоль ствола тёмная полос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39640" y="4194000"/>
            <a:ext cx="3095640" cy="2322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768920" y="4960800"/>
            <a:ext cx="4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52680" y="398520"/>
            <a:ext cx="734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рите ли вы, что в 12 часов дня волки встают голов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север и начинают выть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796000" y="1052640"/>
            <a:ext cx="2286000" cy="22748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337280" y="133524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64000" y="3429000"/>
            <a:ext cx="54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рите ли вы, что олени точат свои рога только о северную сторону дерев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539640" y="2781360"/>
            <a:ext cx="2495520" cy="3743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626360" y="479124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629440" y="2708280"/>
            <a:ext cx="417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К о н е ц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00360" y="616572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Viki.rdf.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363680" y="1400040"/>
            <a:ext cx="6737400" cy="5053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0920" y="26028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рибы растут в основном с северной сторон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ревьев,  пней, кустарн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102200" y="322200"/>
            <a:ext cx="4717800" cy="3538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82600" y="3213000"/>
            <a:ext cx="4360680" cy="3270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050920" y="1557360"/>
            <a:ext cx="5158080" cy="4900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95280" y="439560"/>
            <a:ext cx="830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открытой лесной поляне ягоды раньше созревают с юг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284720" y="549360"/>
            <a:ext cx="4275000" cy="3198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Северный лес: брусника"/>
          <p:cNvPicPr/>
          <p:nvPr/>
        </p:nvPicPr>
        <p:blipFill>
          <a:blip r:embed="rId3"/>
          <a:stretch/>
        </p:blipFill>
        <p:spPr>
          <a:xfrm>
            <a:off x="247680" y="1413000"/>
            <a:ext cx="3892680" cy="5008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09440" y="4925880"/>
            <a:ext cx="390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лесу у пней с южной сторо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годы брусники, черник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рошки поспевают раньш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м на северн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476360" y="1484280"/>
            <a:ext cx="6480360" cy="4861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68360" y="33336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большинстве случаев муравейники расположе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южной стороны деревьев, пней, кустарн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Фотография стаи бакланов"/>
          <p:cNvPicPr/>
          <p:nvPr/>
        </p:nvPicPr>
        <p:blipFill>
          <a:blip r:embed="rId2"/>
          <a:stretch/>
        </p:blipFill>
        <p:spPr>
          <a:xfrm>
            <a:off x="1042920" y="1476360"/>
            <a:ext cx="7142400" cy="4761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11280" y="30780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ределить стороны света можно по направлени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ёта птиц. Осенью они летят на юг, а весн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севе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2T17:22:13Z</dcterms:created>
  <dc:creator>Берюхов</dc:creator>
  <dc:description/>
  <cp:keywords/>
  <dc:language>en-US</dc:language>
  <cp:lastModifiedBy>Ростовская</cp:lastModifiedBy>
  <dcterms:modified xsi:type="dcterms:W3CDTF">2010-09-15T10:57:41Z</dcterms:modified>
  <cp:revision>18</cp:revision>
  <dc:subject/>
  <dc:title>Ориентирование  на    мест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11049</vt:lpwstr>
  </property>
</Properties>
</file>