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png" ContentType="image/png"/>
  <Override PartName="/ppt/media/image3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9CBE-E90E-4381-84F3-3BA93F3B0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D83-CF87-44F8-833F-DBF4E1B2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C1CC-F7D7-426C-A33A-8C264033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F5BB-2EBA-477D-AAFE-92BA8A1A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2AFA-0B94-471A-8512-EA26346D6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1F4E-FA9B-46CC-8910-58F58AC2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40EC-8DA4-4B71-8EC1-8184C979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287BF-6A6F-4A79-81F7-27747EA84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78C2-451D-49A9-AC9C-385FC287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FA44-3621-43B6-A92E-4A0BEF2C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859E-CDA6-4BBE-9A21-33E9AFF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666-5BB7-4816-AFA2-5A4F8DC6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6ABD-D312-462D-B06C-16F9F0B7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DDC4-63B0-4E9C-9892-F76BA569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1C1EC-0729-4857-8089-851631D9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476-FF68-44B5-8ADD-769B015A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8EF6-502F-4635-AAC6-B0AF92D2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F2AC1-8AF1-4DC9-8F98-1E40FB25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047D-C680-40DE-906C-4305D254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1DC04-7C0C-45CF-A1BC-273407CE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BCE1C-CCEE-411C-8CBB-D5D697C0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068F-468C-4947-B24D-D9BB3B01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4C4D-E380-4E14-934F-08A14FF34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921F2-E19B-420C-B53D-AC44326B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4FD4-6202-4779-8305-B7A2DA77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69C4-62C6-4FD3-A66B-14D49FB4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F5F6-D906-4F7C-A859-2BE20839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89478-8CE8-4640-8512-C1B4EB10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EA02C-E930-429A-A56A-A8DED6CF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1923-8548-43ED-9C61-29709CEFA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75B2A-A014-46FD-B9A5-D92B19E02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DAD0-01D8-494D-8220-5E240EDD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BB5A4-E761-4187-BE37-5AF2AFE5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32B-B811-4229-96F3-0B1FE3BE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5CEE-B815-4A17-9F8A-E3C76CBE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AC44-574B-4C07-B858-AA01A614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250E6-6178-4C27-98F5-145F5EBE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D9FE6-D4B0-4E66-9146-803F784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0EEBC-34E2-4AA1-8E61-ADACEFF4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7E39F-FAE4-4836-989D-B119C05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4ECC0-F86E-485E-94C1-BCB7F7D3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53856-7F4E-4EA5-A8A8-3FD47FF6A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2AF64-513A-4E03-90EC-128D301A3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B3E23-DF75-4756-8605-733F5DB5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5C1-C2D6-4356-BDD4-E4FF37B42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369F6-98F6-4E51-B3D1-D4F5FEF8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8CD13-ADB6-44CC-A0C8-4C041C0A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6D03B-C014-4F94-A880-D32858E4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45BDE-69DF-4F5B-BE0B-0961BDA2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58654-C0C6-4DB9-8027-0111CFFB7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49AC-C942-41EC-8E91-636B2785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DC5C3-52A0-4327-B3F7-306470992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82F9-3A57-43CC-BEF5-D9BF34C1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4D08-7B8F-49CD-A064-75B14CE8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A1D37-4FD8-40C0-911D-CFB0EE4C7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6A9-447B-4DC6-95A5-6866DADF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55FF2-224B-4464-9DD0-576309A12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78A57-1968-4B17-9F1D-2D4354AD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BB7FF-C9A0-4849-9ABA-4293BFA5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3765B-85F7-49E2-A80B-BBFDA725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FBDBB-E709-437B-9B3B-7FBE7B53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947D9-8AC6-4ACA-AE45-DE8F2760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4F55-198B-4EC4-B0CC-10E07495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28B39-3647-4B90-B92C-E50791DA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72F12-308C-4897-8B26-75C23103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CD2B9-100C-415C-A58C-423E998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9E9-4AC8-4D5F-B52C-AFACC0361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BBD6-D5AD-48D2-9762-F41C0A6A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5BB7D-FD52-49B6-B0D7-CFADFCC3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6EEAF-12CD-4B23-8B8D-D5B135F4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1B2FD-059E-44DD-A211-02ECB88F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3566-6CF7-4DD3-85B0-2E9395DC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A3C3A4-1DAA-4C61-816F-4C63CBB6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E56EC-254C-4A5D-A42B-E5744862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B2B3A-E02C-4611-AC4D-26CB231A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2E132-7A82-490C-8859-CBE4CA16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275C-0A8C-4C73-A92C-6A7EF465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FC8-8F7F-47C6-83E0-AE80EC18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6F1EF8-9E49-48B8-8A1A-3CF2345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EF7F1-E73F-4698-ACF4-2E0A7E9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74A6A-8039-465A-8524-AC8C7702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67DE4-18ED-4197-8289-C13DEBC5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36CF1-4662-4BB6-B134-480D0AFF9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247-CCEB-431E-95E8-74D1725E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F1B4-D3ED-47CC-BCBD-564B831ECCF1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35"/>
            </a:gs>
            <a:gs pos="100000">
              <a:srgbClr val="3e3e3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d7dae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7da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962520" y="4392720"/>
            <a:ext cx="121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D83E-819F-4CEA-AC78-0C71952CED66}" type="slidenum">
              <a:rPr b="0" lang="ru-RU" sz="2400" spc="-1" strike="noStrike">
                <a:solidFill>
                  <a:srgbClr val="d7dae1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3a8"/>
            </a:gs>
            <a:gs pos="100000">
              <a:srgbClr val="a0a3a8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59280" y="438948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5DDB-F823-42AA-A197-12B29142645D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05C2-286F-4B43-B14A-4E427C244B69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3D6F-975D-419B-A376-314C296F701C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AE35-5F08-4626-A5DE-584FEBFE1ABB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 rot="5400000">
            <a:off x="4590720" y="2409840"/>
            <a:ext cx="68580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 rot="5400000">
            <a:off x="4667400" y="2570760"/>
            <a:ext cx="6858000" cy="17161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 rot="5400000">
            <a:off x="3681000" y="3354480"/>
            <a:ext cx="6858000" cy="14904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0955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4970-F944-4993-B628-FB7229E063E1}" type="slidenum">
              <a:rPr b="0" lang="ru-RU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Заголовок 1" descr=""/>
          <p:cNvPicPr/>
          <p:nvPr/>
        </p:nvPicPr>
        <p:blipFill>
          <a:blip r:embed="rId1"/>
          <a:stretch/>
        </p:blipFill>
        <p:spPr>
          <a:xfrm>
            <a:off x="-341280" y="-298440"/>
            <a:ext cx="9564480" cy="260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39280" y="2852640"/>
            <a:ext cx="8001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Автор: Киселёв Сергей,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Аксенов Андрей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Руководитель :  Сурова Г.Ф.,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учитель русского языка и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литературы </a:t>
            </a: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d7dae1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6761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До наших дней сохранилась древнейшая книга на Руси, написанная кириллицей, — </a:t>
            </a:r>
            <a:r>
              <a:rPr b="1" lang="ru-RU" sz="2400" spc="-1" strike="noStrike">
                <a:solidFill>
                  <a:srgbClr val="55554a"/>
                </a:solidFill>
                <a:latin typeface="Arial"/>
              </a:rPr>
              <a:t>Остромирово Евангелие </a:t>
            </a: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— 1057 года. Это Евангелие хранится в Санкт-Петербурге, в библиотеке Российской Академии наук.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46" name="Схема 4" descr=""/>
          <p:cNvPicPr/>
          <p:nvPr/>
        </p:nvPicPr>
        <p:blipFill>
          <a:blip r:embed="rId2"/>
          <a:stretch/>
        </p:blipFill>
        <p:spPr>
          <a:xfrm>
            <a:off x="-6480" y="1755720"/>
            <a:ext cx="91569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" descr="C:\Users\михаил\Desktop\f931815148eb.jpg"/>
          <p:cNvPicPr/>
          <p:nvPr/>
        </p:nvPicPr>
        <p:blipFill>
          <a:blip r:embed="rId2"/>
          <a:stretch/>
        </p:blipFill>
        <p:spPr>
          <a:xfrm>
            <a:off x="1476360" y="1660680"/>
            <a:ext cx="63356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599840"/>
            <a:ext cx="8578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Изобретения письма –величайшее открытие.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Кирилл и Мефодий- создатели азбуки.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Буквы азбуки  созданы подобно греческим и по славянской речи. 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5554a"/>
                </a:solidFill>
                <a:latin typeface="Arial"/>
              </a:rPr>
              <a:t>Современный алфавит появился после 1918 года.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54a"/>
                </a:solidFill>
                <a:uFillTx/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55554a"/>
                </a:solidFill>
                <a:uFillTx/>
                <a:latin typeface="Arial"/>
              </a:rPr>
              <a:t>http://www.myshared.ru/slide/52659/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55554a"/>
                </a:solidFill>
                <a:uFillTx/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55554a"/>
                </a:solidFill>
                <a:uFillTx/>
                <a:latin typeface="Arial"/>
              </a:rPr>
              <a:t>http://pedsovet.su/load/11-1-0-5130?ldpha1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http://prezentacii.com/mhk/8463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http://ru.wikipedia.org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http://fevt.ru/load/19-1-0-23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   </a:t>
            </a: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404037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55554a"/>
                </a:solidFill>
                <a:latin typeface="Arial"/>
              </a:rPr>
              <a:t>Появление письменности </a:t>
            </a:r>
            <a:r>
              <a:rPr b="0" lang="ru-RU" sz="2800" spc="-1" strike="noStrike">
                <a:solidFill>
                  <a:srgbClr val="55554a"/>
                </a:solidFill>
                <a:latin typeface="Arial"/>
              </a:rPr>
              <a:t>- фундаментальнейшее открытие на долгом пути эволюции человечества.</a:t>
            </a: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55554a"/>
                </a:solidFill>
                <a:latin typeface="Arial"/>
              </a:rPr>
              <a:t>Становление письменности </a:t>
            </a:r>
            <a:r>
              <a:rPr b="1" lang="ru-RU" sz="2800" spc="-1" strike="noStrike">
                <a:solidFill>
                  <a:srgbClr val="55554a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55554a"/>
                </a:solidFill>
                <a:latin typeface="Arial"/>
              </a:rPr>
              <a:t>очень непростой процесс, длившийся тысячелетия. </a:t>
            </a:r>
            <a:r>
              <a:rPr b="1" i="1" lang="ru-RU" sz="2800" spc="-1" strike="noStrike">
                <a:solidFill>
                  <a:srgbClr val="55554a"/>
                </a:solidFill>
                <a:latin typeface="Arial"/>
              </a:rPr>
              <a:t>Как же создавалась славянская письменность?</a:t>
            </a:r>
            <a:r>
              <a:rPr b="0" lang="ru-RU" sz="2800" spc="-1" strike="noStrike">
                <a:solidFill>
                  <a:srgbClr val="55554a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55554a"/>
                </a:solidFill>
                <a:latin typeface="Arial"/>
              </a:rPr>
              <a:t>Кто придумал азбуку? Какими буквами писали наши предки? Когда появился алфавит, которым мы пользуемся сейчас? </a:t>
            </a:r>
            <a:r>
              <a:rPr b="0" lang="ru-RU" sz="2800" spc="-1" strike="noStrike">
                <a:solidFill>
                  <a:srgbClr val="55554a"/>
                </a:solidFill>
                <a:latin typeface="Arial"/>
              </a:rPr>
              <a:t>Эти вопросы нас заинтересовали. Мы решили найти ответы на  них.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55554a"/>
                </a:solidFill>
                <a:latin typeface="Times New Roman"/>
              </a:rPr>
              <a:t>изучить историю появления современного алфавита </a:t>
            </a:r>
            <a:endParaRPr b="0" lang="en-US" sz="35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554a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54a"/>
                </a:solidFill>
                <a:latin typeface="Times New Roman"/>
              </a:rPr>
              <a:t>подобрать научную литературу , обсудить с учителем;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54a"/>
                </a:solidFill>
                <a:latin typeface="Times New Roman"/>
              </a:rPr>
              <a:t>найти ответы на вопросы, которые нас заинтересовали;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54a"/>
                </a:solidFill>
                <a:latin typeface="Times New Roman"/>
              </a:rPr>
              <a:t>систематизировать полученную информацию;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5554a"/>
                </a:solidFill>
                <a:latin typeface="Times New Roman"/>
              </a:rPr>
              <a:t>оформить результаты исследования  в виде презентации.</a:t>
            </a: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Заголовок 1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2380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554a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55554a"/>
                </a:solidFill>
                <a:latin typeface="Arial"/>
              </a:rPr>
              <a:t>Алфавит, которым мы пользуемся сейчас, - это азбука, созданная Кириллом и Мефодием </a:t>
            </a:r>
            <a:endParaRPr b="0" lang="en-US" sz="4400" spc="-1" strike="noStrike">
              <a:solidFill>
                <a:srgbClr val="55554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603360" y="244440"/>
            <a:ext cx="8242200" cy="13525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554a"/>
                </a:solidFill>
                <a:latin typeface="Arial"/>
              </a:rPr>
              <a:t>АЗБУКА: АЗ + БУКИ</a:t>
            </a:r>
            <a:br>
              <a:rPr sz="4400"/>
            </a:br>
            <a:endParaRPr b="0" lang="en-US" sz="44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554a"/>
                </a:solidFill>
                <a:latin typeface="Arial"/>
              </a:rPr>
              <a:t>АЛФАВИТ: АЛЬФА + ВИТА</a:t>
            </a:r>
            <a:endParaRPr b="0" lang="en-US" sz="4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25" name="Picture 4" descr=""/>
          <p:cNvPicPr/>
          <p:nvPr/>
        </p:nvPicPr>
        <p:blipFill>
          <a:blip r:embed="rId2"/>
          <a:stretch/>
        </p:blipFill>
        <p:spPr>
          <a:xfrm>
            <a:off x="3276720" y="2421000"/>
            <a:ext cx="2442960" cy="1527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Заголовок 1" descr=""/>
          <p:cNvPicPr/>
          <p:nvPr/>
        </p:nvPicPr>
        <p:blipFill>
          <a:blip r:embed="rId1"/>
          <a:stretch/>
        </p:blipFill>
        <p:spPr>
          <a:xfrm>
            <a:off x="414360" y="73080"/>
            <a:ext cx="8778960" cy="15238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554a"/>
                </a:solidFill>
                <a:latin typeface="Arial"/>
              </a:rPr>
              <a:t>Братья Кирилл и Мефодий – создатели славянской азбуки.</a:t>
            </a: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pic>
        <p:nvPicPr>
          <p:cNvPr id="328" name="Picture 2" descr="C:\Users\михаил\Desktop\1306188062_slav-pismenn-02.jpg"/>
          <p:cNvPicPr/>
          <p:nvPr/>
        </p:nvPicPr>
        <p:blipFill>
          <a:blip r:embed="rId2"/>
          <a:stretch/>
        </p:blipFill>
        <p:spPr>
          <a:xfrm>
            <a:off x="3041640" y="2475000"/>
            <a:ext cx="2719440" cy="388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Заголовок 1" descr=""/>
          <p:cNvPicPr/>
          <p:nvPr/>
        </p:nvPicPr>
        <p:blipFill>
          <a:blip r:embed="rId1"/>
          <a:stretch/>
        </p:blipFill>
        <p:spPr>
          <a:xfrm>
            <a:off x="390600" y="-73080"/>
            <a:ext cx="8315280" cy="17366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6840" y="1600200"/>
            <a:ext cx="27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еческие 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a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Bb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Gg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d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Ee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k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1" name="Прямоугольник 3"/>
          <p:cNvSpPr/>
          <p:nvPr/>
        </p:nvSpPr>
        <p:spPr>
          <a:xfrm>
            <a:off x="5292720" y="1628640"/>
            <a:ext cx="3240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авянски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А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Вв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Гг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Дд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Ее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Кк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Л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Заголовок 1" descr=""/>
          <p:cNvPicPr/>
          <p:nvPr/>
        </p:nvPicPr>
        <p:blipFill>
          <a:blip r:embed="rId1"/>
          <a:stretch/>
        </p:blipFill>
        <p:spPr>
          <a:xfrm>
            <a:off x="450720" y="-139680"/>
            <a:ext cx="8242560" cy="16081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Arial"/>
            </a:endParaRPr>
          </a:p>
        </p:txBody>
      </p:sp>
      <p:sp>
        <p:nvSpPr>
          <p:cNvPr id="334" name="Скругленный прямоугольник 5"/>
          <p:cNvSpPr/>
          <p:nvPr/>
        </p:nvSpPr>
        <p:spPr>
          <a:xfrm>
            <a:off x="2124000" y="1989000"/>
            <a:ext cx="4680000" cy="935280"/>
          </a:xfrm>
          <a:prstGeom prst="roundRect">
            <a:avLst>
              <a:gd name="adj" fmla="val 16667"/>
            </a:avLst>
          </a:pr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43 буквы кириллиц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9"/>
          <p:cNvSpPr/>
          <p:nvPr/>
        </p:nvSpPr>
        <p:spPr>
          <a:xfrm>
            <a:off x="5003640" y="3789360"/>
            <a:ext cx="3529080" cy="1368360"/>
          </a:xfrm>
          <a:prstGeom prst="roundRect">
            <a:avLst>
              <a:gd name="adj" fmla="val 16667"/>
            </a:avLst>
          </a:pr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19 букв создал по славянской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Выгнутая влево стрелка 11"/>
          <p:cNvSpPr/>
          <p:nvPr/>
        </p:nvSpPr>
        <p:spPr>
          <a:xfrm>
            <a:off x="1258920" y="24922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Выгнутая вправо стрелка 12"/>
          <p:cNvSpPr/>
          <p:nvPr/>
        </p:nvSpPr>
        <p:spPr>
          <a:xfrm>
            <a:off x="6948360" y="24210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16"/>
          <p:cNvSpPr/>
          <p:nvPr/>
        </p:nvSpPr>
        <p:spPr>
          <a:xfrm>
            <a:off x="684360" y="3789360"/>
            <a:ext cx="3671640" cy="1368360"/>
          </a:xfrm>
          <a:prstGeom prst="roundRect">
            <a:avLst>
              <a:gd name="adj" fmla="val 16667"/>
            </a:avLst>
          </a:prstGeom>
          <a:solidFill>
            <a:srgbClr val="f4680b"/>
          </a:solidFill>
          <a:ln w="28080">
            <a:solidFill>
              <a:srgbClr val="b34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24 буквы создал подобно гречес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450720" y="176040"/>
            <a:ext cx="8242560" cy="1122480"/>
          </a:xfrm>
          <a:prstGeom prst="rect">
            <a:avLst/>
          </a:prstGeom>
          <a:ln w="0">
            <a:noFill/>
          </a:ln>
        </p:spPr>
      </p:pic>
      <p:pic>
        <p:nvPicPr>
          <p:cNvPr id="340" name="Содержимое 3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417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4T15:54:18Z</dcterms:created>
  <dc:creator>таня</dc:creator>
  <dc:description/>
  <dc:language>en-US</dc:language>
  <cp:lastModifiedBy>Хозяин</cp:lastModifiedBy>
  <dcterms:modified xsi:type="dcterms:W3CDTF">2017-10-08T17:56:12Z</dcterms:modified>
  <cp:revision>49</cp:revision>
  <dc:subject/>
  <dc:title>Презентация PowerPoint</dc:title>
</cp:coreProperties>
</file>