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C4F-E676-46A7-AECD-7D746B14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3E8-CD24-4448-8CBE-C3041BB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74E-5985-43CC-84B6-68E56A6F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A12-7D1E-446D-AD98-E337443D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D8BE-27B6-48CA-8628-4510C0CA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D29-B190-4EB3-991E-F2C88178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8D2A-B099-4880-AEBC-50787ED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8D61-ECED-4668-A5A2-51C655E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48B-F6DB-40C1-B167-2A112D72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56D-47FE-4540-8C4E-4A27905B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FD36-936F-46A3-9751-BC865FC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CBC-349D-4B9A-B339-D2E16C4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4BE-A79A-4821-A026-3F550BC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FFB9-C8BD-418E-918B-C3F34C3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798-7834-4822-A3E6-5474E6C8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EB8-7096-4EE3-9E23-FAE56097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F291-9BB0-4280-A12D-4FAE7DFB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6C1F-426C-4C85-B57E-02BEC483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DE85-986B-4BA7-BFF8-EFE5C22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39D2-6B65-4D74-A932-7FD1FAB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182C-690F-4893-BDCF-2E8AE098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B59E-6AEE-4D05-A740-F16D844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BF4-F6FE-4288-8655-B9578CD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250F-8D97-4EB6-BEFA-37D93A1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0CC6-DE9E-4B0F-A1CD-A6789E2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4DF09-6CC5-4C7C-805F-5D0EA8F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9764-3BC1-47C7-AACF-041C198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B93F-2DFD-418C-9243-3376B960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8783-42F9-4092-86BC-1F55FD89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E40D-7A04-43E9-9C5D-18F8195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98F1-2A6E-4F58-9CEF-F70AE71C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D1C1-FFE4-44B3-BE99-FE48F733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16A3-9A2C-449A-92C4-4CB9CD6D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0A0-7EC4-404C-B2E0-F255D1A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08BB-DF56-4609-AD12-7080FC14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7454-DE95-4A60-988E-D815242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E0CB-BA69-43BA-82EC-EAD9E324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3ED86-F72E-4C67-B406-53D900E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9817-4815-42EC-AC80-F2ECA6E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0C67-6CF1-451C-B3AC-C28CBC7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4A28-332A-4DB1-9397-0D600B7B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9D4C-FF92-409D-AC7E-911A0D14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CD55-6CDB-44D7-A03B-D3A0178C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0268-1CAB-46DE-8A88-DB7269AD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918-F821-46E4-AD50-083E21CC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BA4C-CC68-4EA6-8FA5-3186231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C7388-1A56-43E5-80D0-1FAD3B8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4D35D-0031-4517-AE30-B74097D4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3D24-7C79-4A19-A103-BD7DABF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D87E-1A31-4572-898F-0D4EF6E0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C2C9-A226-4C75-B098-4F901C4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F34A-54C0-437A-B544-5FF1958A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38F6-F95B-434A-AE27-7E7513F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D676-EC5D-40E2-848F-C996FC82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8810-DABA-4F15-A24D-DDCBCB97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97C-CC4D-414D-9AA4-81F7D6D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D0E56-104B-4983-B702-513D8A98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A19D-7B56-4D52-A7F4-6DDFC999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219C-D70D-43F0-B7E5-14C4CB42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E9AA-8530-4853-A0AA-B1A3511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332A-FB3B-49FF-BC9E-775004A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0B3D-5E7E-4174-9CAD-260E28FA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FE95F-D139-43BF-A613-865B6F2B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78000-EB9D-413A-9346-C2A6D95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4146-993A-41EB-B01C-E3E3373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AAE0-8D53-4AC8-84FD-55E0AD1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BCE-3241-482E-ADCA-AC63AF2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F8CC-B661-4211-8558-231D3B7A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F8024-86CE-41FA-B52F-0702A63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8751B-3ABC-41B8-B03B-C4EA4834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C6D6-B649-42A9-844D-ED85ACBA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39D82-C09F-407C-B13C-AD93FFDF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56942-FD9B-418C-AB95-93B606AD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6DB3-1FAD-499D-A982-60946B7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418F-8A8E-46F5-AE8F-B16C959D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A5D0-C073-4DD5-B620-E68F1CD6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4089-1EE5-42C9-99E5-191178B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A7E-B386-4563-AA7F-3AAA509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16E2-8126-43B3-B3F8-2F3A2EDC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2DEAA-4E1D-4D91-8763-323D4FA2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4CC8-1045-4443-9C28-5D4C9817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381EF-6C41-4786-B445-1A7B49C1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6C829-2F0D-4B81-B232-DB70CEDE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C07-C5F9-41A4-B014-AC074DB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B493-D71C-425D-BAB2-8107DD5337A7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7da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FB1B-CBD0-47B8-A307-741D2C9B692C}" type="slidenum">
              <a:rPr b="0" lang="ru-RU" sz="2400" spc="-1" strike="noStrike">
                <a:solidFill>
                  <a:srgbClr val="d7dae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096-08F1-4F23-9809-978CE3FD50C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017-B856-44FE-838D-26C7A30A2D53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5183-0EB7-4EB1-AB42-96E8835D8FF5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BDD6-2AB3-4FFE-8A53-0D50262317ED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B43E-CD40-4A85-8FFC-29ED83BE6717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-341280" y="-298440"/>
            <a:ext cx="9564480" cy="260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39280" y="28526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Автор: Киселёв Сергей,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Аксенов Андрей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уководитель :  Сурова Г.Ф.,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учитель русского языка и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литературы 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76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До наших дней сохранилась древнейшая книга на Руси, написанная кириллицей, — </a:t>
            </a: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Остромирово Евангелие </a:t>
            </a: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— 1057 года. Это Евангелие хранится в Санкт-Петербурге, в библиотеке Российской Академии наук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46" name="Схема 4" descr=""/>
          <p:cNvPicPr/>
          <p:nvPr/>
        </p:nvPicPr>
        <p:blipFill>
          <a:blip r:embed="rId2"/>
          <a:stretch/>
        </p:blipFill>
        <p:spPr>
          <a:xfrm>
            <a:off x="-6480" y="1755720"/>
            <a:ext cx="9156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михаил\Desktop\f931815148eb.jpg"/>
          <p:cNvPicPr/>
          <p:nvPr/>
        </p:nvPicPr>
        <p:blipFill>
          <a:blip r:embed="rId2"/>
          <a:stretch/>
        </p:blipFill>
        <p:spPr>
          <a:xfrm>
            <a:off x="1476360" y="1660680"/>
            <a:ext cx="6335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599840"/>
            <a:ext cx="8578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Изобретения письма –величайшее открытие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Кирилл и Мефодий- создатели азбуки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Буквы азбуки  созданы подобно греческим и по славянской речи. 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Современный алфавит появился после 1918 года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http://www.myshared.ru/slide/52659/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http://pedsovet.su/load/11-1-0-5130?ldpha1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http://prezentacii.com/mhk/8463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http://ru.wikipedia.org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http://fevt.ru/load/19-1-0-23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4037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Появление письменности 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- фундаментальнейшее открытие на долгом пути эволюции человечества.</a:t>
            </a: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Становление письменности </a:t>
            </a: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очень непростой процесс, длившийся тысячелетия. </a:t>
            </a: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Как же создавалась славянская письменность?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Кто придумал азбуку? Какими буквами писали наши предки? Когда появился алфавит, которым мы пользуемся сейчас? 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Эти вопросы нас заинтересовали. Мы решили найти ответы на  них.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5554a"/>
                </a:solidFill>
                <a:latin typeface="Times New Roman"/>
              </a:rPr>
              <a:t>изучить историю появления современного алфавита </a:t>
            </a:r>
            <a:endParaRPr b="0" lang="en-US" sz="35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подобрать научную литературу , обсудить с учителем;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найти ответы на вопросы, которые нас заинтересовали;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систематизировать полученную информацию;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оформить результаты исследования  в виде презентации.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Алфавит, которым мы пользуемся сейчас, - это азбука, созданная Кириллом и Мефодием </a:t>
            </a: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603360" y="244440"/>
            <a:ext cx="8242200" cy="1352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АЗБУКА: АЗ + БУКИ</a:t>
            </a:r>
            <a:br>
              <a:rPr sz="4400"/>
            </a:b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АЛФАВИТ: АЛЬФА + ВИТА</a:t>
            </a: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2442960" cy="152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14360" y="73080"/>
            <a:ext cx="8778960" cy="1523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Братья Кирилл и Мефодий – создатели славянской азбуки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28" name="Picture 2" descr="C:\Users\михаил\Desktop\1306188062_slav-pismenn-02.jpg"/>
          <p:cNvPicPr/>
          <p:nvPr/>
        </p:nvPicPr>
        <p:blipFill>
          <a:blip r:embed="rId2"/>
          <a:stretch/>
        </p:blipFill>
        <p:spPr>
          <a:xfrm>
            <a:off x="3041640" y="2475000"/>
            <a:ext cx="271944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390600" y="-73080"/>
            <a:ext cx="8315280" cy="1736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ческие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a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b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Gg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d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k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5292720" y="1628640"/>
            <a:ext cx="324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вянск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А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В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г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Д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Е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К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Л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08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4" name="Скругленный прямоугольник 5"/>
          <p:cNvSpPr/>
          <p:nvPr/>
        </p:nvSpPr>
        <p:spPr>
          <a:xfrm>
            <a:off x="2124000" y="1989000"/>
            <a:ext cx="4680000" cy="93528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3 буквы кирил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9"/>
          <p:cNvSpPr/>
          <p:nvPr/>
        </p:nvSpPr>
        <p:spPr>
          <a:xfrm>
            <a:off x="5003640" y="378936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9 букв создал по славянск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Выгнутая влево стрелка 11"/>
          <p:cNvSpPr/>
          <p:nvPr/>
        </p:nvSpPr>
        <p:spPr>
          <a:xfrm>
            <a:off x="1258920" y="24922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Выгнутая вправо стрелка 12"/>
          <p:cNvSpPr/>
          <p:nvPr/>
        </p:nvSpPr>
        <p:spPr>
          <a:xfrm>
            <a:off x="6948360" y="24210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16"/>
          <p:cNvSpPr/>
          <p:nvPr/>
        </p:nvSpPr>
        <p:spPr>
          <a:xfrm>
            <a:off x="684360" y="3789360"/>
            <a:ext cx="3671640" cy="136836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4 буквы создал подобно гре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12248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3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5:54:18Z</dcterms:created>
  <dc:creator>таня</dc:creator>
  <dc:description/>
  <dc:language>en-US</dc:language>
  <cp:lastModifiedBy>Хозяин</cp:lastModifiedBy>
  <dcterms:modified xsi:type="dcterms:W3CDTF">2017-10-08T17:56:12Z</dcterms:modified>
  <cp:revision>49</cp:revision>
  <dc:subject/>
  <dc:title>Презентация PowerPoint</dc:title>
</cp:coreProperties>
</file>