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0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9DA2-83EB-4451-803C-46182B77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4A8-3486-4FAC-AED8-AA2ACF5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6B175-5AA4-4D86-B78F-99FD211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CC69F-134E-462E-9829-041FAEDC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3D537-C142-4C70-B08A-8A9CC001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12380-DDFB-499F-96D1-6C062E91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C56AD-3CAC-4FF1-8B85-AEBC2DAC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F3C23-4241-43D0-A6E6-D04CD764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D2F05-E654-4B65-B9E9-07AACE5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7B79C0-253E-4385-B20D-94E7BFED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4DD9B-DD8F-4B4B-9E8B-71F8C9F8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8ED0A-7E15-45BB-8E1E-26CA930D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60D-4433-4D6C-9F4B-90FED506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2E6E2-27C7-49A4-BE00-53ED4356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9B947-37F7-49E0-BF8A-F485FBD9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0BF9C-C8A8-4D20-9172-49CC104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DD980-AA4B-4338-998A-1F671A66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0BC849-FF98-4ED1-A62E-580283A5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04D8B-75BD-475B-95EA-365351C9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ACC8FA-DFFB-4E6E-A56D-7E01D547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EBF27-C017-4AB2-A8DC-20AC05A8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1E19E-0F87-488B-9FE0-7127AF98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13131-9A9F-4A00-9FC5-06D0D56C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87F-6EA2-4726-BACD-323832D4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6C2C4-75BC-4D82-B0C5-5D947ED4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E2208-B25E-4E2E-9926-3C9D4507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25F23-6CD9-473C-A7CD-2CDF5C35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D3278-DDEF-4907-B6E3-D33DE346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508F4-3806-421B-A67E-F3773ED0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AF1AB-13D0-4BE3-944C-F0B52A17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D6CC11-9873-4510-8B89-5D580265E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B4623-C93E-4DBE-87A0-19267C70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0DBCE-8643-4319-9816-111D52A1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50D0F-0074-4F6E-BBB3-DDBF0384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66D8-B4FF-47C9-9B87-1D0BE8CD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997273-BD9F-46A3-AA4A-00F242F6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91BAA-3CEE-44C7-B577-4AB87149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6A1EA-0758-44A0-9C88-60232BD0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FF485-8207-4E73-838E-838980D62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8787A-0E5A-4A0B-8325-1BAB1007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231D3-5333-4B99-AC6F-200583C4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8205D-5284-4D3D-8C63-E629F67A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D28F0-C3A7-4FE5-91CF-26A0D2C4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805B5-420E-4071-91F6-7E78FBC1E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E2713-9F81-4A43-A142-72CA7E0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CA5D3-CD66-44D1-AF18-12EA79FC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E66DD-1754-4DFE-8D15-3913448B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1D328-9F39-44D7-B854-C2E7C77F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4862E-AB0F-4296-8DE6-DB30D259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B80E3-FD68-47F1-8D03-0917BA66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E925D-D1DA-4F83-B2E7-5E6B1340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3A66-7D78-4769-AC00-4947C1AC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9A7DA-F413-4F25-8074-14060EAF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430C-4C7A-421A-A74F-C1DC34C6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4347-E8A9-43E7-8299-FEF51C60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680E-ABC1-4744-9FEC-A1F7C1DC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D72-8D8B-43F9-852E-9FCB7313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AF61-F757-4C34-93B7-E4E9E895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433C-4AFE-4D40-B17B-467D4677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2E19-0FDF-49E8-A64D-ADD38E0E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B0BD-F0C8-4786-BF41-76E7C1E34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3787-5E8F-4AF0-A1CA-72E2DE19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EAFE-D1CB-4C59-BBF4-744BC743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680B-1969-4670-93A5-C391FA6FE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D6A8-B6E7-4EEA-9365-58DF1849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F1E8-3AD1-4F44-8B76-ED680A3D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BA3C9-F3CC-4FFD-B390-2FF5B8DB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7D5C-4FF7-420A-A820-983B0050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9559-E6E9-4C67-964E-9A7B955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DF9BC-E250-4A3F-A782-675856AB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53B49-4CD3-47AE-983C-596BCFF3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764C-35A4-4E03-802D-BDBD4589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A45F1-F1C5-49A2-BB4F-46F677A4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E66CB-1540-4CB8-BE3D-74A01618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D70D-3519-40A6-B8AF-6DA0E9E8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AC902-FDB8-4EBE-8DF2-748AD44FE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DDCC83-59A5-4C75-BE14-DF6520C2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21DC4-4224-4832-A078-43945026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84B9-9F53-4B1C-A4B2-3B1EC43E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83C2D-556E-456B-9FD3-BCC33CB5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9939-B32E-44A6-9794-76C196EA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FA3A-00EB-4964-A813-88213540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798CF-54C9-4CC5-AC58-DD5FE5BD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60E62-23F4-4FB9-B983-8233E0B2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6A40B-BC76-4B3A-981E-6BBA218D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91A11-233C-4D22-8995-9B62F8EF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88AC1-F2C4-491C-BA68-579AE8CA1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534A9-21A2-4073-AA1E-72563827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56BB-A35D-452B-87DD-884C9BBB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16C9-6D75-43D3-B33B-248165EF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A51AE-6A21-4C69-8E2E-E41B09CE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37258-447A-4EAC-8AFA-F073C282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137B2-89AF-438A-9EBD-4A7CBBA5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C435D-49AE-4432-BE84-9A77C785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C765F-1C82-4D1E-AF79-EAC88943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85F22-4C48-4EC8-820C-FC218CE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4516B-20F0-462C-9E6A-A97C01E0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6D9A-C957-4A86-96FF-EEBFA5A0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86C70-4CC4-4EB3-B7D7-6FE1A9C4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F1471-F7DD-426A-AF0F-184128EB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49D4-D137-445B-A8F7-4CA15A3A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3722E-57B1-44D5-B0A6-ABF233A5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89060-21FE-4C35-8982-10B235DA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7305E-1650-4747-9E0F-BB3C4B722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100D3-8799-479F-AC00-C0E986FBA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60326-7AAD-402F-9EFB-2B30C4D9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91B0F-F991-4A2D-9AA0-058E173A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2A63F-29A4-42BA-AC33-E9C21A93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7EE30-7334-4D11-92BA-ACD353A8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8C017-E539-4B03-BAAC-C8060393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4AA4A-6788-471E-B2FF-3965B302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7DE-FC50-474B-8EFC-CF592F48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0406B-4255-4762-BE2C-16071988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D7F32-24E7-4790-A856-E6A5CFF9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AAFA4-3DD9-4205-8475-D1A15C19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922CA-CF54-4441-9E81-A06D43E47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D90E0-4F10-49C1-B213-DEBC2FD2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14EB4-8C67-437A-83DF-7278D983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D28EC-59DB-495D-9A12-557CF95A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C30B3-DED7-4416-BB0E-39378219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2DFB0-9ECD-416C-9F99-54C43D37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2B3A6-3F0A-4232-ABF6-965F997C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7DB0-8225-4B87-99FD-6F1AF596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D6D96-935B-4607-A96E-F0533E2A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E8F2-97A8-4CE5-8FF1-D73C4773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E9605-4DC5-4ED9-BA6F-2D1E6FC5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C0C76-C2C5-4178-81F2-A61B9BB0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B782D-E712-4A05-90A9-5DB42CA1D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26BB3-0116-4D2E-8635-C3A0F95D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EEDC7-7A80-4879-9462-B2514CA7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9661E-40B2-45A7-B952-3100B68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CA80A-352B-451E-85AE-CFF58301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C35F7-5636-4F49-9C28-58982DAB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440C-A4C8-4CE9-AF60-0A51895C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2514600" y="38052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7711A-3FB3-4C66-85A9-079AA95D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78A6D-8966-4C0E-9EA4-D3385792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87E66-84F7-455E-880B-E08C26AA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09E93-B20A-44CD-B090-21BB3134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11430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0A68B-02F8-4366-806D-A54262A1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256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143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51256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84772-3D06-4DD5-86C7-0EB082B33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3986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1143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7710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3986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6A264-9669-4828-B09B-977F9A9B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A4A38-C771-4736-8027-E2AFF8AF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30781-EC16-4DC6-BC58-962646D4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8A5977-1EFC-4A59-B826-867B7D0B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877-7AAF-42E9-963E-3B0230AD72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69F7-8BD6-40C9-AC11-9E64D9414B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2EF8-4C6F-400E-B904-BBC6C776B2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707-CD01-474D-9089-98552EFC506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1" descr="educatcarhou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971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E8AD-B391-4608-9A93-67578A0AF5A3}" type="slidenum">
              <a:rPr b="0" lang="ru-RU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DFE8-A5C2-4973-A4B4-CCC8A8EDF0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6127-8483-407B-8875-D801778346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D51A-3788-4850-A4E9-34574ED4AE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69C1-3639-4C64-AAFF-EC6BC64DB4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6A78-0A91-4FDC-8076-0AA3CC3EAD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F24C-1AA4-4812-A021-C15EB6F6DB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a9a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7cc17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7cc1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1430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A808-151B-4B1C-B1F8-1B5ADAF59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Рисунок 1" descr="44.bmp"/>
          <p:cNvPicPr/>
          <p:nvPr/>
        </p:nvPicPr>
        <p:blipFill>
          <a:blip r:embed="rId1"/>
          <a:stretch/>
        </p:blipFill>
        <p:spPr>
          <a:xfrm>
            <a:off x="1380960" y="619200"/>
            <a:ext cx="63820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Рисунок 1" descr="3.jpg"/>
          <p:cNvPicPr/>
          <p:nvPr/>
        </p:nvPicPr>
        <p:blipFill>
          <a:blip r:embed="rId1"/>
          <a:stretch/>
        </p:blipFill>
        <p:spPr>
          <a:xfrm>
            <a:off x="1268280" y="285840"/>
            <a:ext cx="6446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Рисунок 1" descr="4.jpg"/>
          <p:cNvPicPr/>
          <p:nvPr/>
        </p:nvPicPr>
        <p:blipFill>
          <a:blip r:embed="rId1"/>
          <a:stretch/>
        </p:blipFill>
        <p:spPr>
          <a:xfrm>
            <a:off x="1357200" y="285840"/>
            <a:ext cx="650088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Рисунок 1" descr="5.jpg"/>
          <p:cNvPicPr/>
          <p:nvPr/>
        </p:nvPicPr>
        <p:blipFill>
          <a:blip r:embed="rId1"/>
          <a:stretch/>
        </p:blipFill>
        <p:spPr>
          <a:xfrm>
            <a:off x="571680" y="357120"/>
            <a:ext cx="7995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Рисунок 1" descr="6.jpg"/>
          <p:cNvPicPr/>
          <p:nvPr/>
        </p:nvPicPr>
        <p:blipFill>
          <a:blip r:embed="rId1"/>
          <a:stretch/>
        </p:blipFill>
        <p:spPr>
          <a:xfrm>
            <a:off x="500040" y="428760"/>
            <a:ext cx="812628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1" descr="7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Рисунок 1" descr="8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Рисунок 1" descr="9.jpg"/>
          <p:cNvPicPr/>
          <p:nvPr/>
        </p:nvPicPr>
        <p:blipFill>
          <a:blip r:embed="rId1"/>
          <a:stretch/>
        </p:blipFill>
        <p:spPr>
          <a:xfrm>
            <a:off x="428760" y="357120"/>
            <a:ext cx="82738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Рисунок 1" descr="10.jpg"/>
          <p:cNvPicPr/>
          <p:nvPr/>
        </p:nvPicPr>
        <p:blipFill>
          <a:blip r:embed="rId1"/>
          <a:stretch/>
        </p:blipFill>
        <p:spPr>
          <a:xfrm>
            <a:off x="357120" y="357120"/>
            <a:ext cx="85345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Рисунок 1" descr="img169.jpg"/>
          <p:cNvPicPr/>
          <p:nvPr/>
        </p:nvPicPr>
        <p:blipFill>
          <a:blip r:embed="rId1"/>
          <a:stretch/>
        </p:blipFill>
        <p:spPr>
          <a:xfrm>
            <a:off x="1574640" y="142920"/>
            <a:ext cx="592632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Рисунок 1" descr="55.bmp"/>
          <p:cNvPicPr/>
          <p:nvPr/>
        </p:nvPicPr>
        <p:blipFill>
          <a:blip r:embed="rId1"/>
          <a:stretch/>
        </p:blipFill>
        <p:spPr>
          <a:xfrm>
            <a:off x="1366920" y="609480"/>
            <a:ext cx="641016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Рисунок 1" descr="66.bmp"/>
          <p:cNvPicPr/>
          <p:nvPr/>
        </p:nvPicPr>
        <p:blipFill>
          <a:blip r:embed="rId1"/>
          <a:stretch/>
        </p:blipFill>
        <p:spPr>
          <a:xfrm>
            <a:off x="1371600" y="609480"/>
            <a:ext cx="64008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Рисунок 1" descr="77.bmp"/>
          <p:cNvPicPr/>
          <p:nvPr/>
        </p:nvPicPr>
        <p:blipFill>
          <a:blip r:embed="rId1"/>
          <a:stretch/>
        </p:blipFill>
        <p:spPr>
          <a:xfrm>
            <a:off x="1380960" y="619200"/>
            <a:ext cx="638208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Рисунок 1" descr="88.bmp"/>
          <p:cNvPicPr/>
          <p:nvPr/>
        </p:nvPicPr>
        <p:blipFill>
          <a:blip r:embed="rId1"/>
          <a:stretch/>
        </p:blipFill>
        <p:spPr>
          <a:xfrm>
            <a:off x="1366920" y="604800"/>
            <a:ext cx="641016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Рисунок 1" descr="99.bmp"/>
          <p:cNvPicPr/>
          <p:nvPr/>
        </p:nvPicPr>
        <p:blipFill>
          <a:blip r:embed="rId1"/>
          <a:stretch/>
        </p:blipFill>
        <p:spPr>
          <a:xfrm>
            <a:off x="1357200" y="633240"/>
            <a:ext cx="642960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Рисунок 1" descr="98.bmp"/>
          <p:cNvPicPr/>
          <p:nvPr/>
        </p:nvPicPr>
        <p:blipFill>
          <a:blip r:embed="rId1"/>
          <a:stretch/>
        </p:blipFill>
        <p:spPr>
          <a:xfrm>
            <a:off x="1352520" y="576360"/>
            <a:ext cx="643896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Рисунок 1" descr="1.jpg"/>
          <p:cNvPicPr/>
          <p:nvPr/>
        </p:nvPicPr>
        <p:blipFill>
          <a:blip r:embed="rId1"/>
          <a:stretch/>
        </p:blipFill>
        <p:spPr>
          <a:xfrm>
            <a:off x="1500120" y="428760"/>
            <a:ext cx="6000840" cy="5930640"/>
          </a:xfrm>
          <a:prstGeom prst="rect">
            <a:avLst/>
          </a:prstGeom>
          <a:ln w="76320">
            <a:solidFill>
              <a:srgbClr val="ffd44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Рисунок 1" descr="2.jpg"/>
          <p:cNvPicPr/>
          <p:nvPr/>
        </p:nvPicPr>
        <p:blipFill>
          <a:blip r:embed="rId1"/>
          <a:stretch/>
        </p:blipFill>
        <p:spPr>
          <a:xfrm>
            <a:off x="1357200" y="289080"/>
            <a:ext cx="650088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5:03:10Z</dcterms:created>
  <dc:creator>User</dc:creator>
  <dc:description/>
  <dc:language>en-US</dc:language>
  <cp:lastModifiedBy>1</cp:lastModifiedBy>
  <dcterms:modified xsi:type="dcterms:W3CDTF">2017-10-08T20:11:00Z</dcterms:modified>
  <cp:revision>5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101049</vt:lpwstr>
  </property>
</Properties>
</file>