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FC4-A553-45C0-AF3E-7C89B820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F15-B833-40FF-8C33-43DBA145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11DEA-D314-4336-A65C-37F810B1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53A04-6A1D-4B00-9B6E-9A469BA5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16290-802B-4130-83AA-200E039C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9EFDC-6BDF-46A0-9CB2-620F3C4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D050D-3D73-41A5-A02B-5BF1FFC7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3CB7C-C723-40C1-A52E-A7FBE30D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8AE7C-14E8-46FB-9C3C-93EE0955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93CE4-E668-4069-B0C1-69D887DF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DEA43-D7BD-402E-9402-8D7E916A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33EB8-F40A-4B3A-BCD1-97A09966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4E1-6F0C-4179-9826-C7EC5B1D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122EB-C6A9-498F-8C3A-CB7160E0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19CFC-A9B4-4811-A48D-077D1227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377E8-35D7-44D6-85F8-CDB0BCE7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FD2D1-66FA-4ABB-A5ED-523E5E1D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B113C-7337-4FC0-B4D6-D7232699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14B2E-408F-4C5A-B358-3E151DC9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9D716-E960-4691-90C6-F752905A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68FFF-84BA-4BD8-9DFF-849FF68F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C5124-CF2A-4EE9-A189-F902024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023AB-7257-49E1-B4B4-8ECC716C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33E-2068-4497-A192-791028F2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3411D-1D47-4DA6-811B-9DFD4333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8058F-9F8C-416B-9F50-2B75F6BC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CF394-8B6F-430D-B913-AF910B14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19871-3C44-42EE-A167-2C1AFEC8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CB461-52EA-433B-A85B-548AAD8E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21773-5C46-4ECB-BE4B-60547A61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CB065-88C5-429E-AB8C-C2A78980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80317-7503-4181-AAF1-7EA21E40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79CBF-7590-4414-8249-18F773EA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D51B9-1749-4444-8E45-8F45BF45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3DCC-05D5-453F-A17B-9EFCFBF2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5ECEE-7D47-4DD7-8D87-A50B45AD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CD224-3213-40B4-BF0D-DC272701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856DB-7214-4BA0-8FFC-54017099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D915F-2657-4468-8816-4FC7C38F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4ACF4-2DE4-49E3-B1C3-0036B3E9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29F7B-64B0-42FA-8C56-513CE6E2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1BB58-2F54-4CF8-A6C1-2486DC9C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4037C-B5E5-4C43-A89A-1ADA0362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FE473-728B-4392-AB42-356732BE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0E136-6D26-4AB5-B731-C0BBC822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C338-BF7C-43DD-A650-A40CEB92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4B738-0675-4386-BDB2-95016764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D70E1-7043-4D84-90C3-7C58C71E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ABC12-B22A-4E13-BB1E-67D20241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6D5AC-14E9-4ED8-B667-A148FE9B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FC493-36BE-49EA-A086-7CF64996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1C80-0D22-4AA2-B0D8-860CDC00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88BE-CBA1-4629-AF32-E70E0C07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A3AE-DFA5-43F9-9552-FB48A040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F841-D3EC-4803-8DA8-7D741327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3A5C-0A83-4A7F-9881-2504B09F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208-1631-4309-9FE1-540BE7F4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D05B-1496-4C71-9912-A6BE509D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DE16-F2CC-423E-BEE6-9F3E5CF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813C-C0C8-4CF5-A253-782B6882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E286-ED77-4C79-B4EB-C093271F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F1BA-46DA-4316-AC4B-C4FF6342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9B03-91B1-404E-9D8E-9E31A627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2AE5-CDC4-4F09-AF60-B7717EF0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FD89-7E42-4FEA-8037-9E5A67C8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6EA0-F8CB-4053-A540-1ADE4E9E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1BC3-B747-4D52-99AF-1BE0B93F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469-461B-4EC2-8F13-A2498060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E847-DFBB-4BF7-8734-9673EA2A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42EB-2B73-4C52-8171-83A8EA14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1FA3-ED6B-4B8F-9249-1C76025C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B173-52AF-4AAE-ACA6-6D4E3D04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FA7AC-45F9-4563-A5CD-46B752A0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1FFF-37C7-47A5-BCC5-E767B5A0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02831-24C0-416D-A9A3-91977B42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AF801-5B29-49BD-A5B7-B4E0C122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954A2-B81C-4650-B1F7-1EF55431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2A881-14ED-42F0-A6A4-F2943DC3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FEE-5B5D-4396-A00E-E34A6622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B6D43-E2A0-48A9-A64C-1E2DDF29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E67E-7DCC-4715-BFE2-EA7E59E4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8D0CD-F3E0-4601-9F0A-A7174F70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BFF80-6836-49F4-99B8-1D9AA937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7EB3-DC34-4AA9-ABD3-15842A30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BF01E-D658-4536-AD2D-D209E5AE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13DD-2633-4A32-9241-3C2DB1F4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C38A-8EEE-41A7-BA37-23ADEFE1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326B9-1EE4-4EC5-B23F-55B478D6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850C2-BA69-40C7-AEF1-E6BCBDB3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26D-5B3B-4F9E-A30F-E52DABF2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97A62-D039-41BD-ABFB-94260F69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C95D8-4C20-4A8F-A8DC-AA8C12DB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D765-7E1D-4B70-9030-853910CE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38F24-44FD-4BAC-8D25-A0CF2F1E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5CAE6-6C23-49AF-BB4E-8B1EC731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EF671-0ED3-40FC-A1BD-30B8B30D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202CE-CE12-4CE4-B7D7-B93A092D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10B79-F8E7-4656-9FB1-5CA094E0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BE3F7-5E5B-4EA7-88D3-126E9620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479A2-8B47-4BFC-8571-12D3EEC0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283-5B79-40B2-ADD4-77A29760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30ED7-04A3-4822-89E6-9D4E0BEA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9D7FD-6A95-4AAE-99B0-B82AA961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9D59-B583-4A21-B7CD-D507C8E8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05A36-5F30-406A-9EE6-C15C9158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AB005-50C3-4237-9B94-C864B946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11913-E4E0-43FC-A316-E0DB12BF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CB32B-FDB8-4985-AF38-F7764D68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8D4E1-81B7-4B6B-95BB-CC530F87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D2F63-0919-43E7-A2D0-F6723DB6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6C787-2D39-48E9-AD5D-79F38F4D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AB4-1E38-4456-A062-3F28CD43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B0506-E44E-4086-A2A8-0BE01ABE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5A649-B8BA-45AF-962A-596A2782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86417-BAA4-4ECF-9DAA-3E8A8CC5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ACC6-8A7D-47A8-8FED-DB1C2E79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25577-6D1D-4E71-91D0-E654330A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3D032-7D43-4677-85C5-9F44D233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422B3-3ED1-410D-9D06-55B0447D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E196C-E3BC-47CF-8DD1-4EC89AD8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068DB-1D71-4131-938B-46B43005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C0D5-F405-49CA-B34F-479515B7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D33-C606-44A0-8C1E-9D66D52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CCD5F-A1B7-4FB9-AC81-3B2C6A27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8C783-46D6-48CA-A76E-FE725EB9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DA8DC-B922-4140-917C-9491F25E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16487-D863-4F6A-A6F3-7F9E2BC7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7488-23DF-4A9F-9511-772B9457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DBF00-3044-4F35-A6F2-C2AD6654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527E0-9CBC-446E-9CD3-403A568B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FA64F-631C-4E15-9C46-1B1B891F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30877-EE0F-40A9-8C0D-E031B01C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7BD3A-280E-424F-88AB-EB13E820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083-F56C-4920-9A5F-3E42D9DB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4D74B-4A03-4449-833B-2FB65600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89339-EC76-42AB-B55E-A3967E5F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08A84-C3CC-4823-A474-43E27488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693D6-2E1A-4B68-BBB4-B4AC454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2C4A0-3655-4FD6-9BD8-FB4AA321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83659-E27B-4C4D-82B6-30ED9C36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9D3EE-8108-4F95-B830-99EDF334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7EEB5-6EBD-468F-B78C-0284E7A2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F4ACD-B708-4A67-9DDB-0989EBA7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67DFB-781A-4175-83BE-1AE476E3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D659-8E37-415F-B446-5F2720D52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F684-218B-4E04-AB61-A66F2A193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AC9B-5EE3-4D79-B6DC-BE458385B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400F-B10F-4A4A-8CBA-278B5C45C7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9D2D-83EC-4058-98A7-51A1330CC830}" type="slidenum">
              <a:rPr b="0" lang="ru-RU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71EC-D744-4C0E-AE2F-86285EE5E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DBC3-9E37-4DCD-8583-029ACA5C6D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6D0-5A3C-4E8C-A749-48322A1A0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42E3-9542-47BD-94DA-B0AE80A6C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70E3-92A1-48E2-8589-FE9B75330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179E-EBD0-4DBE-9D82-9F47D8442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52AB-5041-42D4-8692-65277A57F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Рисунок 1" descr="44.bmp"/>
          <p:cNvPicPr/>
          <p:nvPr/>
        </p:nvPicPr>
        <p:blipFill>
          <a:blip r:embed="rId1"/>
          <a:stretch/>
        </p:blipFill>
        <p:spPr>
          <a:xfrm>
            <a:off x="1380960" y="619200"/>
            <a:ext cx="63820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Рисунок 1" descr="3.jpg"/>
          <p:cNvPicPr/>
          <p:nvPr/>
        </p:nvPicPr>
        <p:blipFill>
          <a:blip r:embed="rId1"/>
          <a:stretch/>
        </p:blipFill>
        <p:spPr>
          <a:xfrm>
            <a:off x="1268280" y="285840"/>
            <a:ext cx="6446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1" descr="4.jpg"/>
          <p:cNvPicPr/>
          <p:nvPr/>
        </p:nvPicPr>
        <p:blipFill>
          <a:blip r:embed="rId1"/>
          <a:stretch/>
        </p:blipFill>
        <p:spPr>
          <a:xfrm>
            <a:off x="1357200" y="285840"/>
            <a:ext cx="650088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Рисунок 1" descr="5.jpg"/>
          <p:cNvPicPr/>
          <p:nvPr/>
        </p:nvPicPr>
        <p:blipFill>
          <a:blip r:embed="rId1"/>
          <a:stretch/>
        </p:blipFill>
        <p:spPr>
          <a:xfrm>
            <a:off x="571680" y="357120"/>
            <a:ext cx="7995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Рисунок 1" descr="6.jpg"/>
          <p:cNvPicPr/>
          <p:nvPr/>
        </p:nvPicPr>
        <p:blipFill>
          <a:blip r:embed="rId1"/>
          <a:stretch/>
        </p:blipFill>
        <p:spPr>
          <a:xfrm>
            <a:off x="500040" y="428760"/>
            <a:ext cx="81262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1" descr="7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Рисунок 1" descr="8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Рисунок 1" descr="9.jpg"/>
          <p:cNvPicPr/>
          <p:nvPr/>
        </p:nvPicPr>
        <p:blipFill>
          <a:blip r:embed="rId1"/>
          <a:stretch/>
        </p:blipFill>
        <p:spPr>
          <a:xfrm>
            <a:off x="428760" y="357120"/>
            <a:ext cx="8273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Рисунок 1" descr="10.jpg"/>
          <p:cNvPicPr/>
          <p:nvPr/>
        </p:nvPicPr>
        <p:blipFill>
          <a:blip r:embed="rId1"/>
          <a:stretch/>
        </p:blipFill>
        <p:spPr>
          <a:xfrm>
            <a:off x="357120" y="357120"/>
            <a:ext cx="85345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Рисунок 1" descr="img169.jpg"/>
          <p:cNvPicPr/>
          <p:nvPr/>
        </p:nvPicPr>
        <p:blipFill>
          <a:blip r:embed="rId1"/>
          <a:stretch/>
        </p:blipFill>
        <p:spPr>
          <a:xfrm>
            <a:off x="1574640" y="142920"/>
            <a:ext cx="59263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Рисунок 1" descr="55.bmp"/>
          <p:cNvPicPr/>
          <p:nvPr/>
        </p:nvPicPr>
        <p:blipFill>
          <a:blip r:embed="rId1"/>
          <a:stretch/>
        </p:blipFill>
        <p:spPr>
          <a:xfrm>
            <a:off x="1366920" y="609480"/>
            <a:ext cx="6410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Рисунок 1" descr="66.bmp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Рисунок 1" descr="77.bmp"/>
          <p:cNvPicPr/>
          <p:nvPr/>
        </p:nvPicPr>
        <p:blipFill>
          <a:blip r:embed="rId1"/>
          <a:stretch/>
        </p:blipFill>
        <p:spPr>
          <a:xfrm>
            <a:off x="1380960" y="619200"/>
            <a:ext cx="63820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Рисунок 1" descr="88.bmp"/>
          <p:cNvPicPr/>
          <p:nvPr/>
        </p:nvPicPr>
        <p:blipFill>
          <a:blip r:embed="rId1"/>
          <a:stretch/>
        </p:blipFill>
        <p:spPr>
          <a:xfrm>
            <a:off x="1366920" y="604800"/>
            <a:ext cx="641016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Рисунок 1" descr="99.bmp"/>
          <p:cNvPicPr/>
          <p:nvPr/>
        </p:nvPicPr>
        <p:blipFill>
          <a:blip r:embed="rId1"/>
          <a:stretch/>
        </p:blipFill>
        <p:spPr>
          <a:xfrm>
            <a:off x="1357200" y="633240"/>
            <a:ext cx="642960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Рисунок 1" descr="98.bmp"/>
          <p:cNvPicPr/>
          <p:nvPr/>
        </p:nvPicPr>
        <p:blipFill>
          <a:blip r:embed="rId1"/>
          <a:stretch/>
        </p:blipFill>
        <p:spPr>
          <a:xfrm>
            <a:off x="1352520" y="576360"/>
            <a:ext cx="64389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Рисунок 1" descr="1.jpg"/>
          <p:cNvPicPr/>
          <p:nvPr/>
        </p:nvPicPr>
        <p:blipFill>
          <a:blip r:embed="rId1"/>
          <a:stretch/>
        </p:blipFill>
        <p:spPr>
          <a:xfrm>
            <a:off x="1500120" y="428760"/>
            <a:ext cx="6000840" cy="5930640"/>
          </a:xfrm>
          <a:prstGeom prst="rect">
            <a:avLst/>
          </a:prstGeom>
          <a:ln w="76320">
            <a:solidFill>
              <a:srgbClr val="ffd44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1" descr="2.jpg"/>
          <p:cNvPicPr/>
          <p:nvPr/>
        </p:nvPicPr>
        <p:blipFill>
          <a:blip r:embed="rId1"/>
          <a:stretch/>
        </p:blipFill>
        <p:spPr>
          <a:xfrm>
            <a:off x="1357200" y="289080"/>
            <a:ext cx="65008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5:03:10Z</dcterms:created>
  <dc:creator>User</dc:creator>
  <dc:description/>
  <dc:language>en-US</dc:language>
  <cp:lastModifiedBy>1</cp:lastModifiedBy>
  <dcterms:modified xsi:type="dcterms:W3CDTF">2017-10-08T20:11:00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49</vt:lpwstr>
  </property>
</Properties>
</file>