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E6B-38B9-40B9-B21E-EBE9B423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5F0C-A81E-44DD-953F-0FE52682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179-E3BB-45B2-8A48-2C325E05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2E0A-3F08-4C0C-AF07-CCA02E7A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03DA1-A38E-4F11-9973-560E5EAD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CF2C8-3E16-47BF-8215-566F7FE8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8E4DBD-D724-4C79-A757-61CAFF04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DE94A-3431-43D4-8257-B1436D51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A7436-80F7-4C95-BB67-2366A7D5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3698A-44A1-45E7-BB2E-CBEAC79C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A98A1-67C1-4153-970F-F5A6D51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111B-9A52-4335-B830-5BBCA6CD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267D71-C293-495E-9B59-F17BA8D2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8DC35-D00F-46E8-8DD6-95B5465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CF1E8-6D9F-4516-B583-D87C72BC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60D9D-0EA7-4A7E-BD3E-86F473CB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DFD494-27E0-493F-A874-27AC099D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4BD-EBDC-4AD7-93E0-E4DC047F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444-F39F-41B8-8A3C-463DFCC2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90F-616A-4FAA-AB52-333473AF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5D1-FD41-4699-8961-364145F0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A33-FF5A-4B22-95DF-047B888C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A89-1519-4A08-8D3E-5794CB79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7BB2-A202-4A14-9625-4FAD7292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C160-0106-4473-80C3-43D7A8C474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илиния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BB65-7C56-4827-AF93-4CE7ADBE6D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rumbur.ru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 «Как ученые изучают мир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8893080" cy="25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резентация к уроку окружающего мир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 класс УМК «Планета Знаний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одготовила учитель начальных клас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Груздева Елизавета Анатолье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124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5" descr="2842451_6.jpeg"/>
          <p:cNvPicPr/>
          <p:nvPr/>
        </p:nvPicPr>
        <p:blipFill>
          <a:blip r:embed="rId1"/>
          <a:stretch/>
        </p:blipFill>
        <p:spPr>
          <a:xfrm>
            <a:off x="3575160" y="214200"/>
            <a:ext cx="5425920" cy="5786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3008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«Выдуйте мыльный пузырь и смотрите на него: вы можете заниматься всю жизнь его изучением, не переставая извлекать из него уроки физики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Кельвин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У. 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Содержимое 4" descr="IMGUMOZ88.jpg"/>
          <p:cNvPicPr/>
          <p:nvPr/>
        </p:nvPicPr>
        <p:blipFill>
          <a:blip r:embed="rId1"/>
          <a:stretch/>
        </p:blipFill>
        <p:spPr>
          <a:xfrm>
            <a:off x="3429000" y="571680"/>
            <a:ext cx="5715000" cy="5286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99680" y="571320"/>
            <a:ext cx="296532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ыльные пузыри засветились и в Книге рекордов Гиннесса: 1996 г. — Алан Маккей пустил мыльный пузырь длиной 32 м; 1997 г. — Фэн Янг соорудил самую большую в мире стену из мыльных пузырей высотой около 48 м и площадью 370 кв. м; 2007 г. — Сэм Хист разместил в мыльном пузыре высотой 1,5 м и шириной 3,3 м 50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285480"/>
            <a:ext cx="3008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Мыльный пузырь существует очень давно ведь фрески с изображением детей, выдувающих пузыри, были обнаружены при раскопках древнего города Помпеи</a:t>
            </a:r>
            <a:r>
              <a:rPr b="0" lang="ru-RU" sz="1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2" descr="E:\1251156264_00105ez3.jpeg"/>
          <p:cNvPicPr/>
          <p:nvPr/>
        </p:nvPicPr>
        <p:blipFill>
          <a:blip r:embed="rId1"/>
          <a:stretch/>
        </p:blipFill>
        <p:spPr>
          <a:xfrm>
            <a:off x="3749760" y="142920"/>
            <a:ext cx="5251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5075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лёнка пузыря состоит из тонкого слоя воды, заключённого между двумя слоями молекул, чаще всего мыла. Эти слои содержат в себе молекулы, одна часть которых является гидрофильной, а другая гидрофобной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6" descr="1264024904_sxematichnoe_izobrazhenie_plenki_mylnogo_puzyrya"/>
          <p:cNvPicPr/>
          <p:nvPr/>
        </p:nvPicPr>
        <p:blipFill>
          <a:blip r:embed="rId1"/>
          <a:stretch/>
        </p:blipFill>
        <p:spPr>
          <a:xfrm>
            <a:off x="108000" y="1557360"/>
            <a:ext cx="89280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4" descr="851443_590579.jpg"/>
          <p:cNvPicPr/>
          <p:nvPr/>
        </p:nvPicPr>
        <p:blipFill>
          <a:blip r:embed="rId1"/>
          <a:stretch/>
        </p:blipFill>
        <p:spPr>
          <a:xfrm>
            <a:off x="1000080" y="0"/>
            <a:ext cx="6786720" cy="4727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00080" y="4785840"/>
            <a:ext cx="6858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ahoma"/>
              </a:rPr>
              <a:t>Переливчатые «радужные» цвета мыльных пузырей получаются за счёт интерференции световых волн и определяются толщиной мыльной плёнк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915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ahoma"/>
              </a:rPr>
              <a:t>По мере того, как плёнка становится тоньше из-за испарения воды, можно наблюдать изменение цвета пузыр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7" descr="0_12b7e_6baf3d5a_XL"/>
          <p:cNvPicPr/>
          <p:nvPr/>
        </p:nvPicPr>
        <p:blipFill>
          <a:blip r:embed="rId1"/>
          <a:stretch/>
        </p:blipFill>
        <p:spPr>
          <a:xfrm>
            <a:off x="755640" y="1700280"/>
            <a:ext cx="7991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7" descr=""/>
          <p:cNvPicPr/>
          <p:nvPr/>
        </p:nvPicPr>
        <p:blipFill>
          <a:blip r:embed="rId1"/>
          <a:stretch/>
        </p:blipFill>
        <p:spPr>
          <a:xfrm>
            <a:off x="138240" y="142920"/>
            <a:ext cx="88675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Arial"/>
              </a:rPr>
              <a:t>От теории к практик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При помощи экспериментов мы проверим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акие рецепты мыльного раствора дают самые прочные пузыр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какое моющее средство дает самые прочные мыльные пузыр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7" descr="257391446"/>
          <p:cNvPicPr/>
          <p:nvPr/>
        </p:nvPicPr>
        <p:blipFill>
          <a:blip r:embed="rId1"/>
          <a:stretch/>
        </p:blipFill>
        <p:spPr>
          <a:xfrm rot="20644200">
            <a:off x="5464080" y="387000"/>
            <a:ext cx="3287880" cy="3321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Мыльные пузыри, игрушки - Веселый кузнечик"/>
          <p:cNvPicPr/>
          <p:nvPr/>
        </p:nvPicPr>
        <p:blipFill>
          <a:blip r:embed="rId2"/>
          <a:stretch/>
        </p:blipFill>
        <p:spPr>
          <a:xfrm>
            <a:off x="1116000" y="3357720"/>
            <a:ext cx="3814920" cy="2923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Мыльные пузыри: продам в разделе Товары для детей и игрушки по выгодной цене, в продаже Мыльные пузыри с комментариями пользоват"/>
          <p:cNvPicPr/>
          <p:nvPr/>
        </p:nvPicPr>
        <p:blipFill>
          <a:blip r:embed="rId3"/>
          <a:stretch/>
        </p:blipFill>
        <p:spPr>
          <a:xfrm>
            <a:off x="684360" y="333360"/>
            <a:ext cx="3635280" cy="27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Машина для мыльных пузырей GT6771на батарейках, в коробке 59 мл, Маша и Медведь, артикул 1168776, МАША И МЕДВЕДЬ, г. Москва в на"/>
          <p:cNvPicPr/>
          <p:nvPr/>
        </p:nvPicPr>
        <p:blipFill>
          <a:blip r:embed="rId4"/>
          <a:stretch/>
        </p:blipFill>
        <p:spPr>
          <a:xfrm>
            <a:off x="5580000" y="414972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Рецепты растворов для мыльных пузыре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50920" y="1341000"/>
            <a:ext cx="40320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1 рецеп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а 1 литр воды берем 200 мл. моющего средства. В этот раствор добавляем 25 мл. глицер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859280" y="1413000"/>
            <a:ext cx="38959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2 рецеп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Берем 1 литр воды и добавляем 100 мл. моющего сред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87280" y="3428640"/>
            <a:ext cx="4032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3 рецеп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а 150 мл воды берем 50 мл любого моющего средства, добавляем 10 грамм сахара. Тщательно перемешиваем до растворения сахар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s_20090923212826.jpg"/>
          <p:cNvPicPr/>
          <p:nvPr/>
        </p:nvPicPr>
        <p:blipFill>
          <a:blip r:embed="rId1"/>
          <a:stretch/>
        </p:blipFill>
        <p:spPr>
          <a:xfrm>
            <a:off x="3203640" y="2276640"/>
            <a:ext cx="305604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ahoma"/>
              </a:rPr>
              <a:t>Кто и как изучает мир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95280" y="404640"/>
          <a:ext cx="8497800" cy="5835960"/>
        </p:xfrm>
        <a:graphic>
          <a:graphicData uri="http://schemas.openxmlformats.org/drawingml/2006/table">
            <a:tbl>
              <a:tblPr/>
              <a:tblGrid>
                <a:gridCol w="1481040"/>
                <a:gridCol w="3508560"/>
                <a:gridCol w="3508200"/>
              </a:tblGrid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рецеп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Fai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«Ушастый нянь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Children's Publishing Blogs - 10 minutes of free time blog posts"/>
          <p:cNvPicPr/>
          <p:nvPr/>
        </p:nvPicPr>
        <p:blipFill>
          <a:blip r:embed="rId1"/>
          <a:stretch/>
        </p:blipFill>
        <p:spPr>
          <a:xfrm>
            <a:off x="1403280" y="836640"/>
            <a:ext cx="61246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95280" y="404640"/>
          <a:ext cx="8497800" cy="5835960"/>
        </p:xfrm>
        <a:graphic>
          <a:graphicData uri="http://schemas.openxmlformats.org/drawingml/2006/table">
            <a:tbl>
              <a:tblPr/>
              <a:tblGrid>
                <a:gridCol w="1481040"/>
                <a:gridCol w="3508560"/>
                <a:gridCol w="3508200"/>
              </a:tblGrid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№ </a:t>
                      </a: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рецеп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Fai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«Ушастый нянь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61616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303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539640" y="260280"/>
            <a:ext cx="80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</a:rPr>
              <a:t>Какое моющее средство из предложенных более всего подходит для изготовления  прочных мыльных пузыре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2" descr="Fairy Oxi средство для мытья посуды &quot;Яблоко&quot; 1л. (202018) - магазин Everest - everest.ua"/>
          <p:cNvPicPr/>
          <p:nvPr/>
        </p:nvPicPr>
        <p:blipFill>
          <a:blip r:embed="rId1"/>
          <a:stretch/>
        </p:blipFill>
        <p:spPr>
          <a:xfrm>
            <a:off x="611280" y="2349360"/>
            <a:ext cx="3429000" cy="3429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Предметы детской гигиены , Ялта - Tut.ua"/>
          <p:cNvPicPr/>
          <p:nvPr/>
        </p:nvPicPr>
        <p:blipFill>
          <a:blip r:embed="rId2"/>
          <a:stretch/>
        </p:blipFill>
        <p:spPr>
          <a:xfrm>
            <a:off x="5940360" y="1844640"/>
            <a:ext cx="25052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763280" y="333000"/>
            <a:ext cx="73803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читаем, что самым лучшим моющим средством является детский шампун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Рисунок 5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5502240" cy="4365360"/>
          </a:xfrm>
          <a:prstGeom prst="rect">
            <a:avLst/>
          </a:prstGeom>
          <a:ln w="0">
            <a:noFill/>
          </a:ln>
        </p:spPr>
      </p:pic>
      <p:sp>
        <p:nvSpPr>
          <p:cNvPr id="144" name="Прямоугольник 3"/>
          <p:cNvSpPr/>
          <p:nvPr/>
        </p:nvSpPr>
        <p:spPr>
          <a:xfrm>
            <a:off x="324000" y="26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Вывод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Предметы детской гигиены , Ялта - Tut.ua"/>
          <p:cNvPicPr/>
          <p:nvPr/>
        </p:nvPicPr>
        <p:blipFill>
          <a:blip r:embed="rId2"/>
          <a:stretch/>
        </p:blipFill>
        <p:spPr>
          <a:xfrm>
            <a:off x="6372360" y="1484280"/>
            <a:ext cx="250488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27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Какой рецепт является самыми оптимальными? </a:t>
            </a:r>
            <a:br>
              <a:rPr sz="4000"/>
            </a:br>
            <a:r>
              <a:rPr b="0" lang="ru-RU" sz="4000" spc="-1" strike="noStrike">
                <a:solidFill>
                  <a:srgbClr val="000066"/>
                </a:solidFill>
                <a:latin typeface="Arial"/>
              </a:rPr>
              <a:t>Какой раствор дает наиболее долгие и прочные пузыри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3632040"/>
            <a:ext cx="82915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3276720" y="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Вывод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Прямоугольник 2"/>
          <p:cNvSpPr/>
          <p:nvPr/>
        </p:nvSpPr>
        <p:spPr>
          <a:xfrm>
            <a:off x="1042920" y="765000"/>
            <a:ext cx="691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Считаем, что самым лучшим рецептом для самостоятельного приготовления, является 1 рецеп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4859280" y="2205000"/>
            <a:ext cx="396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1 рецеп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Если вы захотите сделать раствор для мыльных пузырей запомните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а 100 мл воды добавьте чайную ложку глицерина и 4 чайных ложки шампуня «Ушастый нянь». Хорошо перемешайте, стараясь не пенить раствор. Храните приготовленный раствор в закрытой посуд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2" descr="Прикосновение к мыльному пузырю в замедленной съемке"/>
          <p:cNvPicPr/>
          <p:nvPr/>
        </p:nvPicPr>
        <p:blipFill>
          <a:blip r:embed="rId1"/>
          <a:stretch/>
        </p:blipFill>
        <p:spPr>
          <a:xfrm>
            <a:off x="539640" y="2421000"/>
            <a:ext cx="4268880" cy="33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0" y="226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Узнали из чего состоит стенка мы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Узнали от чего зависит цвет мы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SimSun"/>
              </a:rPr>
              <a:t>3.Узнали от чего зависит прочность мы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2" descr="http://im3-tub-ru.yandex.net/i?id=11767af55d42864e3d86ce5c98b4fba5-61-144&amp;n=21"/>
          <p:cNvPicPr/>
          <p:nvPr/>
        </p:nvPicPr>
        <p:blipFill>
          <a:blip r:embed="rId1"/>
          <a:stretch/>
        </p:blipFill>
        <p:spPr>
          <a:xfrm>
            <a:off x="2195640" y="2205000"/>
            <a:ext cx="52797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Доказали, </a:t>
            </a: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путем опытов, чт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глицерин лучший стабилизатор мыльной пен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SimSun"/>
              </a:rPr>
              <a:t>детский шампунь наилучший компонент для мыльного раствора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16161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SimSun"/>
              </a:rPr>
              <a:t> </a:t>
            </a:r>
            <a:r>
              <a:rPr b="0" lang="ru-RU" sz="3600" spc="-1" strike="noStrike">
                <a:solidFill>
                  <a:srgbClr val="161616"/>
                </a:solidFill>
                <a:latin typeface="Times New Roman"/>
                <a:ea typeface="SimSun"/>
              </a:rPr>
              <a:t>выявили  наилучший рецепт смеси</a:t>
            </a:r>
            <a:r>
              <a:rPr b="0" lang="ru-RU" sz="36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Фото - Лента, фото, фото девушек, фото голых, бесплатно фото, красивые фото, скачать фото, фотографии - Страница 13096"/>
          <p:cNvPicPr/>
          <p:nvPr/>
        </p:nvPicPr>
        <p:blipFill>
          <a:blip r:embed="rId1"/>
          <a:stretch/>
        </p:blipFill>
        <p:spPr>
          <a:xfrm>
            <a:off x="2411280" y="3565440"/>
            <a:ext cx="446436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Рефлексия - Картинка 8570/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34360" y="333360"/>
            <a:ext cx="228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161616"/>
                </a:solidFill>
                <a:uFillTx/>
                <a:latin typeface="Tahoma"/>
              </a:rPr>
              <a:t>Учёны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324000" y="47628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ahoma"/>
              </a:rPr>
              <a:t>                – </a:t>
            </a:r>
            <a:r>
              <a:rPr b="1" lang="ru-RU" sz="3600" spc="-1" strike="noStrike">
                <a:solidFill>
                  <a:srgbClr val="161616"/>
                </a:solidFill>
                <a:latin typeface="Tahoma"/>
              </a:rPr>
              <a:t>специалист в какой-либо области, внёсший реальный вклад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Tahoma"/>
              </a:rPr>
              <a:t>в наук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Рисунок 3" descr="lomonsov.jpg"/>
          <p:cNvPicPr/>
          <p:nvPr/>
        </p:nvPicPr>
        <p:blipFill>
          <a:blip r:embed="rId1"/>
          <a:stretch/>
        </p:blipFill>
        <p:spPr>
          <a:xfrm>
            <a:off x="5796000" y="2781360"/>
            <a:ext cx="2405160" cy="2643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Alexander Stepanovich Popov.jpg"/>
          <p:cNvPicPr/>
          <p:nvPr/>
        </p:nvPicPr>
        <p:blipFill>
          <a:blip r:embed="rId2"/>
          <a:stretch/>
        </p:blipFill>
        <p:spPr>
          <a:xfrm>
            <a:off x="1763640" y="2492280"/>
            <a:ext cx="23814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. Hutchings, F. Morgan, M. Ritoré, A. Ros Proof of the double bubble conjecture // Ann. of Math. (2), Vol. 155 (2002), № 2, 459—489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"Charles V. Boys" Soap-Bubbles. Their colors and the forces which mold them. — Dover Publications, New York 1990, ISBN 0-486-20542-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"Cyriel Isenberg" The Science of Soap Films and Soap Bubbles. — Tieto Books, Clevedon North Somerset, 1978, ISBN 0-905028-02-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Я. Е. Как надувать гигантские мыльные пузыр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  <a:hlinkClick r:id="rId1"/>
              </a:rPr>
              <a:t>www.rumbur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http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//planetashkol.ru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ahoma"/>
              </a:rPr>
              <a:t>Какие науки мы с вами знаем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1835280" y="1773360"/>
            <a:ext cx="5238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БИОЛО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ХИМ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ФИЗИ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АСТРОНОМ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ЭКОЛОГ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ГЕОГРАФ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Приборы измерени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Рисунок 2" descr="tal-75.jpg"/>
          <p:cNvPicPr/>
          <p:nvPr/>
        </p:nvPicPr>
        <p:blipFill>
          <a:blip r:embed="rId1"/>
          <a:stretch/>
        </p:blipFill>
        <p:spPr>
          <a:xfrm>
            <a:off x="357120" y="1285920"/>
            <a:ext cx="2857680" cy="31748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3" descr="Barcode-Thermometer-62899.jpg"/>
          <p:cNvPicPr/>
          <p:nvPr/>
        </p:nvPicPr>
        <p:blipFill>
          <a:blip r:embed="rId2"/>
          <a:stretch/>
        </p:blipFill>
        <p:spPr>
          <a:xfrm>
            <a:off x="3419640" y="1989000"/>
            <a:ext cx="2562120" cy="20718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4" descr="middle.jpg"/>
          <p:cNvPicPr/>
          <p:nvPr/>
        </p:nvPicPr>
        <p:blipFill>
          <a:blip r:embed="rId3"/>
          <a:stretch/>
        </p:blipFill>
        <p:spPr>
          <a:xfrm>
            <a:off x="6286680" y="1357200"/>
            <a:ext cx="2425680" cy="32148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687960" y="4724280"/>
            <a:ext cx="249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61616"/>
                </a:solidFill>
                <a:latin typeface="Times New Roman"/>
              </a:rPr>
              <a:t>телескоп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426840" y="422100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термомет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6233760" y="4941720"/>
            <a:ext cx="252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микроскоп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2" descr="1289129831_135731986_1----Sony-DSC-H50-1289129831.jpg"/>
          <p:cNvPicPr/>
          <p:nvPr/>
        </p:nvPicPr>
        <p:blipFill>
          <a:blip r:embed="rId1"/>
          <a:stretch/>
        </p:blipFill>
        <p:spPr>
          <a:xfrm>
            <a:off x="500040" y="57168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3" descr="1557_b.jpg"/>
          <p:cNvPicPr/>
          <p:nvPr/>
        </p:nvPicPr>
        <p:blipFill>
          <a:blip r:embed="rId2"/>
          <a:stretch/>
        </p:blipFill>
        <p:spPr>
          <a:xfrm>
            <a:off x="6215040" y="642960"/>
            <a:ext cx="2357640" cy="23572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4" descr="ar118614825876008.jpg"/>
          <p:cNvPicPr/>
          <p:nvPr/>
        </p:nvPicPr>
        <p:blipFill>
          <a:blip r:embed="rId3"/>
          <a:stretch/>
        </p:blipFill>
        <p:spPr>
          <a:xfrm>
            <a:off x="571680" y="3786120"/>
            <a:ext cx="3071520" cy="23036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5" descr="174738_5208.jpg"/>
          <p:cNvPicPr/>
          <p:nvPr/>
        </p:nvPicPr>
        <p:blipFill>
          <a:blip r:embed="rId4"/>
          <a:stretch/>
        </p:blipFill>
        <p:spPr>
          <a:xfrm>
            <a:off x="5643720" y="3786120"/>
            <a:ext cx="3071520" cy="23036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6"/>
          <p:cNvSpPr/>
          <p:nvPr/>
        </p:nvSpPr>
        <p:spPr>
          <a:xfrm>
            <a:off x="899640" y="2997360"/>
            <a:ext cx="266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61616"/>
                </a:solidFill>
                <a:latin typeface="Times New Roman"/>
              </a:rPr>
              <a:t>фотоаппара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6018120" y="5732640"/>
            <a:ext cx="21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61616"/>
                </a:solidFill>
                <a:latin typeface="Times New Roman"/>
              </a:rPr>
              <a:t>линей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1483200" y="5589720"/>
            <a:ext cx="138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61616"/>
                </a:solidFill>
                <a:latin typeface="Times New Roman"/>
              </a:rPr>
              <a:t>луп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6455520" y="2997360"/>
            <a:ext cx="19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61616"/>
                </a:solidFill>
                <a:latin typeface="Times New Roman"/>
              </a:rPr>
              <a:t>бинокл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Tahoma"/>
              </a:rPr>
              <a:t>МЕТОДЫ ИЗУЧЕНИЯ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900000" y="2205000"/>
            <a:ext cx="764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1616"/>
                </a:solidFill>
                <a:latin typeface="Tahoma"/>
              </a:rPr>
              <a:t>Наблюдения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1616"/>
                </a:solidFill>
                <a:latin typeface="Tahoma"/>
              </a:rPr>
              <a:t>Эксперимент(опыт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1616"/>
                </a:solidFill>
                <a:latin typeface="Tahoma"/>
              </a:rPr>
              <a:t>Измерени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61616"/>
                </a:solidFill>
                <a:latin typeface="Tahoma"/>
              </a:rPr>
              <a:t>описание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2" descr="untitled.bmp"/>
          <p:cNvPicPr/>
          <p:nvPr/>
        </p:nvPicPr>
        <p:blipFill>
          <a:blip r:embed="rId1"/>
          <a:stretch/>
        </p:blipFill>
        <p:spPr>
          <a:xfrm>
            <a:off x="2340000" y="0"/>
            <a:ext cx="5164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ru-RU" sz="4400" spc="-1" strike="noStrike">
                <a:solidFill>
                  <a:srgbClr val="000066"/>
                </a:solidFill>
                <a:latin typeface="Tahoma"/>
              </a:rPr>
              <a:t>Задачи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Tahoma"/>
              </a:rPr>
              <a:t>1.Узнать из чего состоит стенка мыльного пузыр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Tahoma"/>
              </a:rPr>
              <a:t>2.Узнать от чего зависит цвет мыльного пузыр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Tahoma"/>
              </a:rPr>
              <a:t>3.Узнать от чего зависит прочность мыльного пузыр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Tahoma"/>
              </a:rPr>
              <a:t>4.Узнать от чего зависит форма мыльного пузыр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66"/>
                </a:solidFill>
                <a:latin typeface="Tahoma"/>
              </a:rPr>
              <a:t>5.Найти экспериментальным путем наилучший состав мыльного раствора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лейник Е.А.</dc:creator>
  <dc:description/>
  <dc:language>en-US</dc:language>
  <cp:lastModifiedBy>Dmitriy Gruzdev</cp:lastModifiedBy>
  <dcterms:modified xsi:type="dcterms:W3CDTF">2017-10-08T09:02:30Z</dcterms:modified>
  <cp:revision>47</cp:revision>
  <dc:subject>Мыльные пузыри</dc:subject>
  <dc:title>Проект</dc:title>
</cp:coreProperties>
</file>