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1C8-F5A6-40CB-8CF6-151C41E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A4C-EA3E-4847-800B-7E530A1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97F-8381-4570-BC11-71866774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C6E-992D-45BC-B47D-088063E0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69405-2AE6-4A81-A809-00D68069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21F7E-4AED-4C6A-A927-B5972D1C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05F97-32C5-4B1D-8B4E-0BD2B9A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0F68-3BCA-4C7A-B106-39B0F01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E2BA-1064-498C-A666-FF414F32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416E-2F30-4624-BDDB-B0E118E9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FD2DB-4A8B-466C-96EF-85D6C62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D67-8487-431C-AF18-B6692248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3F54-3E20-49B9-BB93-3B2F6D7D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E0F0-3B53-4681-A173-90A2C55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EBD23-A72E-482E-A216-47333A8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D39B4-8F30-430C-96D9-4D307917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CF5C-EABB-4F22-9CE6-EE6CE34C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B1B-411B-4492-AD8D-C2FCB8FC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30E-B986-4292-9C63-F973B18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058-E8C3-4A7F-955F-BF22CAEF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646-D524-410E-BC99-B9FF993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468-EB66-49AF-BF59-6854DD5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2F4-2BE4-4702-9BEE-417143A5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972-580A-404E-B5EF-1224512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04A-CEB5-4FCF-87E4-3D9D529C5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50C-5B25-40B7-8BBD-F544AD5005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rumbur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«Как ученые изучают мир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89308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езентация к уроку окружающего ми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 класс УМК «Планета Зна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дготовила 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руздева Елизавета Анато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5" descr="2842451_6.jpeg"/>
          <p:cNvPicPr/>
          <p:nvPr/>
        </p:nvPicPr>
        <p:blipFill>
          <a:blip r:embed="rId1"/>
          <a:stretch/>
        </p:blipFill>
        <p:spPr>
          <a:xfrm>
            <a:off x="3575160" y="214200"/>
            <a:ext cx="5425920" cy="578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«Выдуйте мыльный пузырь и смотрите на него: вы можете заниматься всю жизнь его изучением, не переставая извлекать из него уроки физик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ельвин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У. 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IMGUMOZ88.jpg"/>
          <p:cNvPicPr/>
          <p:nvPr/>
        </p:nvPicPr>
        <p:blipFill>
          <a:blip r:embed="rId1"/>
          <a:stretch/>
        </p:blipFill>
        <p:spPr>
          <a:xfrm>
            <a:off x="3429000" y="571680"/>
            <a:ext cx="5715000" cy="5286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9680" y="571320"/>
            <a:ext cx="29653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ыльные пузыри засветились и в Книге рекордов Гиннесса: 1996 г. — Алан Маккей пустил мыльный пузырь длиной 32 м; 1997 г. — Фэн Янг соорудил самую большую в мире стену из мыльных пузырей высотой около 48 м и площадью 370 кв. м; 2007 г. — Сэм Хист разместил в мыльном пузыре высотой 1,5 м и шириной 3,3 м 50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ыльный пузырь существует очень давно ведь фрески с изображением детей, выдувающих пузыри, были обнаружены при раскопках древнего города Помпеи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E:\1251156264_00105ez3.jpeg"/>
          <p:cNvPicPr/>
          <p:nvPr/>
        </p:nvPicPr>
        <p:blipFill>
          <a:blip r:embed="rId1"/>
          <a:stretch/>
        </p:blipFill>
        <p:spPr>
          <a:xfrm>
            <a:off x="3749760" y="142920"/>
            <a:ext cx="5251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лёнка пузыря состоит из тонкого слоя воды, заключённого между двумя слоями молекул, чаще всего мыла. Эти слои содержат в себе молекулы, одна часть которых является гидрофильной, а другая гидрофобной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1264024904_sxematichnoe_izobrazhenie_plenki_mylnogo_puzyrya"/>
          <p:cNvPicPr/>
          <p:nvPr/>
        </p:nvPicPr>
        <p:blipFill>
          <a:blip r:embed="rId1"/>
          <a:stretch/>
        </p:blipFill>
        <p:spPr>
          <a:xfrm>
            <a:off x="108000" y="1557360"/>
            <a:ext cx="892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851443_590579.jpg"/>
          <p:cNvPicPr/>
          <p:nvPr/>
        </p:nvPicPr>
        <p:blipFill>
          <a:blip r:embed="rId1"/>
          <a:stretch/>
        </p:blipFill>
        <p:spPr>
          <a:xfrm>
            <a:off x="1000080" y="0"/>
            <a:ext cx="6786720" cy="4727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00080" y="4785840"/>
            <a:ext cx="6858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Переливчатые «радужные» цвета мыльных пузырей получаются за счёт интерференции световых волн и определяются толщиной мыльной плёнк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По мере того, как плёнка становится тоньше из-за испарения воды, можно наблюдать изменение цвета пузыр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_12b7e_6baf3d5a_XL"/>
          <p:cNvPicPr/>
          <p:nvPr/>
        </p:nvPicPr>
        <p:blipFill>
          <a:blip r:embed="rId1"/>
          <a:stretch/>
        </p:blipFill>
        <p:spPr>
          <a:xfrm>
            <a:off x="755640" y="1700280"/>
            <a:ext cx="7991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138240" y="142920"/>
            <a:ext cx="88675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От теории к практи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ри помощи экспериментов мы проверим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ие рецепты мыльного раствора дают самые прочные пузы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ое моющее средство дает самые прочные мыльные пузы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7" descr="257391446"/>
          <p:cNvPicPr/>
          <p:nvPr/>
        </p:nvPicPr>
        <p:blipFill>
          <a:blip r:embed="rId1"/>
          <a:stretch/>
        </p:blipFill>
        <p:spPr>
          <a:xfrm rot="20644200">
            <a:off x="5464080" y="387000"/>
            <a:ext cx="3287880" cy="33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Мыльные пузыри, игрушки - Веселый кузнечик"/>
          <p:cNvPicPr/>
          <p:nvPr/>
        </p:nvPicPr>
        <p:blipFill>
          <a:blip r:embed="rId2"/>
          <a:stretch/>
        </p:blipFill>
        <p:spPr>
          <a:xfrm>
            <a:off x="1116000" y="3357720"/>
            <a:ext cx="3814920" cy="2923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Мыльные пузыри: продам в разделе Товары для детей и игрушки по выгодной цене, в продаже Мыльные пузыри с комментариями пользоват"/>
          <p:cNvPicPr/>
          <p:nvPr/>
        </p:nvPicPr>
        <p:blipFill>
          <a:blip r:embed="rId3"/>
          <a:stretch/>
        </p:blipFill>
        <p:spPr>
          <a:xfrm>
            <a:off x="684360" y="333360"/>
            <a:ext cx="3635280" cy="27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Машина для мыльных пузырей GT6771на батарейках, в коробке 59 мл, Маша и Медведь, артикул 1168776, МАША И МЕДВЕДЬ, г. Москва в на"/>
          <p:cNvPicPr/>
          <p:nvPr/>
        </p:nvPicPr>
        <p:blipFill>
          <a:blip r:embed="rId4"/>
          <a:stretch/>
        </p:blipFill>
        <p:spPr>
          <a:xfrm>
            <a:off x="5580000" y="414972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цепты растворов для мыльных пузыре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341000"/>
            <a:ext cx="4032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 рецеп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 1 литр воды берем 200 мл. моющего средства. В этот раствор добавляем 25 мл. глице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59280" y="1413000"/>
            <a:ext cx="38959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 рецеп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ерем 1 литр воды и добавляем 100 мл. моющего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87280" y="3428640"/>
            <a:ext cx="4032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рецеп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 150 мл воды берем 50 мл любого моющего средства, добавляем 10 грамм сахара. Тщательно перемешиваем до растворения саха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s_20090923212826.jpg"/>
          <p:cNvPicPr/>
          <p:nvPr/>
        </p:nvPicPr>
        <p:blipFill>
          <a:blip r:embed="rId1"/>
          <a:stretch/>
        </p:blipFill>
        <p:spPr>
          <a:xfrm>
            <a:off x="3203640" y="2276640"/>
            <a:ext cx="305604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Кто и как изучает ми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95280" y="404640"/>
          <a:ext cx="8497800" cy="5835960"/>
        </p:xfrm>
        <a:graphic>
          <a:graphicData uri="http://schemas.openxmlformats.org/drawingml/2006/table">
            <a:tbl>
              <a:tblPr/>
              <a:tblGrid>
                <a:gridCol w="1481040"/>
                <a:gridCol w="3508560"/>
                <a:gridCol w="3508200"/>
              </a:tblGrid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рецеп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Fai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«Ушастый нян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hildren's Publishing Blogs - 10 minutes of free time blog posts"/>
          <p:cNvPicPr/>
          <p:nvPr/>
        </p:nvPicPr>
        <p:blipFill>
          <a:blip r:embed="rId1"/>
          <a:stretch/>
        </p:blipFill>
        <p:spPr>
          <a:xfrm>
            <a:off x="1403280" y="836640"/>
            <a:ext cx="612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5280" y="404640"/>
          <a:ext cx="8497800" cy="5835960"/>
        </p:xfrm>
        <a:graphic>
          <a:graphicData uri="http://schemas.openxmlformats.org/drawingml/2006/table">
            <a:tbl>
              <a:tblPr/>
              <a:tblGrid>
                <a:gridCol w="1481040"/>
                <a:gridCol w="3508560"/>
                <a:gridCol w="3508200"/>
              </a:tblGrid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рецеп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Fai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«Ушастый нян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39640" y="26028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Какое моющее средство из предложенных более всего подходит для изготовления  прочных мыльных пузыр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Fairy Oxi средство для мытья посуды &quot;Яблоко&quot; 1л. (202018) - магазин Everest - everest.ua"/>
          <p:cNvPicPr/>
          <p:nvPr/>
        </p:nvPicPr>
        <p:blipFill>
          <a:blip r:embed="rId1"/>
          <a:stretch/>
        </p:blipFill>
        <p:spPr>
          <a:xfrm>
            <a:off x="611280" y="23493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Предметы детской гигиены , Ялта - Tut.ua"/>
          <p:cNvPicPr/>
          <p:nvPr/>
        </p:nvPicPr>
        <p:blipFill>
          <a:blip r:embed="rId2"/>
          <a:stretch/>
        </p:blipFill>
        <p:spPr>
          <a:xfrm>
            <a:off x="5940360" y="1844640"/>
            <a:ext cx="25052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63280" y="333000"/>
            <a:ext cx="7380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читаем, что самым лучшим моющим средством является детский шампу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502240" cy="43653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324000" y="26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Предметы детской гигиены , Ялта - Tut.ua"/>
          <p:cNvPicPr/>
          <p:nvPr/>
        </p:nvPicPr>
        <p:blipFill>
          <a:blip r:embed="rId2"/>
          <a:stretch/>
        </p:blipFill>
        <p:spPr>
          <a:xfrm>
            <a:off x="6372360" y="1484280"/>
            <a:ext cx="2504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акой рецепт является самыми оптимальными? 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акой раствор дает наиболее долгие и прочные пузыр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632040"/>
            <a:ext cx="82915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3276720" y="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вод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1042920" y="765000"/>
            <a:ext cx="691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читаем, что самым лучшим рецептом для самостоятельного приготовления, является 1 рецеп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859280" y="2205000"/>
            <a:ext cx="396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 рецеп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Если вы захотите сделать раствор для мыльных пузырей запомнит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а 100 мл воды добавьте чайную ложку глицерина и 4 чайных ложки шампуня «Ушастый нянь». Хорошо перемешайте, стараясь не пенить раствор. Храните приготовленный раствор в закрытой посу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Прикосновение к мыльному пузырю в замедленной съемке"/>
          <p:cNvPicPr/>
          <p:nvPr/>
        </p:nvPicPr>
        <p:blipFill>
          <a:blip r:embed="rId1"/>
          <a:stretch/>
        </p:blipFill>
        <p:spPr>
          <a:xfrm>
            <a:off x="539640" y="2421000"/>
            <a:ext cx="42688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0" y="226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знали из чего состоит стенка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Узнали от чего зависит цвет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SimSun"/>
              </a:rPr>
              <a:t>3.Узнали от чего зависит прочность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2" descr="http://im3-tub-ru.yandex.net/i?id=11767af55d42864e3d86ce5c98b4fba5-61-144&amp;n=21"/>
          <p:cNvPicPr/>
          <p:nvPr/>
        </p:nvPicPr>
        <p:blipFill>
          <a:blip r:embed="rId1"/>
          <a:stretch/>
        </p:blipFill>
        <p:spPr>
          <a:xfrm>
            <a:off x="2195640" y="2205000"/>
            <a:ext cx="5279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Доказали, </a:t>
            </a: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утем опытов, чт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лицерин лучший стабилизатор мыльной пе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SimSun"/>
              </a:rPr>
              <a:t>детский шампунь наилучший компонент для мыльного раствор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SimSun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SimSun"/>
              </a:rPr>
              <a:t>выявили  наилучший рецепт смеси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Фото - Лента, фото, фото девушек, фото голых, бесплатно фото, красивые фото, скачать фото, фотографии - Страница 13096"/>
          <p:cNvPicPr/>
          <p:nvPr/>
        </p:nvPicPr>
        <p:blipFill>
          <a:blip r:embed="rId1"/>
          <a:stretch/>
        </p:blipFill>
        <p:spPr>
          <a:xfrm>
            <a:off x="2411280" y="3565440"/>
            <a:ext cx="4464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Рефлексия - Картинка 8570/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34360" y="333360"/>
            <a:ext cx="228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61616"/>
                </a:solidFill>
                <a:uFillTx/>
                <a:latin typeface="Tahoma"/>
              </a:rPr>
              <a:t>Учё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324000" y="476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ahoma"/>
              </a:rPr>
              <a:t>                – </a:t>
            </a:r>
            <a:r>
              <a:rPr b="1" lang="ru-RU" sz="3600" spc="-1" strike="noStrike">
                <a:solidFill>
                  <a:srgbClr val="161616"/>
                </a:solidFill>
                <a:latin typeface="Tahoma"/>
              </a:rPr>
              <a:t>специалист в какой-либо области, внёсший реальный вклад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ahoma"/>
              </a:rPr>
              <a:t>в нау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3" descr="lomonsov.jpg"/>
          <p:cNvPicPr/>
          <p:nvPr/>
        </p:nvPicPr>
        <p:blipFill>
          <a:blip r:embed="rId1"/>
          <a:stretch/>
        </p:blipFill>
        <p:spPr>
          <a:xfrm>
            <a:off x="5796000" y="2781360"/>
            <a:ext cx="2405160" cy="26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Alexander Stepanovich Popov.jpg"/>
          <p:cNvPicPr/>
          <p:nvPr/>
        </p:nvPicPr>
        <p:blipFill>
          <a:blip r:embed="rId2"/>
          <a:stretch/>
        </p:blipFill>
        <p:spPr>
          <a:xfrm>
            <a:off x="1763640" y="2492280"/>
            <a:ext cx="2381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. Hutchings, F. Morgan, M. Ritoré, A. Ros Proof of the double bubble conjecture // Ann. of Math. (2), Vol. 155 (2002), № 2, 459—4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"Charles V. Boys" Soap-Bubbles. Their colors and the forces which mold them. — Dover Publications, New York 1990, ISBN 0-486-20542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"Cyriel Isenberg" The Science of Soap Films and Soap Bubbles. — Tieto Books, Clevedon North Somerset, 1978, ISBN 0-905028-0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Я. Е. Как надувать гигантские мыльные пузыр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  <a:hlinkClick r:id="rId1"/>
              </a:rPr>
              <a:t>www.rumbur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ttp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//planetashko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Какие науки мы с вами знаем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835280" y="1773360"/>
            <a:ext cx="523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БИОЛО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ХИ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ФИЗ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АСТРОНО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ЭКОЛО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ГЕОГРАФ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Приборы измерен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2" descr="tal-75.jpg"/>
          <p:cNvPicPr/>
          <p:nvPr/>
        </p:nvPicPr>
        <p:blipFill>
          <a:blip r:embed="rId1"/>
          <a:stretch/>
        </p:blipFill>
        <p:spPr>
          <a:xfrm>
            <a:off x="357120" y="128592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Barcode-Thermometer-62899.jpg"/>
          <p:cNvPicPr/>
          <p:nvPr/>
        </p:nvPicPr>
        <p:blipFill>
          <a:blip r:embed="rId2"/>
          <a:stretch/>
        </p:blipFill>
        <p:spPr>
          <a:xfrm>
            <a:off x="3419640" y="1989000"/>
            <a:ext cx="2562120" cy="20718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middle.jpg"/>
          <p:cNvPicPr/>
          <p:nvPr/>
        </p:nvPicPr>
        <p:blipFill>
          <a:blip r:embed="rId3"/>
          <a:stretch/>
        </p:blipFill>
        <p:spPr>
          <a:xfrm>
            <a:off x="6286680" y="1357200"/>
            <a:ext cx="2425680" cy="32148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687960" y="4724280"/>
            <a:ext cx="24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61616"/>
                </a:solidFill>
                <a:latin typeface="Times New Roman"/>
              </a:rPr>
              <a:t>телескоп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426840" y="422100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термоме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6233760" y="494172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микроско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1289129831_135731986_1----Sony-DSC-H50-1289129831.jpg"/>
          <p:cNvPicPr/>
          <p:nvPr/>
        </p:nvPicPr>
        <p:blipFill>
          <a:blip r:embed="rId1"/>
          <a:stretch/>
        </p:blipFill>
        <p:spPr>
          <a:xfrm>
            <a:off x="500040" y="571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1557_b.jpg"/>
          <p:cNvPicPr/>
          <p:nvPr/>
        </p:nvPicPr>
        <p:blipFill>
          <a:blip r:embed="rId2"/>
          <a:stretch/>
        </p:blipFill>
        <p:spPr>
          <a:xfrm>
            <a:off x="6215040" y="64296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ar118614825876008.jpg"/>
          <p:cNvPicPr/>
          <p:nvPr/>
        </p:nvPicPr>
        <p:blipFill>
          <a:blip r:embed="rId3"/>
          <a:stretch/>
        </p:blipFill>
        <p:spPr>
          <a:xfrm>
            <a:off x="571680" y="3786120"/>
            <a:ext cx="307152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174738_5208.jpg"/>
          <p:cNvPicPr/>
          <p:nvPr/>
        </p:nvPicPr>
        <p:blipFill>
          <a:blip r:embed="rId4"/>
          <a:stretch/>
        </p:blipFill>
        <p:spPr>
          <a:xfrm>
            <a:off x="5643720" y="3786120"/>
            <a:ext cx="3071520" cy="2303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899640" y="299736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</a:rPr>
              <a:t>фотоаппар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6018120" y="573264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лин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1483200" y="5589720"/>
            <a:ext cx="138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61616"/>
                </a:solidFill>
                <a:latin typeface="Times New Roman"/>
              </a:rPr>
              <a:t>луп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6455520" y="2997360"/>
            <a:ext cx="19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бинок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МЕТОДЫ ИЗУЧЕН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00000" y="2205000"/>
            <a:ext cx="764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Наблюд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Эксперимент(опыт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Измере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описа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2" descr="untitled.bmp"/>
          <p:cNvPicPr/>
          <p:nvPr/>
        </p:nvPicPr>
        <p:blipFill>
          <a:blip r:embed="rId1"/>
          <a:stretch/>
        </p:blipFill>
        <p:spPr>
          <a:xfrm>
            <a:off x="234000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Задачи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1.Узнать из чего состоит стенка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2.Узнать от чего зависит цвет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3.Узнать от чего зависит прочность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4.Узнать от чего зависит форма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5.Найти экспериментальным путем наилучший состав мыльного раствор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ейник Е.А.</dc:creator>
  <dc:description/>
  <dc:language>en-US</dc:language>
  <cp:lastModifiedBy>Dmitriy Gruzdev</cp:lastModifiedBy>
  <dcterms:modified xsi:type="dcterms:W3CDTF">2017-10-08T09:02:30Z</dcterms:modified>
  <cp:revision>47</cp:revision>
  <dc:subject>Мыльные пузыри</dc:subject>
  <dc:title>Проект</dc:title>
</cp:coreProperties>
</file>