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1AAD-0FAF-4068-8A66-F98D91F6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2E41-F523-4681-85A1-55FF39A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EDAA-9154-46FE-A872-F3DE06F2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3AF8-30B6-4A78-A4F0-ECF76DAAC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A0A2-3C62-4FD3-A80C-78744893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599-6232-42FD-8D6E-A4CFCB88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35E-4A61-4BD0-BF98-9D68A795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F07-7166-45A5-AB57-B557BD3A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6B0-FCD0-4A46-B0AB-E6489EF97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92FF-2697-421B-B734-D7E5F005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E017-86E5-4FC9-8AA3-0EF2C241A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D51-FBF9-46E6-99BD-A6879F8A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029F-9185-4DFF-9616-8F0FDB496D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Обогащение представлений об окружающем мире через сюжетно-ролевую игру в процессе проектной 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дготовительная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ед  разработкой комплекса мероприятий по обогащению представлений об окружающем мире для развития сюжетно-ролевой игры, были проведены наблюдение за процессом сюжетно-ролевой игры детей и беседа с детьми на выявление у детей интереса к иг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выявлено, что игры «Семья», «Детский сад», «Школа», «Больница»  вызывают у детей наибольший интерес, но сюжеты данных игр однообраз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ющий этап проекта был связан с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точнением и обогащением знаний, впечатлений, представлений об окружающей жизни на примере сюжетно-ролевой игры </a:t>
            </a: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«Поликлиника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ыли определены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мероприят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обогащения знаний дете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Экскурс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медицинский кабине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тского сада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ещение врачей-специалис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 связи с прохождением диспансеризации перед поступлением в шко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MG_1657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ЕЩЕНИЕ ОКУЛИ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IMG_1714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IMG_1710"/>
          <p:cNvPicPr/>
          <p:nvPr/>
        </p:nvPicPr>
        <p:blipFill>
          <a:blip r:embed="rId2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IMG_1711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ЕЩЕНИЕ ОТОЛОРИНГОЛО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IMG_1726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ТРЕЧИ С ВРАЧАМИ СПЕЦИ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IMG_1604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MG_161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IMG_1634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IMG_1621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дение экскурсий и встреч способствовало обогащению знаний детей, пробуждало у них любознательнос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Чтение художественной литератур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ение художественных произведений о врачах, пояснения взрослых помогают детям осмыслить роль врачей в жизни людей, понять, что это одна из самых почетных и ответственных профессий на земле.  Обсуждение отрывков произведений. способствовало появлению у детей сочувствия, сопереживания, пробуждению интереса дошкольников к труду врач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00"/>
                </a:solidFill>
                <a:latin typeface="Arial"/>
              </a:rPr>
              <a:t>СПИСОК ПРОИЗВЕД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. Туричин «Человек заболе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Маяковский «Кем быть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 Осеева «Просто стар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. Сегель «Как я был мамо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. Придворов «Доктор Ва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. Кардашова «Наш докт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Составление детьми рассказ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темы, связанные с наблюдением за работой врачей поликлиники: «Мой участковый врач», «Медицинская сестра», «Я хочу стать врачом», рассказы о врачах специалист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оцессе рассказывания актуализировались детские представления, усиливалась работа воображения, возникали творческие игровые замыслы, совершенствовалась речь дет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Беседы-рассказы с использованием иллюстративного материал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дети осознали профессиональную роль врача, им было предложено рассмотреть иллюстрации и рассказать, что делает врач, каким медицинским инструментом пользу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Н.К. Крупска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подчеркивая социальный характер детских игр, прежде всего, видела в игре средство расширения впечатлений и представлений об окружающей действительности, связи с нею. «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Для ребят дошкольного возрас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- писала она, - 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игры имеют исключительное значение: игра для них - учеба, игра для них - труд, игра для них - серьезная форма воспитания…Игра для дошкольников - способ познания окружающег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ндивидуальные беседы с деть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уточняющие знания, представления дошкольников по теме «Поликлин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Дидактические игр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Кто что делает?», «Угадай, кто изображён», «Кто нас лечи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Игровые упражн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Болезнь куклы», «Что я чувствую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рослушивание музыкальных произвед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пьеса П.И. Чайковского из  «Детского альбома» - «Кукла заболе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Этические бесед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«Отношение к больному человеку», «Бабушка заболе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00"/>
                </a:solidFill>
                <a:latin typeface="Arial"/>
              </a:rPr>
              <a:t>Изготовление атрибу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мере развития сюжетно-ролевой игры «Поликлиника» у детей появлялась потребность в изготовлении предметов, нужных для медицинских работников. Дети изготавливали из бумаги и картона таблички с названиями кабинетов врачей, медицинские карты, зеркало отоларинголога, градусник, талоны к врачу, рецеп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9" descr="IMG_1681"/>
          <p:cNvPicPr/>
          <p:nvPr/>
        </p:nvPicPr>
        <p:blipFill>
          <a:blip r:embed="rId1"/>
          <a:stretch/>
        </p:blipFill>
        <p:spPr>
          <a:xfrm>
            <a:off x="914400" y="15238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IMG_1689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IMG_1683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IMG_1677"/>
          <p:cNvPicPr/>
          <p:nvPr/>
        </p:nvPicPr>
        <p:blipFill>
          <a:blip r:embed="rId4"/>
          <a:stretch/>
        </p:blipFill>
        <p:spPr>
          <a:xfrm>
            <a:off x="5105520" y="167652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5"/>
          <p:cNvSpPr/>
          <p:nvPr/>
        </p:nvSpPr>
        <p:spPr>
          <a:xfrm>
            <a:off x="235440" y="228600"/>
            <a:ext cx="825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ГОТОВЛЕНИЕ ЗЕРКАЛА ОТОЛАРИНГОЛ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ГРАДУСНИ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ГОТОВЛЕНИЕ ТАБЛИЧЕК С НОМЕРАМИ И НАЗВАНИЯМИ КАБИНЕТОВ ВРАЧ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IMG_1722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IMG_1730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IMG_1731"/>
          <p:cNvPicPr/>
          <p:nvPr/>
        </p:nvPicPr>
        <p:blipFill>
          <a:blip r:embed="rId3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IMG_1721"/>
          <p:cNvPicPr/>
          <p:nvPr/>
        </p:nvPicPr>
        <p:blipFill>
          <a:blip r:embed="rId4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ОТОВЛЕНИЕ МЕДЕЦИНСКИХ КА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MG_1747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IMG_1742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IMG_1740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IMG_1743"/>
          <p:cNvPicPr/>
          <p:nvPr/>
        </p:nvPicPr>
        <p:blipFill>
          <a:blip r:embed="rId4"/>
          <a:stretch/>
        </p:blipFill>
        <p:spPr>
          <a:xfrm>
            <a:off x="5208480" y="3938760"/>
            <a:ext cx="2916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Участие родителей в педагогическом процесс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 ознакомлению детей с окружающим обеспечивало непрерывность этого процесса, и в большей мере формировало опыт эмоционального отношения ребенка к миру в силу близости общения взрослых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повышения уровня педагогической культуры родителей были проведены групповые беседы с родителями для объяснения значения сюжетно-ролевой игры для развития личности дошкольника и способности взаимодействовать с другими люд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и даны рекомендации по проведению экскурсии по детской поликли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так, проведенная работа позволила сделать следующий </a:t>
            </a:r>
            <a:r>
              <a:rPr b="1" lang="ru-RU" sz="3200" spc="-1" strike="noStrike">
                <a:solidFill>
                  <a:srgbClr val="cc0000"/>
                </a:solidFill>
                <a:latin typeface="Arial"/>
              </a:rPr>
              <a:t>вывод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расширение и углубление знаний и представлений детей об окружающем мире повысили интерес детей к совместным играм, создали благоприятную почву для развития сюжета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южетно-ролевая игра «Поликлиника»</a:t>
            </a:r>
            <a:br>
              <a:rPr sz="4000"/>
            </a:br>
            <a:r>
              <a:rPr b="0" lang="ru-RU" sz="4000" spc="-1" strike="noStrike">
                <a:solidFill>
                  <a:srgbClr val="cc0000"/>
                </a:solidFill>
                <a:latin typeface="Arial"/>
              </a:rPr>
              <a:t>Сюжет «Терапев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IMG_1697"/>
          <p:cNvPicPr/>
          <p:nvPr/>
        </p:nvPicPr>
        <p:blipFill>
          <a:blip r:embed="rId1"/>
          <a:stretch/>
        </p:blipFill>
        <p:spPr>
          <a:xfrm>
            <a:off x="4572000" y="25765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" descr="IMG_1700"/>
          <p:cNvPicPr/>
          <p:nvPr/>
        </p:nvPicPr>
        <p:blipFill>
          <a:blip r:embed="rId2"/>
          <a:stretch/>
        </p:blipFill>
        <p:spPr>
          <a:xfrm>
            <a:off x="1019160" y="175248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5" descr="IMG_1698"/>
          <p:cNvPicPr/>
          <p:nvPr/>
        </p:nvPicPr>
        <p:blipFill>
          <a:blip r:embed="rId3"/>
          <a:stretch/>
        </p:blipFill>
        <p:spPr>
          <a:xfrm>
            <a:off x="1017720" y="4191120"/>
            <a:ext cx="291600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Отоларингол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3" descr="IMG_1691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Окулист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IMG_1771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едущим мотивом игр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старшем дошкольном возрасте становится познавательный интерес, проявляющийся в стремлении познать окружающую действи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ние устойчивых познавательных интересов возможно лишь путем расширения детских представлений об окружающей жизни, о труде взрослых, которым дети подражают в своих игр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актике, воспитатели старших групп главным образом разучивают с детьми готовые сюжеты игры, предусмотренные Программой.  Стремятся охватить игрой по заданному сюжету всю группу. Дети не хотят играть самостоятельно в «разученные» игры, но по предложению педагога они их воспроизводят. Это объясняется отсутствием у детей интереса к сюжетам и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дность и примитивность игры отражаются и на коммуникативном развитии детей. Дошкольники, не умеющие играть, не способны содержательно общаться, заниматься совместной деятельностью, не умеют продуктивно разрешать возникающие конфликты. В результате нарастают проявления агрессивности, отчужденности, враждебности по отношению к сверстни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егистратур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MG_1760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южет «Стоматолог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IMG_1650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IMG_1777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0492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Роль воспит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игре бывает разной: он может быть прямым участником игры, советчиком, помощником и т.д. но во всех случаях воспитатель внимательно относясь к замыслам и стремлениям детей, не подавляя их инициативы и самостоятельности, влияет на содержание игр, создает условия для их развертывания, для развития детской изобретательности, творчества. Он помогает детям устанавливать взаимоотношения дружбы и взаимо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огда знания и представления о труде людей, о конкретных действиях, взаимоотношениях оказываются недостаточными, и возникает необходимость их по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бле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каковы пути и методы обогащения представлений об окружающем мире в процессе развития сюжетно-ролевых игр детей подготовительной к школе груп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Цель проек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разработка и апробация комплекса мероприятий по обогащению представлений об окружающем мире, как условие развития сюжетно-ролевых игр детей подготовительной к школе групп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дач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изучить работы и научные исследования по данной проблеме ученых-теоретиков, психологов, педагог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выявить особенности развития сюжетно-ролевых игр детей старшего дошкольного возра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·   разработать и апробировать комплекс мероприятий по обогащению представлений об окружающем мире, как условие развития сюжетно-ролевых игр детей подготовительной к школе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потез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 развитие сюжетно-ролевых игр дошкольников подготовительной к школе группы будет более успешным при следующих услови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Ø   если воспитатель будет активно использовать разнообразные формы и методы работы по обогащению представлений детей об окружающем мир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Ø   если воспитатель будет обучать детей применять, имеющиеся у детей знания об окружающем мире в процессе сюжетно-ролевой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жидаемый результа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Дошкольники, имеющие развитые игровые навыки в соответствии со своим возрастом, будут иметь адекватный уровень развития произвольного внимания, логического мышления, речи, воображения, т. е. адекватный уровень познавательного развития, что является важной предпосылкой готовности к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мотрев проблему развития игровой деятельности в исследованиях отечественных и зарубежных психологов и педагогов, можно сделать вывод, что игра – это основной вид деятельности детей дошкольного возраста, в процессе которой развиваются духовные и физические силы ребенка: его внимание, память, воображение, дисциплинированность, ловкость. Кроме того, игра – это своеобразный, свойственный дошкольному возрасту способ усвоения общественного опы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Особенности развития сюжетно-ролевых игр детей старшего дошкольного возраст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овая деятельность в старшем дошкольном возрасте еще более усложняется. У детей 6-7 лет должно бы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ито умение объединяться в игру, договариваться о последовательности совместных действий, отображать характерные черты игрового образ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держанием детских игр становятся не только режимные моменты, 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 взрослы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собо возрастае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ес к играм с общественной темат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 подготовительной группы должны обдуманно выбирать сюжет игры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мечать ее план, примерную последовательность действ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есть в общих чертах представить изображаемые события. Дети в этом возрасте должны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ределять ро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отя и здесь требуется помощь воспит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шем дошкольном возрасте продолжается обобщение игровых ситуаций; помимо условных и символических действий дети активно используют речевые комментарии. Эти речевые комментарии представляют соб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ловесное замещение, каких – либо собы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ети прибегают к ним, чтобы не нарушать логику развертывания содержани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играх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являются ролевые диало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 помощью которых выражаются отношения между персонажами, устанавливается игровое взаимодействие. Для качества выполнения роли важно отношений к ней ребенка. Поэтому следует иметь в виду, что старшие дошкольники неохотно выполняют роли, которые по их представлениям, не соответствуют их по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этом возрасте сговор на игру не вызывает особых трудностей, потому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объединяются в ней на основе общности и интерес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чных симпат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ледовательно, лучше понимают друг друга, более уступчивы по отношению к партн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ome</dc:creator>
  <dc:description/>
  <dc:language>en-US</dc:language>
  <cp:lastModifiedBy>home</cp:lastModifiedBy>
  <dcterms:modified xsi:type="dcterms:W3CDTF">2017-10-08T10:35:1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