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3B0-2824-434A-932A-A3AF4136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9D1-1DE4-4B3F-B377-D25143BC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BE6-3E4C-4DCE-A0F8-D4BB65A8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C73-5DD8-47CC-BBF9-FA78A4A3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1A7-2070-48EC-8527-37DD198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5AC-186B-4DFE-8A51-779AA7E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022-D6BB-4438-8F47-81D8A69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10C-39DD-40B6-A5BE-500F61AC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A17-C239-41BB-8FEB-6213383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E46-D088-4E75-9AB5-0E682AE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7F2-99FC-4A50-BEEF-2AC9B842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51A-5670-4ACB-BDAE-4246D1D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FEAA-CF33-4B75-9276-0A5EDA307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богащение представлений об окружающем мире через сюжетно-ролевую игру в процессе проект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дготовительн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 разработкой комплекса мероприятий по обогащению представлений об окружающем мире для развития сюжетно-ролевой игры, были проведены наблюдение за процессом сюжетно-ролевой игры детей и беседа с детьми на выявление у детей интереса к иг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выявлено, что игры «Семья», «Детский сад», «Школа», «Больница»  вызывают у детей наибольший интерес, но сюжеты данных игр од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этап проекта был связан с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точнением и обогащением знаний, впечатлений, представлений об окружающей жизни на примере сюжетно-ролевой игры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«Поликлини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определен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мероприя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огащения знаний дете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ску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дицинский каби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тского сада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щение врачей-специал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связи с прохождением диспансеризации перед поступлением в шк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1657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ЕЩЕНИЕ ОКУ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IMG_17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G_171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IMG_171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ЩЕНИЕ ОТОЛОРИНГО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1726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РЕЧИ С ВРАЧАМИ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G_16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MG_161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1634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MG_162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дение экскурсий и встреч способствовало обогащению знаний детей, пробуждало у них любозна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тение художественн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художественных произведений о врачах, пояснения взрослых помогают детям осмыслить роль врачей в жизни людей, понять, что это одна из самых почетных и ответственных профессий на земле.  Обсуждение отрывков произведений. способствовало появлению у детей сочувствия, сопереживания, пробуждению интереса дошкольников к труду вр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ПИСОК ПРОИЗВЕ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Туричин «Человек заболе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Маяковский «Кем бы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сеева «Просто стар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. Сегель «Как я был мам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Придворов «Доктор Ва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Кардашова «Наш докт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ставление детьми рассказ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темы, связанные с наблюдением за работой врачей поликлиники: «Мой участковый врач», «Медицинская сестра», «Я хочу стать врачом», рассказы о врачах специа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цессе рассказывания актуализировались детские представления, усиливалась работа воображения, возникали творческие игровые замыслы, совершенствовалась речь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Беседы-рассказы с использованием иллюстратив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ети осознали профессиональную роль врача, им было предложено рассмотреть иллюстрации и рассказать, что делает врач, каким медицинским инструментом поль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.К. Круп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черкивая социальный характер детских игр, прежде всего, видела в игре средство расширения впечатлений и представлений об окружающей действительности, связи с нею. «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ля ребят дошкольно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- писала она, -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гры имеют исключительное значение: игра для них - учеба, игра для них - труд, игра для них - серьезная форма воспитания…Игра для дошкольников - способ познания окружаю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ндивидуальные беседы с деть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уточняющие знания, представления дошкольников по теме «Поликлин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идактические иг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Кто что делает?», «Угадай, кто изображён», «Кто нас лечи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гров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Болезнь куклы», «Что я чувству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рослушивание музыкальных произвед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ьеса П.И. Чайковского из  «Детского альбома» - «Кукла заболе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Этические бес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тношение к больному человеку», «Бабушка заболе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Изготовление атрибу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азвития сюжетно-ролевой игры «Поликлиника» у детей появлялась потребность в изготовлении предметов, нужных для медицинских работников. Дети изготавливали из бумаги и картона таблички с названиями кабинетов врачей, медицинские карты, зеркало отоларинголога, градусник, талоны к врачу, рецеп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IMG_1681"/>
          <p:cNvPicPr/>
          <p:nvPr/>
        </p:nvPicPr>
        <p:blipFill>
          <a:blip r:embed="rId1"/>
          <a:stretch/>
        </p:blipFill>
        <p:spPr>
          <a:xfrm>
            <a:off x="914400" y="15238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MG_1689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IMG_168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MG_1677"/>
          <p:cNvPicPr/>
          <p:nvPr/>
        </p:nvPicPr>
        <p:blipFill>
          <a:blip r:embed="rId4"/>
          <a:stretch/>
        </p:blipFill>
        <p:spPr>
          <a:xfrm>
            <a:off x="5105520" y="167652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5"/>
          <p:cNvSpPr/>
          <p:nvPr/>
        </p:nvSpPr>
        <p:spPr>
          <a:xfrm>
            <a:off x="235440" y="22860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ЛЕНИЕ ЗЕРКАЛА ОТОЛАРИНГ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РАДУС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Е ТАБЛИЧЕК С НОМЕРАМИ И НАЗВАНИЯМИ КАБИНЕТОВ ВР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G_172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IMG_173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IMG_173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MG_1721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ОТОВЛЕНИЕ МЕДЕЦИНСКИ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MG_174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IMG_1742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MG_174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MG_1743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частие родителей в педагогическом процес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ознакомлению детей с окружающим обеспечивало непрерывность этого процесса, и в большей мере формировало опыт эмоционального отношения ребенка к миру в силу близости общения взрослых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повышения уровня педагогической культуры родителей были проведены групповые беседы с родителями для объяснения значения сюжетно-ролевой игры для развития личности дошкольника и способности взаимодействовать с 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даны рекомендации по проведению экскурсии по детской поликли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проведенная работа позволила сделать следующий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асширение и углубление знаний и представлений детей об окружающем мире повысили интерес детей к совместным играм, создали благоприятную почву для развития сюжета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южетно-ролевая игра «Поликлиника»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южет «Терапев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IMG_1697"/>
          <p:cNvPicPr/>
          <p:nvPr/>
        </p:nvPicPr>
        <p:blipFill>
          <a:blip r:embed="rId1"/>
          <a:stretch/>
        </p:blipFill>
        <p:spPr>
          <a:xfrm>
            <a:off x="4572000" y="2576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IMG_1700"/>
          <p:cNvPicPr/>
          <p:nvPr/>
        </p:nvPicPr>
        <p:blipFill>
          <a:blip r:embed="rId2"/>
          <a:stretch/>
        </p:blipFill>
        <p:spPr>
          <a:xfrm>
            <a:off x="1019160" y="17524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IMG_1698"/>
          <p:cNvPicPr/>
          <p:nvPr/>
        </p:nvPicPr>
        <p:blipFill>
          <a:blip r:embed="rId3"/>
          <a:stretch/>
        </p:blipFill>
        <p:spPr>
          <a:xfrm>
            <a:off x="1017720" y="419112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Отоларингол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IMG_1691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Окулис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G_1771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едущим мотивом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аршем дошкольном возрасте становится познавательный интерес, проявляющийся в стремлении познать окружающую действ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стойчивых познавательных интересов возможно лишь путем расширения детских представлений об окружающей жизни, о труде взрослых, которым дети подражают в своих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актике, воспитатели старших групп главным образом разучивают с детьми готовые сюжеты игры, предусмотренные Программой.  Стремятся охватить игрой по заданному сюжету всю группу. Дети не хотят играть самостоятельно в «разученные» игры, но по предложению педагога они их воспроизводят. Это объясняется отсутствием у детей интереса к сюжетам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дность и примитивность игры отражаются и на коммуникативном развитии детей. Дошкольники, не умеющие играть, не способны содержательно общаться, заниматься совместной деятельностью, не умеют продуктивно разрешать возникающие конфликты. В результате нарастают проявления агрессивности, отчужденности, враждебности по отношению к сверст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гистрату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_1760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Стоматол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IMG_165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MG_1777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оль воспит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игре бывает разной: он может быть прямым участником игры, советчиком, помощником и т.д. но во всех случаях воспитатель внимательно относясь к замыслам и стремлениям детей, не подавляя их инициативы и самостоятельности, влияет на содержание игр, создает условия для их развертывания, для развития детской изобретательности, творчества. Он помогает детям устанавливать взаимоотношения дружбы и взаимо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знания и представления о труде людей, о конкретных действиях, взаимоотношениях оказываются недостаточными, и возникает необходимость их по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овы пути и методы обогащения представлений об окружающем мире в процессе развития сюжетно-ролевых игр детей подготовительной к школе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зработка и апробация комплекса мероприятий по обогащению представлений об окружающем мире, как условие развития сюжетно-ролевых игр детей подготовительной к школе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изучить работы и научные исследования по данной проблеме ученых-теоретиков, психологов,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выявить особенности развития сюжетно-ролевых игр детей старшего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разработать и апробировать комплекс мероприятий по обогащению представлений об окружающем мире, как условие развития сюжетно-ролевых игр детей подготовительной к школе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развитие сюжетно-ролевых игр дошкольников подготовительной к школе группы будет более успешным при следующих услов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Ø   если воспитатель будет активно использовать разнообразные формы и методы работы по обогащению представлений детей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Ø   если воспитатель будет обучать детей применять, имеющиеся у детей знания об окружающем мире в процессе сюжетно-ролевой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школьники, имеющие развитые игровые навыки в соответствии со своим возрастом, будут иметь адекватный уровень развития произвольного внимания, логического мышления, речи, воображения, т. е. адекватный уровень познавательного развития, что является важной предпосылкой готовности к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в проблему развития игровой деятельности в исследованиях отечественных и зарубежных психологов и педагогов, можно сделать вывод, что игра – это основной вид деятельности детей дошкольного возраста, в процессе которой развиваются духовные и физические силы ребенка: его внимание, память, воображение, дисциплинированность, ловкость. Кроме того, игра – это своеобразный, свойственный дошкольному возрасту способ усвоения обществ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собенности развития сюжетно-ролевых игр детей старшего дошкольного возра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 в старшем дошкольном возрасте еще более усложняется. У детей 6-7 лет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о умение объединяться в игру, договариваться о последовательности совместных действий, отображать характерные черты игрового образ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анием детских игр становятся не только режимные моменты, 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 взросл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собо возраст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 к играм с общественной 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 подготовительной группы должны обдуманно выбирать сюжет игры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ечать ее план, примерную последовательность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в общих чертах представить изображаемые события. Дети в этом возрасте долж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ять ро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отя и здесь требуется помощь воспит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шем дошкольном возрасте продолжается обобщение игровых ситуаций; помимо условных и символических действий дети активно используют речевые комментарии. Эти речевые комментарии представляют соб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замещение, каких – либо собы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ети прибегают к ним, чтобы не нарушать логику развертывания содерж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гр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ются ролевые диало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ых выражаются отношения между персонажами, устанавливается игровое взаимодействие. Для качества выполнения роли важно отношений к ней ребенка. Поэтому следует иметь в виду, что старшие дошкольники неохотно выполняют роли, которые по их представлениям, не соответствуют их п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возрасте сговор на игру не вызывает особых трудностей, потому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бъединяются в ней на основе общности и интере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х симпа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ледовательно, лучше понимают друг друга, более уступчивы по отношению к партн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7-10-08T10:35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