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179D7-9636-4CD9-B417-89F9B258B7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8FA25-0261-4F22-BEFE-6EB4C88F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6DCA4-E919-47AB-9E4B-D988ED83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0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08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943B2-F365-4E5C-9B48-4232A01329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B1297B-2C93-4B06-9000-C4681B730C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6F22F-CAAF-4952-8212-2C924E13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658B5-D50C-46CD-B733-BBDFD9A2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026C0-0FCD-4FA5-B2D6-F6E09AE6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1C621-F4F1-4408-8C43-EF6DE78E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820AA-A9CD-40FF-A593-42D84A9A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5F4F5E-9956-4E4D-8111-6F0A921E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D5B91-571D-4371-BFB8-D72B7F8D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5FE39-127A-4F2F-BB4A-4A4DE73C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A2B90-75E9-4277-846D-C2903C3E0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020FE-20DB-42EC-BF30-A902C323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2E594-EEB0-4F5A-931D-B283AAB8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0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09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08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CB1508-3ADE-4960-BD3E-5F5224E2B4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B4D39-4D87-454D-90ED-57B9D0B1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092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50800" y="190620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104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092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50800" y="4162680"/>
            <a:ext cx="2513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0C385-83A4-49E9-81FB-A495B803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EE0C9-DE78-4D6F-B5CE-6EFA8369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502920"/>
            <a:ext cx="780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2A464-A514-483B-91DC-566A4D6EA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5CDFE-0E3D-4BB7-9312-564609DD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16268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C6E19-B4C1-469C-B74E-4F507B85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906200"/>
            <a:ext cx="3809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040" y="4162680"/>
            <a:ext cx="780732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01326-B179-4DF4-AD51-B674595F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a8c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6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680BEC-A3DC-4973-9B98-8B1981B4DFCD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a8c6d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76916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16.1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048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9851067-E518-4733-9F9E-521B0A02C88B}" type="slidenum">
              <a:rPr b="0" lang="ru-RU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1"/>
          <p:cNvSpPr/>
          <p:nvPr/>
        </p:nvSpPr>
        <p:spPr>
          <a:xfrm>
            <a:off x="368280" y="1717560"/>
            <a:ext cx="877572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040" y="5029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842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95280" y="0"/>
            <a:ext cx="84978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3924360" y="0"/>
            <a:ext cx="521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796000" y="0"/>
            <a:ext cx="4680000" cy="6858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0" y="-9360"/>
            <a:ext cx="5796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Волшебство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458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856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468360" y="0"/>
            <a:ext cx="799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Римма Андреевна</dc:creator>
  <dc:description/>
  <dc:language>en-US</dc:language>
  <cp:lastModifiedBy>Римма Андреевна</cp:lastModifiedBy>
  <dcterms:modified xsi:type="dcterms:W3CDTF">2017-10-07T22:40:21Z</dcterms:modified>
  <cp:revision>36</cp:revision>
  <dc:subject/>
  <dc:title>Освещают ночь огнём Было, чтоб светло как днём, От зари и до зари Ярко светят … (фонари)</dc:title>
</cp:coreProperties>
</file>