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6EEE-5D86-473F-9B76-F8481307E7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41A6-12A5-4BB4-A56A-50CF687F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399D-4B90-4042-AB8D-6F197E20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2506-962F-4878-B0A6-9AE2F2044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6D8C0-5306-4485-A63E-3201D10AF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CE5A1-E581-4575-882B-8A24EC15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B1088-7D4E-46DE-AB2C-A2B95DD0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4F069-749A-426E-9BBF-2AD4AFEE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79B18-E39D-4BDC-8388-736F21B9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0BC9C-A4BC-41FE-922F-D5BFB243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B6462-8F4A-48CB-A2B9-1A7787FD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9A40-C14C-4DBA-91A7-38743671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126CF-0F2B-4BC1-BD1B-2369D798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5E39F-1E3F-4DD7-9C04-9024C35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946FC-9B33-4C70-8527-75AC4B3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D49E9-ED20-4BE9-9425-B5C53C0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D95E8-96C6-4770-B419-5133605DF7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01A6-F33A-48B7-8CE9-1B517D5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33F7-7139-494A-BAB8-6D889D25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B074-17A8-4701-B38A-0A62167F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756A-2E4C-4E77-99BA-75B60647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B26E-AB98-43C4-922E-572C4F81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A5C8-6EEC-4C0A-8684-0BCE7043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6732-4EA5-4A6C-AE84-F9C82504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a8c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251D10-ED0C-4859-BDB8-B97A92BEA91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a8c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16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04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6CB2FE-8ACE-4711-BDE9-18354BA5C095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796000" y="0"/>
            <a:ext cx="4680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-9360"/>
            <a:ext cx="5796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Волшебство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45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79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имма Андреевна</dc:creator>
  <dc:description/>
  <dc:language>en-US</dc:language>
  <cp:lastModifiedBy>Римма Андреевна</cp:lastModifiedBy>
  <dcterms:modified xsi:type="dcterms:W3CDTF">2017-10-07T22:40:21Z</dcterms:modified>
  <cp:revision>36</cp:revision>
  <dc:subject/>
  <dc:title>Освещают ночь огнём Было, чтоб светло как днём, От зари и до зари Ярко светят … (фонари)</dc:title>
</cp:coreProperties>
</file>