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33EC-E906-4194-AD05-2D478047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9A32-CBCA-4E50-8D94-C863533C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9848-F6F0-4733-BC21-C00BAF96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804-DC01-434A-8DEF-C5E78174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4F7D-F861-4665-8774-38138BA3C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F288-CB06-4ED5-8979-EDB01760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D4E6-0F00-4940-BB76-CAE93620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34E7-8E60-4676-8ACA-DCD83C7A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80F6-C9DA-4058-A73D-B68DD733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8C4D-9286-45EA-A859-7F9EC05F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0ED8-6DDC-43C9-8684-E4A9D43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682-9009-420E-ACC6-F1A30268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AFDE-6C1C-4D62-8FBA-D6129F96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A4C9F-4D8B-46E4-B246-E58BD41F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A5C6-1053-4129-B046-EB020055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A55E-98D7-43F6-BE2A-A9C56478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54F8-EFBC-4FE1-9876-2DE2E776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49CF5-0216-4CBB-8ACA-46C33642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AB8C9-9268-40C2-A160-7C30453CB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54783-F7AA-4D81-A678-1E879BE6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733DE-F7F7-429B-94BA-A86B6469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76930-DEFD-426D-B56A-DA67CEB2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952C-5BE3-49FF-9076-DD04355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D725E-7602-4450-92BF-1DC762AA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DAE85-63A0-491F-8AD8-5DCAA164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BFF5B-A17C-413C-978C-212D6EA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D6DB3-8505-4674-A7C3-1AFC664F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BFCCF-1A44-4FB3-A990-CA79CF6A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96064-7DCD-410C-8153-565FBF60E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3D39F-B87A-4AD0-BBCB-3BE37102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B5D-B6C4-4DE3-AFDB-809AA0FB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E7C-E705-46AC-8C25-7A92363D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9CC-31D9-4724-9EDD-7F99860A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DB87-865E-4B82-841D-319E2375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7889-1176-4D7C-B5B1-7F828D04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7B3-F08A-474B-93B8-4E05EBF4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920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8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17A7ED5-6C6C-4340-87DD-D42163700E84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0960" cy="18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20E4BD-62AF-467B-BC3E-BFA7F5424C99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6A9D55-A700-42F7-BCE2-959E35C9BD7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АМАЯ ПОЛЕЗНАЯ ВОД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590920" y="4800240"/>
            <a:ext cx="632448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Работу выполнил ученик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4 «Б» класса ГБОУ СОШ № №399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Байрамов Файяз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Руководитель: Сушкова И.А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сква 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ЧТО МЫ ПЬЕМ, И ПОЧЕМУ ЭТО НЕЛЬЗЯ ПИТЬ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40000" y="980640"/>
            <a:ext cx="4824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ду из под крана. Она содержит большое количество хлора. Хлор убивает все живое. При кипячении хлор не уничтожается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Воду из-под фильтра, отслужившего свой срок. Картриджи фильтров имеют свой срок службы. Фильтры, как правило, не улавливают хлор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10040" indent="-307440">
              <a:lnSpc>
                <a:spcPct val="90000"/>
              </a:lnSpc>
              <a:spcBef>
                <a:spcPts val="476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Газированную воду. Воду газируют углекислотой для того, чтобы она дольше хранилась. При длительном использовании закисляется кровь. Это создает условия для развития раковых заболевани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2"/>
          <a:stretch/>
        </p:blipFill>
        <p:spPr>
          <a:xfrm>
            <a:off x="179280" y="134136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31040" cy="93636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Мой небольшой опыт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еня заинтересовал  вопрос: «Какая вода закипает быстрее: сырая, кипячёная или минеральная?»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Я думал, что образцы воды закипают за разное количество времени  при равных условия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Мои наблюдения: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Образцы закипели за разное время. Сырая вода закипела раньше (3мин.46сек.), чем кипячёная (5мин. 26сек.) и минеральная (3мин.54сек.) при равных условиях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Сырая вода закипела раньше потому,  что она насыщена кислородом и поэтому хорошо кипит. В кипячёной и минеральной воде пузырьков воздуха очень мало. Они плохо поднимаются со дна кастрюльки, вода плохо кипит. Воздух необходим для дыхания растениям. Его много в сырой воде и  мало в кипячёной и минеральной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АКОЙ ДОЛЖНА БЫТЬ ПИТЬЕВАЯ ВОДА?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601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Хорошая питьевая вода должна быть обязательно чистой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Температура воды не должна быть очень высокой или низкой. Лучше, если это будет комнатная температура - 18-20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Питьевая вода не должна иметь примеси хлора и других токсических веществ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1200">
              <a:spcBef>
                <a:spcPts val="524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Я могу сказать, чтобы вода приносила пользу, ее необходимо очистить от всяких вредных примесей и доставить чистой человеку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-331200">
              <a:spcBef>
                <a:spcPts val="524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Я рекомендую полностью заменить жесткую и загрязненную воду на очищенную, фильтрованную воду. Вода, которую мы покупаем в бутылках, должна быть обязательно не газированной и без различных добавок. Газированная вода вредна для организма. Ко всему этому не вся продаваемая вода действительно чистая и отвечает нормам чистой воды. Поэтому если покупать такую воду нужно быть внимательным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52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ЧИСТАЯ ВОДА-ЗАЛОГ ЗДОРОВЬЯ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И 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     ДОЛГОЛЕТИЯ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СПАСИБО</a:t>
            </a:r>
            <a:br>
              <a:rPr sz="7100"/>
            </a:b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 ЗА</a:t>
            </a:r>
            <a:br>
              <a:rPr sz="7100"/>
            </a:br>
            <a:r>
              <a:rPr b="1" lang="ru-RU" sz="7100" spc="-1" strike="noStrike">
                <a:solidFill>
                  <a:srgbClr val="e5ffff"/>
                </a:solidFill>
                <a:latin typeface="Tahoma"/>
              </a:rPr>
              <a:t>   ВНИМАНИЕ!!!</a:t>
            </a:r>
            <a:endParaRPr b="0" lang="en-US" sz="71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Для человека по значимости вода занимает второе место после кислорода. Без неё наш организм не может существовать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Вода помогает пищеварению, кровообращению, выводу шлаков  и усвоению витаминов. Вода нужна для поддержания нормальной температуры человеческого тела. В наше время существует проблемы качественной питьевой воды. 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64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Tahoma"/>
              </a:rPr>
              <a:t>Человеку необходимо знать, какая питьевая вода хорошо влияет на организм, а какая ему вредна.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Ознакомиться с качеством питьевой воды и ее влиянием на процессы жизнедеятельности человек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431640" indent="-3236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снить, какой вид питьевой воды самый полезный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64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вить влияние разных видов воды на живые организмы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Определить, какая вода самая полезная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вить способы очистки воды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-60804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65000"/>
              <a:buFont typeface="Symbol" charset="2"/>
              <a:buChar char="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Tahoma"/>
              </a:rPr>
              <a:t>Выяснить какое влияние оказывает качество воды на здоровье человека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608040" indent="0">
              <a:spcBef>
                <a:spcPts val="64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Гипотеза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25240"/>
            <a:ext cx="8229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1640">
              <a:spcBef>
                <a:spcPts val="139"/>
              </a:spcBef>
              <a:spcAft>
                <a:spcPts val="139"/>
              </a:spcAft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 предполагаю, что качество воды оказывает влияние на здоровье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ДА-ЭТО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400500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Вода- одно из самых распространенных на Земле соединений, состоящий из водорода и кислорода. Плохое состояние источников питьевого водоснабжения, плохая очистка- пагубно отражается на состоянии здоровья людей. А что делать, когда в воде содержится множество микрочастиц, таких как железо, калий, магний, при высоком содержании которых возникают многочисленные заболевания? У меня нет уверенности, что вода, которую мы пьем, действительно 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100" spc="-1" strike="noStrike">
                <a:solidFill>
                  <a:srgbClr val="ffffff"/>
                </a:solidFill>
                <a:latin typeface="Tahoma"/>
              </a:rPr>
              <a:t>чистая</a:t>
            </a:r>
            <a:r>
              <a:rPr b="0" lang="en-US" sz="21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MP900400015[1]"/>
          <p:cNvPicPr/>
          <p:nvPr/>
        </p:nvPicPr>
        <p:blipFill>
          <a:blip r:embed="rId1"/>
          <a:stretch/>
        </p:blipFill>
        <p:spPr>
          <a:xfrm>
            <a:off x="250920" y="1197000"/>
            <a:ext cx="871380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да в организме человека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5720" indent="-304200">
              <a:spcBef>
                <a:spcPts val="499"/>
              </a:spcBef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да нужна везде – в быту, сельском хозяйстве и промышленности. Человек может прожить без пищи 3-4 недели, а без воды – лишь несколько дней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05720" indent="-30420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Насколько важна вода свидетельствует тот факт, что её содержание в различных органах составляет 70-90 %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405720" indent="-304200">
              <a:spcBef>
                <a:spcPts val="139"/>
              </a:spcBef>
              <a:spcAft>
                <a:spcPts val="139"/>
              </a:spcAft>
              <a:buClr>
                <a:srgbClr val="00cc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ода составляет основу нашего тела, ребенок в детстве более насыщен водой, и старость, в смысле биологии, это потеря влаги. Человек 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высыхает</a:t>
            </a: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»</a:t>
            </a: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 и умирает. Вода служит для движения жизненной энергии в нашем организме. При помощи этой энергии мы и живём. Эта энергия в воде и есть сама ЖИЗНЬ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05720" indent="0">
              <a:spcBef>
                <a:spcPts val="139"/>
              </a:spcBef>
              <a:spcAft>
                <a:spcPts val="139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40572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остав вод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325240"/>
            <a:ext cx="480060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По санитарным нормам любая вода, которая течёт из крана , должно отвечать стандартам питьевой воды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08520" indent="-307440">
              <a:spcBef>
                <a:spcPts val="499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ahoma"/>
              </a:rPr>
              <a:t>Мало кто в наши дни сомневается, что вода, которую мы пьём и используем в быту, нуждается в дополнительной очистк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751360" y="2506680"/>
            <a:ext cx="1830600" cy="30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пособы очистки воды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4089240"/>
            <a:ext cx="822960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298440" indent="-297000">
              <a:spcBef>
                <a:spcPts val="601"/>
              </a:spcBef>
              <a:buClr>
                <a:srgbClr val="ffffff"/>
              </a:buClr>
              <a:buSzPct val="65000"/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Где же взять чистую воду? Существует несколько способов очистки воды – кипячение, отстаивание, очищение активированным углем, фильтрация.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502000" cy="2643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4:20:06Z</dcterms:created>
  <dc:creator>adm</dc:creator>
  <dc:description/>
  <dc:language>en-US</dc:language>
  <cp:lastModifiedBy>adm</cp:lastModifiedBy>
  <cp:lastPrinted>2014-01-09T11:41:55Z</cp:lastPrinted>
  <dcterms:modified xsi:type="dcterms:W3CDTF">2014-01-15T11:16:56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