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CEC-07A6-4939-8BBF-1594CB8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F11-E12F-4979-93B1-13F9177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DE0-646C-409B-91AF-1EE2345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68C-6DE3-4EBB-95D8-535B5E85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E5AE-994B-4EE9-B098-ED4FD95A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2CBD-CF28-4D8E-BACC-CF8884F3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2721-41FF-4978-A9B2-2E4E421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EA1-9289-4FE2-A131-0720BE84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ABBD-7210-4223-96B9-CF9D600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495F-0516-4683-B1AC-6D32E2AC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463A-2CFF-47FF-987C-72DB491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AF1-C36E-4D34-B0EA-818D88E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C95-EB68-4F79-9038-FDEA677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7F3-84C4-47C8-B5BA-F4742F4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7D0-D797-4672-84C7-E38EF62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0CA-EEF3-411B-8151-B128523F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DFD1-E85F-41B8-A3A5-33DE7B2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4D4B-9EC1-4FFF-BC10-EF390C42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F164-FE70-45CC-9249-1A2BCF3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E29F-C986-4A1C-8BB2-C3C6A9D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BB99-0E4B-42AF-9448-0E2CE9A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928D-888B-4ADF-B29C-4ADD528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C39-EA97-47A6-AC85-0FF34BD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57A1-2979-41D4-8A48-4B6B04D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730A-9BFF-4B89-889C-5B6C7D3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D2BC-FA1B-4BAC-B868-FB22D7C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5514-13A3-461D-90B0-5D5C9CE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FE11-1EE9-4D21-B48D-1B914A5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B582-9270-4AA4-9468-5FEBEB06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0FAF-A55D-43D1-A454-DBA5CD6D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356-77B8-4160-A273-F353E48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078-9F54-4EEA-901E-EFE1AB1F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443-7590-45E5-AA21-2F584407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546-0B06-43A8-9368-0DBA0F8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AA3-0CF0-41DC-85DB-C1A6BB6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9EB-2D8A-42D9-830D-B25C955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9A5BA3-3B84-471D-BCD1-1EC3C17335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40AD80-F6B0-43F5-9CD2-0B70450A1C0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92E3C6-145A-4A5E-BDC4-86717E15D7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АЯ ПОЛЕЗНАЯ В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90920" y="4800240"/>
            <a:ext cx="632448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Работу выполнил ученик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 «Б» класса ГБОУ СОШ № №399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Байрамов Файяз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Руководитель: Сушкова И.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ва 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ТО МЫ ПЬЕМ, И ПОЧЕМУ ЭТО НЕЛЬЗЯ ПИТЬ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000" y="980640"/>
            <a:ext cx="482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ду из под крана. Она содержит большое количество хлора. Хлор убивает все живое. При кипячении хлор не уничтожа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ду из-под фильтра, отслужившего свой срок. Картриджи фильтров имеют свой срок службы. Фильтры, как правило, не улавливают хло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азированную воду. Воду газируют углекислотой для того, чтобы она дольше хранилась. При длительном использовании закисляется кровь. Это создает условия для развития раковых заболеван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й небольшой опы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еня заинтересовал  вопрос: «Какая вода закипает быстрее: сырая, кипячёная или минеральная?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Я думал, что образцы воды закипают за разное количество времени  при равных условия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ои наблюдени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бразцы закипели за разное время. Сырая вода закипела раньше (3мин.46сек.), чем кипячёная (5мин. 26сек.) и минеральная (3мин.54сек.) при равных условия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ырая вода закипела раньше потому,  что она насыщена кислородом и поэтому хорошо кипит. В кипячёной и минеральной воде пузырьков воздуха очень мало. Они плохо поднимаются со дна кастрюльки, вода плохо кипит. Воздух необходим для дыхания растениям. Его много в сырой воде и  мало в кипячёной и минеральн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АКОЙ ДОЛЖНА БЫТЬ ПИТЬЕВАЯ ВОДА?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601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Хорошая питьевая вода должна быть обязательно чисто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Температура воды не должна быть очень высокой или низкой. Лучше, если это будет комнатная температура - 18-20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итьевая вода не должна иметь примеси хлора и других токсических веществ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1200">
              <a:spcBef>
                <a:spcPts val="524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Я могу сказать, чтобы вода приносила пользу, ее необходимо очистить от всяких вредных примесей и доставить чистой человеку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524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Я рекомендую полностью заменить жесткую и загрязненную воду на очищенную, фильтрованную воду. Вода, которую мы покупаем в бутылках, должна быть обязательно не газированной и без различных добавок. Газированная вода вредна для организма. Ко всему этому не вся продаваемая вода действительно чистая и отвечает нормам чистой воды. Поэтому если покупать такую воду нужно быть внимательны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52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ИСТАЯ ВОДА-ЗАЛОГ ЗДОРОВЬЯ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И 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ДОЛГОЛЕТИЯ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СПАСИБО</a:t>
            </a:r>
            <a:br>
              <a:rPr sz="7100"/>
            </a:b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 ЗА</a:t>
            </a:r>
            <a:br>
              <a:rPr sz="7100"/>
            </a:b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   ВНИМАНИЕ!!!</a:t>
            </a:r>
            <a:endParaRPr b="0" lang="en-US" sz="71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Для человека по значимости вода занимает второе место после кислорода. Без неё наш организм не может существовать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ода помогает пищеварению, кровообращению, выводу шлаков  и усвоению витаминов. Вода нужна для поддержания нормальной температуры человеческого тела. В наше время существует проблемы качественной питьевой воды.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Человеку необходимо знать, какая питьевая вода хорошо влияет на организм, а какая ему вредна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Ознакомиться с качеством питьевой воды и ее влиянием на процессы жизнедеятельности человек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снить, какой вид питьевой воды самый полезны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вить влияние разных видов воды на живые организмы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Определить, какая вода самая полезная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вить способы очистки воды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снить какое влияние оказывает качество воды на здоровье человек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139"/>
              </a:spcBef>
              <a:spcAft>
                <a:spcPts val="139"/>
              </a:spcAft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предполагаю, что качество воды оказывает влияние на здоровье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ДА-Э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ода- одно из самых распространенных на Земле соединений, состоящий из водорода и кислорода. Плохое состояние источников питьевого водоснабжения, плохая очистка- пагубно отражается на состоянии здоровья людей. А что делать, когда в воде содержится множество микрочастиц, таких как железо, калий, магний, при высоком содержании которых возникают многочисленные заболевания? У меня нет уверенности, что вода, которую мы пьем, действительно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чистая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MP900400015[1]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да в организме челове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5720" indent="-304200">
              <a:spcBef>
                <a:spcPts val="49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да нужна везде – в быту, сельском хозяйстве и промышленности. Человек может прожить без пищи 3-4 недели, а без воды – лишь несколько дней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05720" indent="-30420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асколько важна вода свидетельствует тот факт, что её содержание в различных органах составляет 70-90 %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05720" indent="-30420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да составляет основу нашего тела, ребенок в детстве более насыщен водой, и старость, в смысле биологии, это потеря влаги. Человек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ысыхает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умирает. Вода служит для движения жизненной энергии в нашем организме. При помощи этой энергии мы и живём. Эта энергия в воде и есть сама ЖИЗНЬ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0572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0572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остав 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325240"/>
            <a:ext cx="4800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 санитарным нормам любая вода, которая течёт из крана , должно отвечать стандартам питьевой воды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Мало кто в наши дни сомневается, что вода, которую мы пьём и используем в быту, нуждается в дополнительной очистк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51360" y="2506680"/>
            <a:ext cx="1830600" cy="30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пособы очистки воды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08924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Где же взять чистую воду? Существует несколько способов очистки воды – кипячение, отстаивание, очищение активированным углем, фильтрация.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50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4:20:06Z</dcterms:created>
  <dc:creator>adm</dc:creator>
  <dc:description/>
  <dc:language>en-US</dc:language>
  <cp:lastModifiedBy>adm</cp:lastModifiedBy>
  <cp:lastPrinted>2014-01-09T11:41:55Z</cp:lastPrinted>
  <dcterms:modified xsi:type="dcterms:W3CDTF">2014-01-15T11:16:5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