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60B-F7A8-4C47-81C7-E6956658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45F-ACE3-4429-8D02-D7A811A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FF2-1BAA-4506-8A68-817BBDFC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DD6-FBDE-4E1D-991D-D6EF92FD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973-803D-4CE3-BE6D-1B3455C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C3F-82AC-47F9-8911-9007B5DE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578-0F17-485C-A2A0-13C6FD1B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F1D-0AD6-4DC9-8639-C636F35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446-E000-4C30-954E-4CD45C1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C5D-BED9-43D9-884F-AB8C7D5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14E-566A-46CE-80E5-0A61DF3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475-4CC7-44EC-9E24-37ED14D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0A6-BA0C-45BC-AE74-DE731E681A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а: Сидорова Мария 10Б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: Кушниковская Г.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8800" spc="-1" strike="noStrike">
                <a:solidFill>
                  <a:srgbClr val="000066"/>
                </a:solidFill>
                <a:latin typeface="Times New Roman"/>
              </a:rPr>
              <a:t>Гормон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налин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мон мозгового вещества надпочечников, содержащийся в различных тканях и орг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formula-adrenalin"/>
          <p:cNvPicPr/>
          <p:nvPr/>
        </p:nvPicPr>
        <p:blipFill>
          <a:blip r:embed="rId2"/>
          <a:stretch/>
        </p:blipFill>
        <p:spPr>
          <a:xfrm>
            <a:off x="1066680" y="1905120"/>
            <a:ext cx="5267520" cy="14000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71440" y="19461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нал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81" name="Picture 6" descr="адреналин"/>
          <p:cNvPicPr/>
          <p:nvPr/>
        </p:nvPicPr>
        <p:blipFill>
          <a:blip r:embed="rId3"/>
          <a:stretch/>
        </p:blipFill>
        <p:spPr>
          <a:xfrm>
            <a:off x="2438280" y="3429000"/>
            <a:ext cx="3962520" cy="3079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птидные горм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-381240"/>
            <a:ext cx="784836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вазопрессин"/>
          <p:cNvPicPr/>
          <p:nvPr/>
        </p:nvPicPr>
        <p:blipFill>
          <a:blip r:embed="rId2"/>
          <a:stretch/>
        </p:blipFill>
        <p:spPr>
          <a:xfrm>
            <a:off x="914400" y="1752480"/>
            <a:ext cx="4724280" cy="1476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963960" y="19051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зопресс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58880" y="838080"/>
            <a:ext cx="83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зопрессин- пептидный гормон гипофиза, имеющий более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ное строение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18720" y="3352680"/>
            <a:ext cx="74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юкагон – пептидный гормон поджелудочной железы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88" name="Picture 8" descr="глюкагон"/>
          <p:cNvPicPr/>
          <p:nvPr/>
        </p:nvPicPr>
        <p:blipFill>
          <a:blip r:embed="rId3"/>
          <a:stretch/>
        </p:blipFill>
        <p:spPr>
          <a:xfrm>
            <a:off x="1143000" y="4038480"/>
            <a:ext cx="688032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лковые горм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1440" y="990720"/>
            <a:ext cx="868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содержат в молекулах еще большее количество амино-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слотных звеньев, объединенных в одну или несколько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пептидных цепей.К белковым гормонам относится инсу-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, функция которых оказыв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е влияние на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практически во всех ткан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действие инсулина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снижении концентр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91" name="Picture 4" descr="кристаллы инсулина"/>
          <p:cNvPicPr/>
          <p:nvPr/>
        </p:nvPicPr>
        <p:blipFill>
          <a:blip r:embed="rId1"/>
          <a:stretch/>
        </p:blipFill>
        <p:spPr>
          <a:xfrm>
            <a:off x="1143000" y="3276720"/>
            <a:ext cx="46483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019920" y="40384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ы инсулина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матотроп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02800" y="838080"/>
            <a:ext cx="841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мон рост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ивает синтез белка и тормозит его распад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акже способствует снижению отложения подкожног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жи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ю сгорания жира и увеличению соотношения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ой массы к жировой. Кроме того, соматотропин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имает участие в регуляции углеводного обмена —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вызывает выраженное повышение уровн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юкозы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ров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95" name="Picture 5" descr="соматотропный гормон"/>
          <p:cNvPicPr/>
          <p:nvPr/>
        </p:nvPicPr>
        <p:blipFill>
          <a:blip r:embed="rId2"/>
          <a:stretch/>
        </p:blipFill>
        <p:spPr>
          <a:xfrm>
            <a:off x="2743200" y="3048120"/>
            <a:ext cx="5334120" cy="3619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31840" y="434340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матотропный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м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рмоны поджелудочной желе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9440" y="887400"/>
            <a:ext cx="705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Поджелудочная железа 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является железой смешанной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екреции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, функция которой 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аключается в поддержании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адекватного гомеостаза глюкозы в организме. К эндокринным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аболеваниям поджелудочной железы относят сахарный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иабет, функциональный или органический гиперинсулинизм,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пухоли.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 Гормоны поджелудочной железы –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уже известный инсулин и глюкагон.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99" name="Picture 4" descr="Insulin-crystalsedm3"/>
          <p:cNvPicPr/>
          <p:nvPr/>
        </p:nvPicPr>
        <p:blipFill>
          <a:blip r:embed="rId2"/>
          <a:stretch/>
        </p:blipFill>
        <p:spPr>
          <a:xfrm>
            <a:off x="5029200" y="312408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346480" y="403848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ул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аго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200px-Glucagon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2743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843120" y="1066680"/>
            <a:ext cx="76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юкаг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белковый гормон поджелудочной железы.</a:t>
            </a:r>
            <a:r>
              <a:rPr b="0" lang="ru-RU" sz="2400" spc="-1" strike="noStrike">
                <a:solidFill>
                  <a:srgbClr val="cc22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химическому строению глюкагон является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птидным гормоном.Участвует  в регуляции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ного обмена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рмоны щитовид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990720"/>
            <a:ext cx="803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итовидная железа выделяет такие гормоны как: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рокс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иодтиронин 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реокальцитонин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 гормоны регулируют процессы обмена жиров, белков и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ов, функцию сердечно-сосудистой системы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удочно- кишечного тракта, психическую и половую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, ускоряют рост организма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06" name="Picture 5" descr="img_2"/>
          <p:cNvPicPr/>
          <p:nvPr/>
        </p:nvPicPr>
        <p:blipFill>
          <a:blip r:embed="rId1"/>
          <a:stretch/>
        </p:blipFill>
        <p:spPr>
          <a:xfrm>
            <a:off x="2590920" y="4038480"/>
            <a:ext cx="3962160" cy="274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рмоны надпочеч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838080"/>
            <a:ext cx="844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а надпочечников вырабатывает несколько видов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ов: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окортикоиды (альдостерон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тикостерон), регулирующие минеральный(солевой)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;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юкокортикоиды(кортизон, гидрокортизон)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ющие белковый, углеводный и жировой обмен;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вые гормоны(андрогены, эстрогены, прогестерон)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е регулируют развитие половых органов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09" name="Picture 4" descr="image003"/>
          <p:cNvPicPr/>
          <p:nvPr/>
        </p:nvPicPr>
        <p:blipFill>
          <a:blip r:embed="rId2"/>
          <a:stretch/>
        </p:blipFill>
        <p:spPr>
          <a:xfrm>
            <a:off x="609480" y="3505320"/>
            <a:ext cx="7201080" cy="380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ьдостер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й минералокортикоидный гормон коры надпочечников у человека. Регулирует минеральный обмен в организме: стимулирует задержку ионов Na+ в крови и выведение ионов К+ и Н+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1101145508_tonnel"/>
          <p:cNvPicPr/>
          <p:nvPr/>
        </p:nvPicPr>
        <p:blipFill>
          <a:blip r:embed="rId2"/>
          <a:stretch/>
        </p:blipFill>
        <p:spPr>
          <a:xfrm>
            <a:off x="1600200" y="3124080"/>
            <a:ext cx="4343400" cy="3105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идрокортиз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 наиболее активный из глюкокортикоидов,который стимулирует синтез глюкозы в печени и тем самым повышает её содержание в крови, также ускоряет извлечение жиров из жировой клетчатки. гормон животных и человека, вырабатываемый корой надпочечников (кортикостероид). Участвует в регуляции углеводного, белкового и жирового обмена в организме; стимулирует распад белков и синтез углев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3343"/>
          <p:cNvPicPr/>
          <p:nvPr/>
        </p:nvPicPr>
        <p:blipFill>
          <a:blip r:embed="rId2"/>
          <a:stretch/>
        </p:blipFill>
        <p:spPr>
          <a:xfrm>
            <a:off x="2743200" y="380988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ы - биологически активные органические вещества, которые вырабатываются железами внутренней секреции и регулируют деятельность органов тканей живого организма.</a:t>
            </a:r>
            <a:br>
              <a:rPr sz="2400"/>
            </a:br>
            <a:br>
              <a:rPr sz="6600"/>
            </a:br>
            <a:br>
              <a:rPr sz="6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mage011"/>
          <p:cNvPicPr/>
          <p:nvPr/>
        </p:nvPicPr>
        <p:blipFill>
          <a:blip r:embed="rId1"/>
          <a:stretch/>
        </p:blipFill>
        <p:spPr>
          <a:xfrm>
            <a:off x="2590920" y="2133720"/>
            <a:ext cx="4016160" cy="4724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фи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эндокринная железа, которая располагается на основании мозга и защищена со всех сторон костью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omas-1218797714"/>
          <p:cNvPicPr/>
          <p:nvPr/>
        </p:nvPicPr>
        <p:blipFill>
          <a:blip r:embed="rId2"/>
          <a:stretch/>
        </p:blipFill>
        <p:spPr>
          <a:xfrm>
            <a:off x="1523880" y="2286000"/>
            <a:ext cx="6248520" cy="405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080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10040" y="457200"/>
            <a:ext cx="822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гипофиза: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троль над функцией других эндокринных желез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щитовидной, половых, надпочечников)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троль роста и созревания органов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ординация функций различных органов (таких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 почки, молочные железы, матка).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19" name="Picture 5" descr="350px-Grays_pituitary"/>
          <p:cNvPicPr/>
          <p:nvPr/>
        </p:nvPicPr>
        <p:blipFill>
          <a:blip r:embed="rId2"/>
          <a:stretch/>
        </p:blipFill>
        <p:spPr>
          <a:xfrm>
            <a:off x="1523880" y="2971800"/>
            <a:ext cx="5867640" cy="325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ак, гормоны это вещества необходимые для нормальной жизнедеятельности организма, так как 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недостатке этих веществ в организме возникают различные нарушения, которые могут при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серьезным заболевания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 гормонов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физиологическая а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танционное действие-способность регулировать работу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ое разрушение тка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ерывное продуцирование (регулирование воздействия на работу орган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химическому строению гормоны делят н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роидные (стеори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ы-производные аминокисл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птид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ероид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оиды можно разделить на две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роидные половые горм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строге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дроге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есте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ы коры надпочеч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06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строгены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нские половые гормоны, производимые половыми железами и корой надпочеч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6911096_orig"/>
          <p:cNvPicPr/>
          <p:nvPr/>
        </p:nvPicPr>
        <p:blipFill>
          <a:blip r:embed="rId1"/>
          <a:stretch/>
        </p:blipFill>
        <p:spPr>
          <a:xfrm>
            <a:off x="762120" y="1523880"/>
            <a:ext cx="3504960" cy="275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эстриол"/>
          <p:cNvPicPr/>
          <p:nvPr/>
        </p:nvPicPr>
        <p:blipFill>
          <a:blip r:embed="rId2"/>
          <a:stretch/>
        </p:blipFill>
        <p:spPr>
          <a:xfrm>
            <a:off x="4648320" y="1523880"/>
            <a:ext cx="3962160" cy="2641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952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риол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56" name="Picture 8" descr="эстрон"/>
          <p:cNvPicPr/>
          <p:nvPr/>
        </p:nvPicPr>
        <p:blipFill>
          <a:blip r:embed="rId3"/>
          <a:stretch/>
        </p:blipFill>
        <p:spPr>
          <a:xfrm>
            <a:off x="2895480" y="434340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565440" y="354636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20040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200400" y="449568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77240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рогены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жские половые гормоны, производимые половыми железами и корой надпочеч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testosteron"/>
          <p:cNvPicPr/>
          <p:nvPr/>
        </p:nvPicPr>
        <p:blipFill>
          <a:blip r:embed="rId2"/>
          <a:stretch/>
        </p:blipFill>
        <p:spPr>
          <a:xfrm>
            <a:off x="609480" y="1676520"/>
            <a:ext cx="4275360" cy="3085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279440" y="110808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92160" y="20574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осте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64" name="Picture 7" descr="dihydrotest_msrn"/>
          <p:cNvPicPr/>
          <p:nvPr/>
        </p:nvPicPr>
        <p:blipFill>
          <a:blip r:embed="rId3"/>
          <a:stretch/>
        </p:blipFill>
        <p:spPr>
          <a:xfrm>
            <a:off x="457200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4498200" y="3581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гидротестосте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06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естерон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ские половые гормоны, производимые корой надпочеч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rogesteron"/>
          <p:cNvPicPr/>
          <p:nvPr/>
        </p:nvPicPr>
        <p:blipFill>
          <a:blip r:embed="rId2"/>
          <a:stretch/>
        </p:blipFill>
        <p:spPr>
          <a:xfrm>
            <a:off x="380880" y="1143000"/>
            <a:ext cx="3886200" cy="273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300px-Corticosterone"/>
          <p:cNvPicPr/>
          <p:nvPr/>
        </p:nvPicPr>
        <p:blipFill>
          <a:blip r:embed="rId3"/>
          <a:stretch/>
        </p:blipFill>
        <p:spPr>
          <a:xfrm>
            <a:off x="4800600" y="1143000"/>
            <a:ext cx="3733920" cy="2701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183640" y="990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икосте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1" name="Picture 8" descr="альдостерон"/>
          <p:cNvPicPr/>
          <p:nvPr/>
        </p:nvPicPr>
        <p:blipFill>
          <a:blip r:embed="rId4"/>
          <a:stretch/>
        </p:blipFill>
        <p:spPr>
          <a:xfrm>
            <a:off x="2666880" y="3956040"/>
            <a:ext cx="3810240" cy="290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68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ые аминокисл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tiroksin"/>
          <p:cNvPicPr/>
          <p:nvPr/>
        </p:nvPicPr>
        <p:blipFill>
          <a:blip r:embed="rId2"/>
          <a:stretch/>
        </p:blipFill>
        <p:spPr>
          <a:xfrm>
            <a:off x="838080" y="914400"/>
            <a:ext cx="7944120" cy="152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715000" y="12193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рокс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6" name="Picture 9" descr="112783700"/>
          <p:cNvPicPr/>
          <p:nvPr/>
        </p:nvPicPr>
        <p:blipFill>
          <a:blip r:embed="rId3"/>
          <a:stretch/>
        </p:blipFill>
        <p:spPr>
          <a:xfrm>
            <a:off x="914400" y="4495680"/>
            <a:ext cx="5267160" cy="140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098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адренал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9:04:37Z</dcterms:created>
  <dc:creator>Диана</dc:creator>
  <dc:description/>
  <dc:language>en-US</dc:language>
  <cp:lastModifiedBy>home</cp:lastModifiedBy>
  <dcterms:modified xsi:type="dcterms:W3CDTF">2017-10-08T15:56:30Z</dcterms:modified>
  <cp:revision>52</cp:revision>
  <dc:subject/>
  <dc:title>Гормоны     Гормоны    </dc:title>
</cp:coreProperties>
</file>