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CE58-4764-4F46-B6F6-C6764839E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8E72-4805-4A23-9A68-D6AD1231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F2A-2104-49DD-A758-B5FEDA8B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DF2-D801-4EE7-ADF0-AA09F435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F455-B5E0-4ABB-9B51-A4815106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DE5B-D523-4A95-9350-1E14994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DCF-760D-488D-AAE7-A59BB4C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864-67A1-4BF7-9D04-75BD8C32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68B-51A0-4068-A7A4-AD9D0453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BC9-D686-4E02-A47D-0BEF7CD0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C03-202A-4698-9592-EEF3753B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F9BA-407E-4527-8673-DF49F54A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7CF7-4986-4774-9741-30FAFBB88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1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а: Сидорова Мария 10Б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итель: Кушниковская Г.А.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8800" spc="-1" strike="noStrike">
                <a:solidFill>
                  <a:srgbClr val="000066"/>
                </a:solidFill>
                <a:latin typeface="Times New Roman"/>
              </a:rPr>
              <a:t>Гормоны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реналин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мон мозгового вещества надпочечников, содержащийся в различных тканях и орган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formula-adrenalin"/>
          <p:cNvPicPr/>
          <p:nvPr/>
        </p:nvPicPr>
        <p:blipFill>
          <a:blip r:embed="rId2"/>
          <a:stretch/>
        </p:blipFill>
        <p:spPr>
          <a:xfrm>
            <a:off x="1066680" y="1905120"/>
            <a:ext cx="5267520" cy="14000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71440" y="194616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нал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81" name="Picture 6" descr="адреналин"/>
          <p:cNvPicPr/>
          <p:nvPr/>
        </p:nvPicPr>
        <p:blipFill>
          <a:blip r:embed="rId3"/>
          <a:stretch/>
        </p:blipFill>
        <p:spPr>
          <a:xfrm>
            <a:off x="2438280" y="3429000"/>
            <a:ext cx="3962520" cy="3079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ептидные горм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-381240"/>
            <a:ext cx="784836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4" descr="вазопрессин"/>
          <p:cNvPicPr/>
          <p:nvPr/>
        </p:nvPicPr>
        <p:blipFill>
          <a:blip r:embed="rId2"/>
          <a:stretch/>
        </p:blipFill>
        <p:spPr>
          <a:xfrm>
            <a:off x="914400" y="1752480"/>
            <a:ext cx="4724280" cy="1476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963960" y="190512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зопресс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58880" y="838080"/>
            <a:ext cx="838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азопрессин- пептидный гормон гипофиза, имеющий более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ное строение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918720" y="3352680"/>
            <a:ext cx="74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юкагон – пептидный гормон поджелудочной железы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88" name="Picture 8" descr="глюкагон"/>
          <p:cNvPicPr/>
          <p:nvPr/>
        </p:nvPicPr>
        <p:blipFill>
          <a:blip r:embed="rId3"/>
          <a:stretch/>
        </p:blipFill>
        <p:spPr>
          <a:xfrm>
            <a:off x="1143000" y="4038480"/>
            <a:ext cx="688032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лковые гормон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451440" y="990720"/>
            <a:ext cx="8688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содержат в молекулах еще большее количество амино-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ислотных звеньев, объединенных в одну или несколько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ипептидных цепей.К белковым гормонам относится инсу-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ин, функция которых оказыва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гранное влияние на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практически во всех тканя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действие инсулина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ается в снижении концентраци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люкозы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р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91" name="Picture 4" descr="кристаллы инсулина"/>
          <p:cNvPicPr/>
          <p:nvPr/>
        </p:nvPicPr>
        <p:blipFill>
          <a:blip r:embed="rId1"/>
          <a:stretch/>
        </p:blipFill>
        <p:spPr>
          <a:xfrm>
            <a:off x="1143000" y="3276720"/>
            <a:ext cx="4648320" cy="32544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019920" y="40384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исталлы инсулина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8124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матотропи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802800" y="838080"/>
            <a:ext cx="841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мон роста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ливает синтез белка и тормозит его распад,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также способствует снижению отложения подкожного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жир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ю сгорания жира и увеличению соотношения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ышечной массы к жировой. Кроме того, соматотропин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имает участие в регуляции углеводного обмена —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 вызывает выраженное повышение уровн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люкозы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ров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95" name="Picture 5" descr="соматотропный гормон"/>
          <p:cNvPicPr/>
          <p:nvPr/>
        </p:nvPicPr>
        <p:blipFill>
          <a:blip r:embed="rId2"/>
          <a:stretch/>
        </p:blipFill>
        <p:spPr>
          <a:xfrm>
            <a:off x="2743200" y="3048120"/>
            <a:ext cx="5334120" cy="36194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31840" y="4343400"/>
            <a:ext cx="235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матотропный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орм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рмоны поджелудочной желе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469440" y="887400"/>
            <a:ext cx="705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Поджелудочная железа 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является железой смешанной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с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екреции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, функция которой 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аключается в поддержании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адекватного гомеостаза глюкозы в организме. К эндокринным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заболеваниям поджелудочной железы относят сахарный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диабет, функциональный или органический гиперинсулинизм,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опухоли.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 Гормоны поджелудочной железы – 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</a:rPr>
              <a:t>уже известный инсулин и глюкагон.</a:t>
            </a: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99" name="Picture 4" descr="Insulin-crystalsedm3"/>
          <p:cNvPicPr/>
          <p:nvPr/>
        </p:nvPicPr>
        <p:blipFill>
          <a:blip r:embed="rId2"/>
          <a:stretch/>
        </p:blipFill>
        <p:spPr>
          <a:xfrm>
            <a:off x="5029200" y="3124080"/>
            <a:ext cx="3809880" cy="35244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346480" y="4038480"/>
            <a:ext cx="176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сул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люкагон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4" descr="200px-Glucagon"/>
          <p:cNvPicPr/>
          <p:nvPr/>
        </p:nvPicPr>
        <p:blipFill>
          <a:blip r:embed="rId1"/>
          <a:stretch/>
        </p:blipFill>
        <p:spPr>
          <a:xfrm>
            <a:off x="685800" y="3124080"/>
            <a:ext cx="7696080" cy="27432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"/>
          <p:cNvSpPr/>
          <p:nvPr/>
        </p:nvSpPr>
        <p:spPr>
          <a:xfrm>
            <a:off x="843120" y="1066680"/>
            <a:ext cx="76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юкаго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 — белковый гормон поджелудочной железы.</a:t>
            </a:r>
            <a:r>
              <a:rPr b="0" lang="ru-RU" sz="2400" spc="-1" strike="noStrike">
                <a:solidFill>
                  <a:srgbClr val="cc22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химическому строению глюкагон является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птидным гормоном.Участвует  в регуляции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ного обмена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рмоны щитовидной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желез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914400" y="990720"/>
            <a:ext cx="803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Щитовидная железа выделяет такие гормоны как: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рокс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ииодтиронин 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реокальцитонин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и гормоны регулируют процессы обмена жиров, белков и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глеводов, функцию сердечно-сосудистой системы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лудочно- кишечного тракта, психическую и половую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ятельность, ускоряют рост организма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06" name="Picture 5" descr="img_2"/>
          <p:cNvPicPr/>
          <p:nvPr/>
        </p:nvPicPr>
        <p:blipFill>
          <a:blip r:embed="rId1"/>
          <a:stretch/>
        </p:blipFill>
        <p:spPr>
          <a:xfrm>
            <a:off x="2590920" y="4038480"/>
            <a:ext cx="3962160" cy="2746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1522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ормоны надпочечник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80880" y="838080"/>
            <a:ext cx="844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а надпочечников вырабатывает несколько видов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ов: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ералокортикоиды (альдостерон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тикостерон), регулирующие минеральный(солевой)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мен;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люкокортикоиды(кортизон, гидрокортизон)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гулирующие белковый, углеводный и жировой обмен;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ловые гормоны(андрогены, эстрогены, прогестерон),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торые регулируют развитие половых органов.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09" name="Picture 4" descr="image003"/>
          <p:cNvPicPr/>
          <p:nvPr/>
        </p:nvPicPr>
        <p:blipFill>
          <a:blip r:embed="rId2"/>
          <a:stretch/>
        </p:blipFill>
        <p:spPr>
          <a:xfrm>
            <a:off x="609480" y="3505320"/>
            <a:ext cx="7201080" cy="3806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льдостерон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—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й минералокортикоидный гормон коры надпочечников у человека. Регулирует минеральный обмен в организме: стимулирует задержку ионов Na+ в крови и выведение ионов К+ и Н+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1101145508_tonnel"/>
          <p:cNvPicPr/>
          <p:nvPr/>
        </p:nvPicPr>
        <p:blipFill>
          <a:blip r:embed="rId2"/>
          <a:stretch/>
        </p:blipFill>
        <p:spPr>
          <a:xfrm>
            <a:off x="1600200" y="3124080"/>
            <a:ext cx="4343400" cy="3105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идрокортизон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 наиболее активный из глюкокортикоидов,который стимулирует синтез глюкозы в печени и тем самым повышает её содержание в крови, также ускоряет извлечение жиров из жировой клетчатки. гормон животных и человека, вырабатываемый корой надпочечников (кортикостероид). Участвует в регуляции углеводного, белкового и жирового обмена в организме; стимулирует распад белков и синтез углевод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3" descr="3343"/>
          <p:cNvPicPr/>
          <p:nvPr/>
        </p:nvPicPr>
        <p:blipFill>
          <a:blip r:embed="rId2"/>
          <a:stretch/>
        </p:blipFill>
        <p:spPr>
          <a:xfrm>
            <a:off x="2743200" y="3809880"/>
            <a:ext cx="3809880" cy="254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моны - биологически активные органические вещества, которые вырабатываются железами внутренней секреции и регулируют деятельность органов тканей живого организма.</a:t>
            </a:r>
            <a:br>
              <a:rPr sz="2400"/>
            </a:br>
            <a:br>
              <a:rPr sz="6600"/>
            </a:br>
            <a:br>
              <a:rPr sz="66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image011"/>
          <p:cNvPicPr/>
          <p:nvPr/>
        </p:nvPicPr>
        <p:blipFill>
          <a:blip r:embed="rId1"/>
          <a:stretch/>
        </p:blipFill>
        <p:spPr>
          <a:xfrm>
            <a:off x="2590920" y="2133720"/>
            <a:ext cx="4016160" cy="4724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физ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эндокринная железа, которая располагается на основании мозга и защищена со всех сторон костью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omas-1218797714"/>
          <p:cNvPicPr/>
          <p:nvPr/>
        </p:nvPicPr>
        <p:blipFill>
          <a:blip r:embed="rId2"/>
          <a:stretch/>
        </p:blipFill>
        <p:spPr>
          <a:xfrm>
            <a:off x="1523880" y="2286000"/>
            <a:ext cx="6248520" cy="4059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43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5080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10040" y="457200"/>
            <a:ext cx="8224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гипофиза: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троль над функцией других эндокринных желез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(щитовидной, половых, надпочечников)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нтроль роста и созревания органов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ординация функций различных органов (таких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как почки, молочные железы, матка). 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119" name="Picture 5" descr="350px-Grays_pituitary"/>
          <p:cNvPicPr/>
          <p:nvPr/>
        </p:nvPicPr>
        <p:blipFill>
          <a:blip r:embed="rId2"/>
          <a:stretch/>
        </p:blipFill>
        <p:spPr>
          <a:xfrm>
            <a:off x="1523880" y="2971800"/>
            <a:ext cx="5867640" cy="3252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так, гормоны это вещества необходимые для нормальной жизнедеятельности организма, так как п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 недостатке этих веществ в организме возникают различные нарушения, которые могут при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 серьезным заболевания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йства гормонов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физиологическая актив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танционное действие-способность регулировать работу орган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строе разрушение тка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рерывное продуцирование (регулирование воздействия на работу органов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 химическому строению гормоны делят на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роидные (стеориды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ы-производные аминокисло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птидны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лковы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тероидны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ормоны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ероиды можно разделить на две групп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роидные половые гормо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строге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ндроген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гестер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рмоны коры надпочеч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06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строгены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енские половые гормоны, производимые половыми железами и корой надпочеч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76911096_orig"/>
          <p:cNvPicPr/>
          <p:nvPr/>
        </p:nvPicPr>
        <p:blipFill>
          <a:blip r:embed="rId1"/>
          <a:stretch/>
        </p:blipFill>
        <p:spPr>
          <a:xfrm>
            <a:off x="762120" y="1523880"/>
            <a:ext cx="3504960" cy="275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эстриол"/>
          <p:cNvPicPr/>
          <p:nvPr/>
        </p:nvPicPr>
        <p:blipFill>
          <a:blip r:embed="rId2"/>
          <a:stretch/>
        </p:blipFill>
        <p:spPr>
          <a:xfrm>
            <a:off x="4648320" y="1523880"/>
            <a:ext cx="3962160" cy="2641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4952880" y="18288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риол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56" name="Picture 8" descr="эстрон"/>
          <p:cNvPicPr/>
          <p:nvPr/>
        </p:nvPicPr>
        <p:blipFill>
          <a:blip r:embed="rId3"/>
          <a:stretch/>
        </p:blipFill>
        <p:spPr>
          <a:xfrm>
            <a:off x="2895480" y="4343400"/>
            <a:ext cx="3200400" cy="2362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3565440" y="354636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200400" y="35812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3200400" y="4495680"/>
            <a:ext cx="12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ст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826920" y="475920"/>
            <a:ext cx="7772400" cy="5791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ндрогены –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жские половые гормоны, производимые половыми железами и корой надпочеч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testosteron"/>
          <p:cNvPicPr/>
          <p:nvPr/>
        </p:nvPicPr>
        <p:blipFill>
          <a:blip r:embed="rId2"/>
          <a:stretch/>
        </p:blipFill>
        <p:spPr>
          <a:xfrm>
            <a:off x="609480" y="1676520"/>
            <a:ext cx="4275360" cy="3085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1279440" y="1108080"/>
            <a:ext cx="1463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92160" y="20574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стосте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64" name="Picture 7" descr="dihydrotest_msrn"/>
          <p:cNvPicPr/>
          <p:nvPr/>
        </p:nvPicPr>
        <p:blipFill>
          <a:blip r:embed="rId3"/>
          <a:stretch/>
        </p:blipFill>
        <p:spPr>
          <a:xfrm>
            <a:off x="4572000" y="3429000"/>
            <a:ext cx="411480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8"/>
          <p:cNvSpPr/>
          <p:nvPr/>
        </p:nvSpPr>
        <p:spPr>
          <a:xfrm>
            <a:off x="4498200" y="3581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гидротестосте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06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гестерон-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енские половые гормоны, производимые корой надпочечник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progesteron"/>
          <p:cNvPicPr/>
          <p:nvPr/>
        </p:nvPicPr>
        <p:blipFill>
          <a:blip r:embed="rId2"/>
          <a:stretch/>
        </p:blipFill>
        <p:spPr>
          <a:xfrm>
            <a:off x="380880" y="1143000"/>
            <a:ext cx="3886200" cy="2738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300px-Corticosterone"/>
          <p:cNvPicPr/>
          <p:nvPr/>
        </p:nvPicPr>
        <p:blipFill>
          <a:blip r:embed="rId3"/>
          <a:stretch/>
        </p:blipFill>
        <p:spPr>
          <a:xfrm>
            <a:off x="4800600" y="1143000"/>
            <a:ext cx="3733920" cy="27018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183640" y="990720"/>
            <a:ext cx="21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ртикостеро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1" name="Picture 8" descr="альдостерон"/>
          <p:cNvPicPr/>
          <p:nvPr/>
        </p:nvPicPr>
        <p:blipFill>
          <a:blip r:embed="rId4"/>
          <a:stretch/>
        </p:blipFill>
        <p:spPr>
          <a:xfrm>
            <a:off x="2666880" y="3956040"/>
            <a:ext cx="3810240" cy="290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268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изводные аминокисло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tiroksin"/>
          <p:cNvPicPr/>
          <p:nvPr/>
        </p:nvPicPr>
        <p:blipFill>
          <a:blip r:embed="rId2"/>
          <a:stretch/>
        </p:blipFill>
        <p:spPr>
          <a:xfrm>
            <a:off x="838080" y="914400"/>
            <a:ext cx="7944120" cy="1523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715000" y="1219320"/>
            <a:ext cx="17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рокс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  <p:pic>
        <p:nvPicPr>
          <p:cNvPr id="76" name="Picture 9" descr="112783700"/>
          <p:cNvPicPr/>
          <p:nvPr/>
        </p:nvPicPr>
        <p:blipFill>
          <a:blip r:embed="rId3"/>
          <a:stretch/>
        </p:blipFill>
        <p:spPr>
          <a:xfrm>
            <a:off x="914400" y="4495680"/>
            <a:ext cx="5267160" cy="14004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"/>
          <p:cNvSpPr/>
          <p:nvPr/>
        </p:nvSpPr>
        <p:spPr>
          <a:xfrm>
            <a:off x="3809880" y="4724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радреналин</a:t>
            </a:r>
            <a:endParaRPr b="0" lang="en-US" sz="2400" spc="-1" strike="noStrike">
              <a:solidFill>
                <a:srgbClr val="cc0099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9:04:37Z</dcterms:created>
  <dc:creator>Диана</dc:creator>
  <dc:description/>
  <dc:language>en-US</dc:language>
  <cp:lastModifiedBy>home</cp:lastModifiedBy>
  <dcterms:modified xsi:type="dcterms:W3CDTF">2017-10-08T15:56:30Z</dcterms:modified>
  <cp:revision>52</cp:revision>
  <dc:subject/>
  <dc:title>Гормоны     Гормоны    </dc:title>
</cp:coreProperties>
</file>