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BA66-C075-4FB3-9B05-8D518E78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FB0A-B645-4C70-BC2A-86ADED4A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CDA7-8302-46FD-A7F6-938785F37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2F55-5182-439C-9D30-0664C76F7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3CBBA-CFDF-4E4B-A27E-DF52C955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5A3E-A5E2-44A2-9E8D-4B682097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2E2F-D41F-4C16-A503-3E189B99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759A-F973-48E9-8E97-9636E902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6D50E-3EC5-417F-B792-0F15CAF7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107DE-41F1-4A02-A03D-AA33E7FE2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66EB6-CDA3-4412-BC5E-D1072CBE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CC32-298C-475B-9F18-145097D6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4AB2-A0BB-49E5-8081-6C689702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8E29-58AB-43BB-9D19-11EE78D3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776D-2043-49D7-9B30-62F3E7AE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41F7-9085-4128-83B0-670BCDF7A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DAA2-B0BB-468F-9EE2-61747AB0A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D3B42-54C3-4BA9-9BED-26578B6B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137B5-5527-47CD-A82F-69AF15F4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6702C-C659-446C-8960-D56B64BE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66241-C46F-497C-B19E-32EB1238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1D3FA-739E-4E17-A518-3D6D12EC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71D-E436-4C53-965B-967EA8BD9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E76FF-E241-4355-82D3-4F8DB942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C534F-8C75-4C29-A051-A3BE2999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D3565-4E9D-484B-BB0C-969A9272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963FB-180D-480F-8F9E-304D40A3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77C46-1C67-4DB4-BFA9-CB77561E2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F7A89-236A-4ACB-B08D-095696C1B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2C243-40C3-4036-A8D3-74CE556F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7C51C-2F13-40A6-8BAE-89887D86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AFFBB-0307-4376-86BB-1B21ADC16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1C4F7-3DF1-4A0A-853E-6012ECDC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253E-088A-411D-B621-71A84E23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0300B-362F-419B-85B6-4BBAFD3A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0AE49-472A-4274-9E32-E9F5B542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05B54-10AF-4353-8CF4-F1E2BFC0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E284B-3231-4AC8-A4D1-24F59291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B176C-DD49-440A-9AC0-B7599599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C8552-8761-4D6A-81CA-F3C26C84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C30E2-FCE1-44BE-B778-841F2D5A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C5F7F-E547-4D7B-976A-F304FF8A4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577A7-7A58-4CBF-A129-CFDF3E46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0D690-7241-46A1-A88E-4516588F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7E78-B23C-4E43-BEC5-495F808A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4D8A0-9F28-4B94-88AE-BCFCF713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80985-4980-4EF0-90BC-946F9EB4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70481-8D08-4301-9C70-5339453C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67D76-13E6-4491-9BFD-E6AFB205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24CEF-8F49-461B-883F-61EAD5FB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52EE9-AA30-4B64-A312-5521C7B1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25685-DD40-4265-9BA3-433A5A10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06BE0-0F7E-4939-95E8-C2E582A0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5B71A-3790-4EA3-A2B3-1A30606F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9EEAE-B6C1-4351-A2EB-EFDB7C5F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F361-3D98-477D-83D1-16C8843C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F0516-4D3E-4882-B0C5-A37A4D497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EBA-9900-457C-8726-4CEDFC14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26FF-C9AA-4111-BE01-53A4994B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F693-60FD-4C54-BE08-D5B9B5F4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D561-A88F-4C07-A5FB-146A85D6CC5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4B7E-F08C-4B36-A2E3-349A9BAFD0A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CB14D-2B18-4B13-8436-5E8D10AC427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FC748-B7D2-46A4-BEAE-32BBF4F6BCF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1071-608E-4AF1-8D8F-0476FACF56D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Rectangle 2" descr=""/>
          <p:cNvPicPr/>
          <p:nvPr/>
        </p:nvPicPr>
        <p:blipFill>
          <a:blip r:embed="rId1"/>
          <a:stretch/>
        </p:blipFill>
        <p:spPr>
          <a:xfrm>
            <a:off x="536400" y="1255680"/>
            <a:ext cx="8455320" cy="24382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 теме: «Словосочетание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0066"/>
                </a:solidFill>
                <a:latin typeface="Constantia"/>
              </a:rPr>
              <a:t>Эпитет </a:t>
            </a: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образное определение предмет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0066"/>
                </a:solidFill>
                <a:latin typeface="Constantia"/>
              </a:rPr>
              <a:t>Метафора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(греч. – перенос) – один предмет изображается с помощью другого, сходного с ним. Происходит перенос значения одного слова на другое по сходству обозначаемых ими предметов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: Найди эпитет и метафору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04760"/>
            <a:ext cx="822960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чела за данью полево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етит из кельи восковой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А.С.Пушки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Унылая пора, очей очарованье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риятна мне твоя прощальная крас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Люблю я пышное природы увяданье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А.С.Пушкин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10" descr=""/>
          <p:cNvPicPr/>
          <p:nvPr/>
        </p:nvPicPr>
        <p:blipFill>
          <a:blip r:embed="rId1"/>
          <a:stretch/>
        </p:blipFill>
        <p:spPr>
          <a:xfrm>
            <a:off x="6156360" y="4365720"/>
            <a:ext cx="2406600" cy="1676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2" descr=""/>
          <p:cNvPicPr/>
          <p:nvPr/>
        </p:nvPicPr>
        <p:blipFill>
          <a:blip r:embed="rId2"/>
          <a:stretch/>
        </p:blipFill>
        <p:spPr>
          <a:xfrm>
            <a:off x="1187280" y="2133720"/>
            <a:ext cx="208944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15520" y="152280"/>
            <a:ext cx="6140520" cy="797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Проверь себя!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834920" y="4365360"/>
            <a:ext cx="70578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 горизонтали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4. Связь слов, устанавливаемая по вопроса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5. Сочетание сл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6;7. Способы грамматической связ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 вертикали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ид связи слов, которая выражается с помощью окончания, предлога и оконча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;3. Части словосочетани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1" name="Picture 6" descr="Image-01"/>
          <p:cNvPicPr/>
          <p:nvPr/>
        </p:nvPicPr>
        <p:blipFill>
          <a:blip r:embed="rId1"/>
          <a:stretch/>
        </p:blipFill>
        <p:spPr>
          <a:xfrm>
            <a:off x="1042920" y="1268280"/>
            <a:ext cx="6121440" cy="3168720"/>
          </a:xfrm>
          <a:prstGeom prst="rect">
            <a:avLst/>
          </a:prstGeom>
          <a:ln w="0">
            <a:noFill/>
          </a:ln>
        </p:spPr>
      </p:pic>
      <p:sp>
        <p:nvSpPr>
          <p:cNvPr id="272" name="8-конечная звезда 1"/>
          <p:cNvSpPr/>
          <p:nvPr/>
        </p:nvSpPr>
        <p:spPr>
          <a:xfrm>
            <a:off x="1476360" y="419040"/>
            <a:ext cx="382680" cy="417600"/>
          </a:xfrm>
          <a:custGeom>
            <a:avLst/>
            <a:gdLst>
              <a:gd name="textAreaLeft" fmla="*/ 161640 w 382680"/>
              <a:gd name="textAreaRight" fmla="*/ 221040 w 382680"/>
              <a:gd name="textAreaTop" fmla="*/ 176400 h 417600"/>
              <a:gd name="textAreaBottom" fmla="*/ 241200 h 417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597" y="11690"/>
                </a:lnTo>
                <a:lnTo>
                  <a:pt x="3163" y="18437"/>
                </a:lnTo>
                <a:lnTo>
                  <a:pt x="9872" y="12987"/>
                </a:lnTo>
                <a:lnTo>
                  <a:pt x="10800" y="21600"/>
                </a:lnTo>
                <a:lnTo>
                  <a:pt x="11690" y="13003"/>
                </a:lnTo>
                <a:lnTo>
                  <a:pt x="18437" y="18437"/>
                </a:lnTo>
                <a:lnTo>
                  <a:pt x="12987" y="11728"/>
                </a:lnTo>
                <a:lnTo>
                  <a:pt x="21600" y="10800"/>
                </a:lnTo>
                <a:lnTo>
                  <a:pt x="13003" y="9910"/>
                </a:lnTo>
                <a:lnTo>
                  <a:pt x="18437" y="3163"/>
                </a:lnTo>
                <a:lnTo>
                  <a:pt x="11728" y="8613"/>
                </a:lnTo>
                <a:lnTo>
                  <a:pt x="10800" y="0"/>
                </a:lnTo>
                <a:lnTo>
                  <a:pt x="9910" y="8597"/>
                </a:lnTo>
                <a:lnTo>
                  <a:pt x="3163" y="3163"/>
                </a:lnTo>
                <a:lnTo>
                  <a:pt x="8613" y="9872"/>
                </a:lnTo>
                <a:lnTo>
                  <a:pt x="0" y="10800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4360" y="580500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Вывод 1 :слова в словосочетании связаны по смыслу.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530360" y="620640"/>
            <a:ext cx="54943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i="1" lang="ru-RU" sz="4800" spc="-1" strike="noStrike">
                <a:solidFill>
                  <a:srgbClr val="990099"/>
                </a:solidFill>
                <a:latin typeface="Constantia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Тужит в темниц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990099"/>
                </a:solidFill>
                <a:latin typeface="Constantia"/>
              </a:rPr>
              <a:t>     </a:t>
            </a:r>
            <a:r>
              <a:rPr b="1" i="1" lang="ru-RU" sz="4800" spc="-1" strike="noStrike">
                <a:solidFill>
                  <a:srgbClr val="990099"/>
                </a:solidFill>
                <a:latin typeface="Constantia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Тужит та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990099"/>
                </a:solidFill>
                <a:latin typeface="Constantia"/>
              </a:rPr>
              <a:t>                   </a:t>
            </a:r>
            <a:r>
              <a:rPr b="1" i="1" lang="ru-RU" sz="4800" spc="-1" strike="noStrike">
                <a:solidFill>
                  <a:srgbClr val="990099"/>
                </a:solidFill>
                <a:latin typeface="Constantia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Бурый вол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5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990099"/>
                </a:solidFill>
                <a:latin typeface="Constantia"/>
              </a:rPr>
              <a:t>     </a:t>
            </a:r>
            <a:r>
              <a:rPr b="1" i="1" lang="ru-RU" sz="4800" spc="-1" strike="noStrike">
                <a:solidFill>
                  <a:srgbClr val="990099"/>
                </a:solidFill>
                <a:latin typeface="Constantia"/>
              </a:rPr>
              <a:t>х</a:t>
            </a:r>
            <a:r>
              <a:rPr b="1" i="1" lang="ru-RU" sz="4400" spc="-1" strike="noStrike">
                <a:solidFill>
                  <a:srgbClr val="990099"/>
                </a:solidFill>
                <a:latin typeface="Constantia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лужит 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990099"/>
                </a:solidFill>
                <a:latin typeface="Constantia"/>
              </a:rPr>
              <a:t>     </a:t>
            </a:r>
            <a:r>
              <a:rPr b="1" i="1" lang="ru-RU" sz="4800" spc="-1" strike="noStrike">
                <a:solidFill>
                  <a:srgbClr val="990099"/>
                </a:solidFill>
                <a:latin typeface="Constantia"/>
              </a:rPr>
              <a:t>х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65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лужит вер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AutoShape 16"/>
          <p:cNvSpPr/>
          <p:nvPr/>
        </p:nvSpPr>
        <p:spPr>
          <a:xfrm flipH="1" rot="10800000">
            <a:off x="2567160" y="4650840"/>
            <a:ext cx="1584000" cy="360360"/>
          </a:xfrm>
          <a:custGeom>
            <a:avLst/>
            <a:gdLst>
              <a:gd name="textAreaLeft" fmla="*/ 360 w 1584000"/>
              <a:gd name="textAreaRight" fmla="*/ 1346400 w 1584000"/>
              <a:gd name="textAreaTop" fmla="*/ 2782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6265" y="0"/>
                </a:moveTo>
                <a:lnTo>
                  <a:pt x="10929" y="10929"/>
                </a:lnTo>
                <a:lnTo>
                  <a:pt x="14176" y="10929"/>
                </a:lnTo>
                <a:lnTo>
                  <a:pt x="14176" y="16684"/>
                </a:lnTo>
                <a:lnTo>
                  <a:pt x="0" y="16684"/>
                </a:lnTo>
                <a:lnTo>
                  <a:pt x="0" y="21600"/>
                </a:lnTo>
                <a:lnTo>
                  <a:pt x="18353" y="21600"/>
                </a:lnTo>
                <a:lnTo>
                  <a:pt x="18353" y="10929"/>
                </a:lnTo>
                <a:lnTo>
                  <a:pt x="21600" y="10929"/>
                </a:lnTo>
                <a:lnTo>
                  <a:pt x="16265" y="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AutoShape 17"/>
          <p:cNvSpPr/>
          <p:nvPr/>
        </p:nvSpPr>
        <p:spPr>
          <a:xfrm flipH="1" rot="10800000">
            <a:off x="3067200" y="907560"/>
            <a:ext cx="1511280" cy="287640"/>
          </a:xfrm>
          <a:custGeom>
            <a:avLst/>
            <a:gdLst>
              <a:gd name="textAreaLeft" fmla="*/ 360 w 1511280"/>
              <a:gd name="textAreaRight" fmla="*/ 1284480 w 1511280"/>
              <a:gd name="textAreaTop" fmla="*/ 22212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16265" y="0"/>
                </a:moveTo>
                <a:lnTo>
                  <a:pt x="10929" y="10929"/>
                </a:lnTo>
                <a:lnTo>
                  <a:pt x="14176" y="10929"/>
                </a:lnTo>
                <a:lnTo>
                  <a:pt x="14176" y="16684"/>
                </a:lnTo>
                <a:lnTo>
                  <a:pt x="0" y="16684"/>
                </a:lnTo>
                <a:lnTo>
                  <a:pt x="0" y="21600"/>
                </a:lnTo>
                <a:lnTo>
                  <a:pt x="18353" y="21600"/>
                </a:lnTo>
                <a:lnTo>
                  <a:pt x="18353" y="10929"/>
                </a:lnTo>
                <a:lnTo>
                  <a:pt x="21600" y="10929"/>
                </a:lnTo>
                <a:lnTo>
                  <a:pt x="16265" y="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080" bIns="19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AutoShape 18"/>
          <p:cNvSpPr/>
          <p:nvPr/>
        </p:nvSpPr>
        <p:spPr>
          <a:xfrm flipH="1" rot="10800000">
            <a:off x="2513160" y="1843200"/>
            <a:ext cx="1079280" cy="287280"/>
          </a:xfrm>
          <a:custGeom>
            <a:avLst/>
            <a:gdLst>
              <a:gd name="textAreaLeft" fmla="*/ 0 w 1079280"/>
              <a:gd name="textAreaRight" fmla="*/ 917280 w 1079280"/>
              <a:gd name="textAreaTop" fmla="*/ 22212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16265" y="0"/>
                </a:moveTo>
                <a:lnTo>
                  <a:pt x="10929" y="10929"/>
                </a:lnTo>
                <a:lnTo>
                  <a:pt x="14176" y="10929"/>
                </a:lnTo>
                <a:lnTo>
                  <a:pt x="14176" y="16684"/>
                </a:lnTo>
                <a:lnTo>
                  <a:pt x="0" y="16684"/>
                </a:lnTo>
                <a:lnTo>
                  <a:pt x="0" y="21600"/>
                </a:lnTo>
                <a:lnTo>
                  <a:pt x="18353" y="21600"/>
                </a:lnTo>
                <a:lnTo>
                  <a:pt x="18353" y="10929"/>
                </a:lnTo>
                <a:lnTo>
                  <a:pt x="21600" y="10929"/>
                </a:lnTo>
                <a:lnTo>
                  <a:pt x="16265" y="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AutoShape 19"/>
          <p:cNvSpPr/>
          <p:nvPr/>
        </p:nvSpPr>
        <p:spPr>
          <a:xfrm flipH="1" rot="10800000">
            <a:off x="2367360" y="3715920"/>
            <a:ext cx="1368360" cy="289080"/>
          </a:xfrm>
          <a:custGeom>
            <a:avLst/>
            <a:gdLst>
              <a:gd name="textAreaLeft" fmla="*/ -360 w 1368360"/>
              <a:gd name="textAreaRight" fmla="*/ 1162440 w 1368360"/>
              <a:gd name="textAreaTop" fmla="*/ 22356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16265" y="0"/>
                </a:moveTo>
                <a:lnTo>
                  <a:pt x="10929" y="10929"/>
                </a:lnTo>
                <a:lnTo>
                  <a:pt x="14176" y="10929"/>
                </a:lnTo>
                <a:lnTo>
                  <a:pt x="14176" y="16684"/>
                </a:lnTo>
                <a:lnTo>
                  <a:pt x="0" y="16684"/>
                </a:lnTo>
                <a:lnTo>
                  <a:pt x="0" y="21600"/>
                </a:lnTo>
                <a:lnTo>
                  <a:pt x="18353" y="21600"/>
                </a:lnTo>
                <a:lnTo>
                  <a:pt x="18353" y="10929"/>
                </a:lnTo>
                <a:lnTo>
                  <a:pt x="21600" y="10929"/>
                </a:lnTo>
                <a:lnTo>
                  <a:pt x="16265" y="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AutoShape 20"/>
          <p:cNvSpPr/>
          <p:nvPr/>
        </p:nvSpPr>
        <p:spPr>
          <a:xfrm rot="10800000">
            <a:off x="1846080" y="2579400"/>
            <a:ext cx="1439640" cy="360360"/>
          </a:xfrm>
          <a:custGeom>
            <a:avLst/>
            <a:gdLst>
              <a:gd name="textAreaLeft" fmla="*/ 0 w 1439640"/>
              <a:gd name="textAreaRight" fmla="*/ 1223280 w 1439640"/>
              <a:gd name="textAreaTop" fmla="*/ 2782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6265" y="0"/>
                </a:moveTo>
                <a:lnTo>
                  <a:pt x="10929" y="10929"/>
                </a:lnTo>
                <a:lnTo>
                  <a:pt x="14176" y="10929"/>
                </a:lnTo>
                <a:lnTo>
                  <a:pt x="14176" y="16684"/>
                </a:lnTo>
                <a:lnTo>
                  <a:pt x="0" y="16684"/>
                </a:lnTo>
                <a:lnTo>
                  <a:pt x="0" y="21600"/>
                </a:lnTo>
                <a:lnTo>
                  <a:pt x="18353" y="21600"/>
                </a:lnTo>
                <a:lnTo>
                  <a:pt x="18353" y="10929"/>
                </a:lnTo>
                <a:lnTo>
                  <a:pt x="21600" y="10929"/>
                </a:lnTo>
                <a:lnTo>
                  <a:pt x="16265" y="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1" descr=""/>
          <p:cNvPicPr/>
          <p:nvPr/>
        </p:nvPicPr>
        <p:blipFill>
          <a:blip r:embed="rId1"/>
          <a:stretch/>
        </p:blipFill>
        <p:spPr>
          <a:xfrm>
            <a:off x="536400" y="-55440"/>
            <a:ext cx="8412480" cy="37004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МБОУ «Камскополянская средняя общеобразовательная школа №2 с углубленным изучением отдельных предметов» пгт Камские Поляны Нижнекамского района РТ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7570800" cy="4680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Знать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онятие словосочетание, способы связи слов в словосочетании, роль словосочетаний в тексте.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Уметь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: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ыделять словосочетания из предложения, находить в словосочетании главное и зависимое слово, строить словосочетания; использовать точные, выразительные словосочетания для достижения ясности, образности речи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ru-RU" sz="3600" spc="-1" strike="noStrike">
                <a:solidFill>
                  <a:srgbClr val="996633"/>
                </a:solidFill>
                <a:latin typeface="Calibri"/>
              </a:rPr>
              <a:t>Темница, царевна, там, в, </a:t>
            </a:r>
            <a:br>
              <a:rPr sz="3600"/>
            </a:br>
            <a:r>
              <a:rPr b="0" i="1" lang="ru-RU" sz="3600" spc="-1" strike="noStrike">
                <a:solidFill>
                  <a:srgbClr val="996633"/>
                </a:solidFill>
                <a:latin typeface="Calibri"/>
              </a:rPr>
              <a:t>тужит, волк, а, служит, </a:t>
            </a:r>
            <a:br>
              <a:rPr sz="3600"/>
            </a:br>
            <a:r>
              <a:rPr b="0" i="1" lang="ru-RU" sz="3600" spc="-1" strike="noStrike">
                <a:solidFill>
                  <a:srgbClr val="996633"/>
                </a:solidFill>
                <a:latin typeface="Calibri"/>
              </a:rPr>
              <a:t>бурый, ей, верно.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Есть ли смысл в том, что записано?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4617b"/>
                </a:solidFill>
                <a:latin typeface="Constantia"/>
              </a:rPr>
              <a:t>Что нужно сделать, чтобы между словами установился определенный смысл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172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6633"/>
                </a:solidFill>
                <a:latin typeface="Calibri"/>
              </a:rPr>
              <a:t>В темнице там царевна тужит,</a:t>
            </a:r>
            <a:br>
              <a:rPr sz="4000"/>
            </a:br>
            <a:r>
              <a:rPr b="0" i="1" lang="ru-RU" sz="4000" spc="-1" strike="noStrike">
                <a:solidFill>
                  <a:srgbClr val="996633"/>
                </a:solidFill>
                <a:latin typeface="Calibri"/>
              </a:rPr>
              <a:t>А бурый волк ей верно служит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3357360"/>
            <a:ext cx="8496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201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из поэмы «Руслан и Людмила»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-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то помогло вам построить предложение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- Выделите словосочета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        </a:t>
            </a:r>
            <a:r>
              <a:rPr b="0" i="1" lang="ru-RU" sz="3200" spc="-1" strike="noStrike">
                <a:solidFill>
                  <a:srgbClr val="990099"/>
                </a:solidFill>
                <a:latin typeface="Calibri"/>
              </a:rPr>
              <a:t>В темнице там царевна тужит,</a:t>
            </a:r>
            <a:br>
              <a:rPr sz="3200"/>
            </a:br>
            <a:r>
              <a:rPr b="0" i="1" lang="ru-RU" sz="3200" spc="-1" strike="noStrike">
                <a:solidFill>
                  <a:srgbClr val="990099"/>
                </a:solidFill>
                <a:latin typeface="Calibri"/>
              </a:rPr>
              <a:t>       А бурый волк ей верно служит.</a:t>
            </a:r>
            <a:r>
              <a:rPr b="0" lang="ru-RU" sz="3200" spc="-1" strike="noStrike">
                <a:solidFill>
                  <a:srgbClr val="990099"/>
                </a:solidFill>
                <a:latin typeface="Calibri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990099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Измените главное слово.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 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О волке</a:t>
            </a:r>
            <a:r>
              <a:rPr b="0" i="1" lang="ru-RU" sz="2800" spc="-1" strike="noStrike">
                <a:solidFill>
                  <a:srgbClr val="04617b"/>
                </a:solidFill>
                <a:latin typeface="Calibri"/>
              </a:rPr>
              <a:t> (Предложный падеж)</a:t>
            </a: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4617b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Что стало с зависимым?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бур/ом/</a:t>
            </a:r>
            <a:r>
              <a:rPr b="0" i="1" lang="ru-RU" sz="2800" spc="-1" strike="noStrike">
                <a:solidFill>
                  <a:srgbClr val="04617b"/>
                </a:solidFill>
                <a:latin typeface="Calibri"/>
              </a:rPr>
              <a:t> (оно тоже изменилось)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i="1" lang="ru-RU" sz="28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ывод : слова в словосочетании связаны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     грамматически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69192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 устанавливается смысл в предложении между словами, законы сочетания слов в предложении и самих предложений изучает раздел науки о языке –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Vladimir Script"/>
              </a:rPr>
              <a:t>синтаксис</a:t>
            </a:r>
            <a:r>
              <a:rPr b="1" lang="ru-RU" sz="4400" spc="-1" strike="noStrike">
                <a:solidFill>
                  <a:srgbClr val="000000"/>
                </a:solidFill>
                <a:latin typeface="Vladimir Script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греч. – составление, построение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авила употребления знаков препинания изучает </a:t>
            </a:r>
            <a:r>
              <a:rPr b="1" i="1" lang="ru-RU" sz="4400" spc="-1" strike="noStrike">
                <a:solidFill>
                  <a:srgbClr val="ff0000"/>
                </a:solidFill>
                <a:latin typeface="Vladimir Script"/>
              </a:rPr>
              <a:t>пунктуация.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8436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лова каких частей речи могут составлять словосочетани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се ли слова в словосочетании       сочетают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WordArt 4"/>
          <p:cNvSpPr txBox="1"/>
          <p:nvPr/>
        </p:nvSpPr>
        <p:spPr>
          <a:xfrm>
            <a:off x="1979640" y="692280"/>
            <a:ext cx="45673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умай!</a:t>
            </a:r>
            <a:endParaRPr b="0" i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66"/>
                </a:solidFill>
                <a:latin typeface="Calibri"/>
              </a:rPr>
              <a:t>Виды словосочетаний по строению.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301760" y="1828800"/>
          <a:ext cx="6800760" cy="3657600"/>
        </p:xfrm>
        <a:graphic>
          <a:graphicData uri="http://schemas.openxmlformats.org/drawingml/2006/table">
            <a:tbl>
              <a:tblPr/>
              <a:tblGrid>
                <a:gridCol w="3400560"/>
                <a:gridCol w="3400200"/>
              </a:tblGrid>
              <a:tr h="43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9900"/>
                          </a:solidFill>
                          <a:latin typeface="Comic Sans MS"/>
                        </a:rPr>
                        <a:t>Имен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лк бур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лавное слово выражено именем существительны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9900"/>
                          </a:solidFill>
                          <a:latin typeface="Comic Sans MS"/>
                        </a:rPr>
                        <a:t>Глаголь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х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лужит вер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лавное слово выражено глаголо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Text Box 15"/>
          <p:cNvSpPr/>
          <p:nvPr/>
        </p:nvSpPr>
        <p:spPr>
          <a:xfrm>
            <a:off x="7072200" y="2940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AutoShape 17"/>
          <p:cNvSpPr/>
          <p:nvPr/>
        </p:nvSpPr>
        <p:spPr>
          <a:xfrm flipH="1" rot="10800000">
            <a:off x="1908000" y="2708280"/>
            <a:ext cx="1368720" cy="216000"/>
          </a:xfrm>
          <a:custGeom>
            <a:avLst/>
            <a:gdLst>
              <a:gd name="textAreaLeft" fmla="*/ 360 w 1368720"/>
              <a:gd name="textAreaRight" fmla="*/ 1173600 w 1368720"/>
              <a:gd name="textAreaTop" fmla="*/ 18612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17227" y="0"/>
                </a:moveTo>
                <a:lnTo>
                  <a:pt x="12854" y="7200"/>
                </a:lnTo>
                <a:lnTo>
                  <a:pt x="15940" y="7200"/>
                </a:lnTo>
                <a:lnTo>
                  <a:pt x="15940" y="18597"/>
                </a:lnTo>
                <a:lnTo>
                  <a:pt x="0" y="18597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722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AutoShape 18"/>
          <p:cNvSpPr/>
          <p:nvPr/>
        </p:nvSpPr>
        <p:spPr>
          <a:xfrm flipH="1" rot="10800000">
            <a:off x="5724360" y="2708280"/>
            <a:ext cx="1368720" cy="216000"/>
          </a:xfrm>
          <a:custGeom>
            <a:avLst/>
            <a:gdLst>
              <a:gd name="textAreaLeft" fmla="*/ 360 w 1368720"/>
              <a:gd name="textAreaRight" fmla="*/ 1173600 w 1368720"/>
              <a:gd name="textAreaTop" fmla="*/ 18612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17227" y="0"/>
                </a:moveTo>
                <a:lnTo>
                  <a:pt x="12854" y="7200"/>
                </a:lnTo>
                <a:lnTo>
                  <a:pt x="15940" y="7200"/>
                </a:lnTo>
                <a:lnTo>
                  <a:pt x="15940" y="18597"/>
                </a:lnTo>
                <a:lnTo>
                  <a:pt x="0" y="18597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7227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7200" y="54936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49100"/>
                </a:solidFill>
                <a:latin typeface="Constantia"/>
              </a:rPr>
              <a:t>Задание:    </a:t>
            </a:r>
            <a:r>
              <a:rPr b="1" i="1" lang="ru-RU" sz="4000" spc="-1" strike="noStrike">
                <a:solidFill>
                  <a:srgbClr val="f49100"/>
                </a:solidFill>
                <a:latin typeface="Constantia"/>
              </a:rPr>
              <a:t>выбери нужно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Глубокая (весна, осень, ночь, день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Большое ( спасибо, пожалуйст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Рыбный (суп, хвост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Сушеные (грибы, фрукты, облака, белье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nstantia"/>
              </a:rPr>
              <a:t>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WordArt 4"/>
          <p:cNvSpPr txBox="1"/>
          <p:nvPr/>
        </p:nvSpPr>
        <p:spPr>
          <a:xfrm rot="21462600">
            <a:off x="2109960" y="4222440"/>
            <a:ext cx="511164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ы уверены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4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4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" dur="500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14:57:54Z</dcterms:created>
  <dc:creator>Ольга</dc:creator>
  <dc:description/>
  <dc:language>en-US</dc:language>
  <cp:lastModifiedBy>Слушатель курсов</cp:lastModifiedBy>
  <dcterms:modified xsi:type="dcterms:W3CDTF">2012-11-23T06:46:18Z</dcterms:modified>
  <cp:revision>30</cp:revision>
  <dc:subject/>
  <dc:title>Урок русского языка  в 5 классе</dc:title>
</cp:coreProperties>
</file>