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B70-FA31-455D-83E6-21EA6BA3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FB7-831A-416A-A10A-D2EAC83C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396-C12A-4D5C-B7EE-1A3E82FC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8A5-8049-434A-AA9C-82163E16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3A83-7D0F-48A9-9420-19E51657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BDC8-C3FA-48AD-BC22-396268C9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B233-231D-48DB-B380-78D31EE2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91FB-C236-4890-A482-18103FC1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26A4-A557-40AB-84BF-F184834E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39E2-8BA5-4B24-8A00-4F2675DB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6FC6-ECE0-4A0B-804A-2C1A23AE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2F0-3BAF-499C-AC9C-35D69467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8E50-F8A4-4D76-ABBB-7653FCFC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6A31-2885-416E-AC60-9105CC9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0034-B228-4857-92A3-1CACDBA6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F0DD-EF72-49DD-9610-D0E567A6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F62C-13C9-4F33-B124-BF9B3841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382CC-684A-4D31-AF62-A64B2CE3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26938-C26A-4B56-8AFB-46117C24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1AE3-0E35-486F-AFEB-37CFDB46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168F-2DF5-446E-8F18-A2EB26E1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EF36-1E81-4134-8073-8A2119D7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D3D-D0C8-4856-BB40-21A3CF83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F4139-5C67-45B3-B495-12D7B309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A26F-5BA1-494B-936A-8BB1FC2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EAEA-0769-4771-A12F-74D212FF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07E2-0ABE-4005-9FEC-F374FFC6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0EC8-D0C6-4097-AB5A-9BA7B2DE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6272-EF27-485A-B1A6-4C31C666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C82F-9E99-42C4-9874-CF800DF8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404D-E534-438D-85F4-78C77C53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FAFB3-572F-4A0E-9C3D-C03EEFBC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A01B4-972C-4C48-96F6-8522FEDF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38A-4E71-4034-90BD-C06670A7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36EFD-45C4-4035-87C8-35E9F634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E76CC-74A8-4B3B-A8E0-14BF17B8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124E-3B9D-4DF7-84FF-645B12D8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D4367-D49C-4125-84F3-8B330E22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5B96F-A9ED-4712-9088-92C15E3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FF86-519E-4CA6-8101-CC0C72DF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4FA9-713C-4037-8307-54A8C4A0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D2B2F-16D1-44D6-AD9A-492F3AF1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7E2C-6735-42D0-B229-1063709B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59238-49A3-4519-9F6D-333DE563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FC6-5B30-4E78-BEB1-DC386CD9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0E85B-82E7-454D-9C6D-D1BA86D9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08701-BAC6-4635-BA22-98D73C14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B97B1-8D09-4862-839F-0105D8BB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919AF-746F-49F6-888A-DC149B06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B058C-8DA4-4173-836F-E7721C76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F9080-0696-4018-9FD6-3E0AC717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A9A0-A291-45D7-8773-8DE4F644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C79CF-BB1B-4B77-B05B-BD7AFC37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83E9D-FA45-461F-8421-D460B13D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6C999-31DB-4566-AFF8-29F1341C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BB3-BE05-41B1-A2A2-0FBEDFD4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9E75E-5F64-453B-B2B6-55B557B0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ECD-04FF-4D35-95D4-3465732B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FDF-2248-4493-A9EB-AAA59D11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25A-8D83-4EAC-80EA-691239C6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9461-62D1-4F92-BC32-091F8AA0618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BB04-E29E-4234-ABBE-CB440EAAFCB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2768-2D41-458C-A941-3625E35A152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1C6E-0BB8-4F97-8FE1-10DC3D22E12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886E-A8A9-4587-BDE5-175DA72D632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536400" y="1255680"/>
            <a:ext cx="8455320" cy="2438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теме: «Словосочетание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66"/>
                </a:solidFill>
                <a:latin typeface="Constantia"/>
              </a:rPr>
              <a:t>Эпитет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образное определение предме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66"/>
                </a:solidFill>
                <a:latin typeface="Constantia"/>
              </a:rPr>
              <a:t>Метафора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(греч. – перенос) – один предмет изображается с помощью другого, сходного с ним. Происходит перенос значения одного слова на другое по сходству обозначаемых ими предмет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: Найди эпитет и метафору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0476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чела за данью полев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тит из кельи восков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Унылая пора, очей очарованье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ятна мне твоя прощальная крас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юблю я пышное природы увяданье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406600" cy="1676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208944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15520" y="152280"/>
            <a:ext cx="614052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роверь себя!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834920" y="4365360"/>
            <a:ext cx="7057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горизонтал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Связь слов, устанавливаемая по вопроса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Сочетание сл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;7. Способы грамматической связ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вертикал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д связи слов, которая выражается с помощью окончания, предлога и оконч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;3. Части словосочет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6" descr="Image-01"/>
          <p:cNvPicPr/>
          <p:nvPr/>
        </p:nvPicPr>
        <p:blipFill>
          <a:blip r:embed="rId1"/>
          <a:stretch/>
        </p:blipFill>
        <p:spPr>
          <a:xfrm>
            <a:off x="1042920" y="1268280"/>
            <a:ext cx="6121440" cy="3168720"/>
          </a:xfrm>
          <a:prstGeom prst="rect">
            <a:avLst/>
          </a:prstGeom>
          <a:ln w="0">
            <a:noFill/>
          </a:ln>
        </p:spPr>
      </p:pic>
      <p:sp>
        <p:nvSpPr>
          <p:cNvPr id="272" name="8-конечная звезда 1"/>
          <p:cNvSpPr/>
          <p:nvPr/>
        </p:nvSpPr>
        <p:spPr>
          <a:xfrm>
            <a:off x="1476360" y="419040"/>
            <a:ext cx="382680" cy="417600"/>
          </a:xfrm>
          <a:custGeom>
            <a:avLst/>
            <a:gdLst>
              <a:gd name="textAreaLeft" fmla="*/ 161640 w 382680"/>
              <a:gd name="textAreaRight" fmla="*/ 221040 w 382680"/>
              <a:gd name="textAreaTop" fmla="*/ 176400 h 417600"/>
              <a:gd name="textAreaBottom" fmla="*/ 241200 h 41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97" y="11690"/>
                </a:lnTo>
                <a:lnTo>
                  <a:pt x="3163" y="18437"/>
                </a:lnTo>
                <a:lnTo>
                  <a:pt x="9872" y="12987"/>
                </a:lnTo>
                <a:lnTo>
                  <a:pt x="10800" y="21600"/>
                </a:lnTo>
                <a:lnTo>
                  <a:pt x="11690" y="13003"/>
                </a:lnTo>
                <a:lnTo>
                  <a:pt x="18437" y="18437"/>
                </a:lnTo>
                <a:lnTo>
                  <a:pt x="12987" y="11728"/>
                </a:lnTo>
                <a:lnTo>
                  <a:pt x="21600" y="10800"/>
                </a:lnTo>
                <a:lnTo>
                  <a:pt x="13003" y="9910"/>
                </a:lnTo>
                <a:lnTo>
                  <a:pt x="18437" y="3163"/>
                </a:lnTo>
                <a:lnTo>
                  <a:pt x="11728" y="8613"/>
                </a:lnTo>
                <a:lnTo>
                  <a:pt x="10800" y="0"/>
                </a:lnTo>
                <a:lnTo>
                  <a:pt x="9910" y="8597"/>
                </a:lnTo>
                <a:lnTo>
                  <a:pt x="3163" y="3163"/>
                </a:lnTo>
                <a:lnTo>
                  <a:pt x="8613" y="9872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580500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Вывод 1 :слова в словосочетании связаны по смыслу.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30360" y="620640"/>
            <a:ext cx="54943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4800" spc="-1" strike="noStrike">
                <a:solidFill>
                  <a:srgbClr val="990099"/>
                </a:solidFill>
                <a:latin typeface="Constantia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ужит в темниц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0099"/>
                </a:solidFill>
                <a:latin typeface="Constantia"/>
              </a:rPr>
              <a:t>     </a:t>
            </a:r>
            <a:r>
              <a:rPr b="1" i="1" lang="ru-RU" sz="4800" spc="-1" strike="noStrike">
                <a:solidFill>
                  <a:srgbClr val="990099"/>
                </a:solidFill>
                <a:latin typeface="Constantia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ужит т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0099"/>
                </a:solidFill>
                <a:latin typeface="Constantia"/>
              </a:rPr>
              <a:t>                   </a:t>
            </a:r>
            <a:r>
              <a:rPr b="1" i="1" lang="ru-RU" sz="4800" spc="-1" strike="noStrike">
                <a:solidFill>
                  <a:srgbClr val="990099"/>
                </a:solidFill>
                <a:latin typeface="Constantia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Бурый вол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0099"/>
                </a:solidFill>
                <a:latin typeface="Constantia"/>
              </a:rPr>
              <a:t>     </a:t>
            </a:r>
            <a:r>
              <a:rPr b="1" i="1" lang="ru-RU" sz="4800" spc="-1" strike="noStrike">
                <a:solidFill>
                  <a:srgbClr val="990099"/>
                </a:solidFill>
                <a:latin typeface="Constantia"/>
              </a:rPr>
              <a:t>х</a:t>
            </a:r>
            <a:r>
              <a:rPr b="1" i="1" lang="ru-RU" sz="4400" spc="-1" strike="noStrike">
                <a:solidFill>
                  <a:srgbClr val="990099"/>
                </a:solidFill>
                <a:latin typeface="Constant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лужит 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0099"/>
                </a:solidFill>
                <a:latin typeface="Constantia"/>
              </a:rPr>
              <a:t>     </a:t>
            </a:r>
            <a:r>
              <a:rPr b="1" i="1" lang="ru-RU" sz="4800" spc="-1" strike="noStrike">
                <a:solidFill>
                  <a:srgbClr val="990099"/>
                </a:solidFill>
                <a:latin typeface="Constantia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лужит вер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AutoShape 16"/>
          <p:cNvSpPr/>
          <p:nvPr/>
        </p:nvSpPr>
        <p:spPr>
          <a:xfrm flipH="1" rot="10800000">
            <a:off x="2567160" y="4650840"/>
            <a:ext cx="1584000" cy="360360"/>
          </a:xfrm>
          <a:custGeom>
            <a:avLst/>
            <a:gdLst>
              <a:gd name="textAreaLeft" fmla="*/ 360 w 1584000"/>
              <a:gd name="textAreaRight" fmla="*/ 1346400 w 1584000"/>
              <a:gd name="textAreaTop" fmla="*/ 2782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6265" y="0"/>
                </a:moveTo>
                <a:lnTo>
                  <a:pt x="10929" y="10929"/>
                </a:lnTo>
                <a:lnTo>
                  <a:pt x="14176" y="10929"/>
                </a:lnTo>
                <a:lnTo>
                  <a:pt x="14176" y="16684"/>
                </a:lnTo>
                <a:lnTo>
                  <a:pt x="0" y="16684"/>
                </a:lnTo>
                <a:lnTo>
                  <a:pt x="0" y="21600"/>
                </a:lnTo>
                <a:lnTo>
                  <a:pt x="18353" y="21600"/>
                </a:lnTo>
                <a:lnTo>
                  <a:pt x="18353" y="10929"/>
                </a:lnTo>
                <a:lnTo>
                  <a:pt x="21600" y="10929"/>
                </a:lnTo>
                <a:lnTo>
                  <a:pt x="16265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AutoShape 17"/>
          <p:cNvSpPr/>
          <p:nvPr/>
        </p:nvSpPr>
        <p:spPr>
          <a:xfrm flipH="1" rot="10800000">
            <a:off x="3067200" y="907560"/>
            <a:ext cx="1511280" cy="287640"/>
          </a:xfrm>
          <a:custGeom>
            <a:avLst/>
            <a:gdLst>
              <a:gd name="textAreaLeft" fmla="*/ 360 w 1511280"/>
              <a:gd name="textAreaRight" fmla="*/ 1284480 w 1511280"/>
              <a:gd name="textAreaTop" fmla="*/ 22212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16265" y="0"/>
                </a:moveTo>
                <a:lnTo>
                  <a:pt x="10929" y="10929"/>
                </a:lnTo>
                <a:lnTo>
                  <a:pt x="14176" y="10929"/>
                </a:lnTo>
                <a:lnTo>
                  <a:pt x="14176" y="16684"/>
                </a:lnTo>
                <a:lnTo>
                  <a:pt x="0" y="16684"/>
                </a:lnTo>
                <a:lnTo>
                  <a:pt x="0" y="21600"/>
                </a:lnTo>
                <a:lnTo>
                  <a:pt x="18353" y="21600"/>
                </a:lnTo>
                <a:lnTo>
                  <a:pt x="18353" y="10929"/>
                </a:lnTo>
                <a:lnTo>
                  <a:pt x="21600" y="10929"/>
                </a:lnTo>
                <a:lnTo>
                  <a:pt x="16265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AutoShape 18"/>
          <p:cNvSpPr/>
          <p:nvPr/>
        </p:nvSpPr>
        <p:spPr>
          <a:xfrm flipH="1" rot="10800000">
            <a:off x="2513160" y="1843200"/>
            <a:ext cx="1079280" cy="287280"/>
          </a:xfrm>
          <a:custGeom>
            <a:avLst/>
            <a:gdLst>
              <a:gd name="textAreaLeft" fmla="*/ 0 w 1079280"/>
              <a:gd name="textAreaRight" fmla="*/ 917280 w 1079280"/>
              <a:gd name="textAreaTop" fmla="*/ 22212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16265" y="0"/>
                </a:moveTo>
                <a:lnTo>
                  <a:pt x="10929" y="10929"/>
                </a:lnTo>
                <a:lnTo>
                  <a:pt x="14176" y="10929"/>
                </a:lnTo>
                <a:lnTo>
                  <a:pt x="14176" y="16684"/>
                </a:lnTo>
                <a:lnTo>
                  <a:pt x="0" y="16684"/>
                </a:lnTo>
                <a:lnTo>
                  <a:pt x="0" y="21600"/>
                </a:lnTo>
                <a:lnTo>
                  <a:pt x="18353" y="21600"/>
                </a:lnTo>
                <a:lnTo>
                  <a:pt x="18353" y="10929"/>
                </a:lnTo>
                <a:lnTo>
                  <a:pt x="21600" y="10929"/>
                </a:lnTo>
                <a:lnTo>
                  <a:pt x="16265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AutoShape 19"/>
          <p:cNvSpPr/>
          <p:nvPr/>
        </p:nvSpPr>
        <p:spPr>
          <a:xfrm flipH="1" rot="10800000">
            <a:off x="2367360" y="3715920"/>
            <a:ext cx="1368360" cy="289080"/>
          </a:xfrm>
          <a:custGeom>
            <a:avLst/>
            <a:gdLst>
              <a:gd name="textAreaLeft" fmla="*/ -360 w 1368360"/>
              <a:gd name="textAreaRight" fmla="*/ 1162440 w 1368360"/>
              <a:gd name="textAreaTop" fmla="*/ 22356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16265" y="0"/>
                </a:moveTo>
                <a:lnTo>
                  <a:pt x="10929" y="10929"/>
                </a:lnTo>
                <a:lnTo>
                  <a:pt x="14176" y="10929"/>
                </a:lnTo>
                <a:lnTo>
                  <a:pt x="14176" y="16684"/>
                </a:lnTo>
                <a:lnTo>
                  <a:pt x="0" y="16684"/>
                </a:lnTo>
                <a:lnTo>
                  <a:pt x="0" y="21600"/>
                </a:lnTo>
                <a:lnTo>
                  <a:pt x="18353" y="21600"/>
                </a:lnTo>
                <a:lnTo>
                  <a:pt x="18353" y="10929"/>
                </a:lnTo>
                <a:lnTo>
                  <a:pt x="21600" y="10929"/>
                </a:lnTo>
                <a:lnTo>
                  <a:pt x="16265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AutoShape 20"/>
          <p:cNvSpPr/>
          <p:nvPr/>
        </p:nvSpPr>
        <p:spPr>
          <a:xfrm rot="10800000">
            <a:off x="1846080" y="2579400"/>
            <a:ext cx="1439640" cy="360360"/>
          </a:xfrm>
          <a:custGeom>
            <a:avLst/>
            <a:gdLst>
              <a:gd name="textAreaLeft" fmla="*/ 0 w 1439640"/>
              <a:gd name="textAreaRight" fmla="*/ 1223280 w 1439640"/>
              <a:gd name="textAreaTop" fmla="*/ 2782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6265" y="0"/>
                </a:moveTo>
                <a:lnTo>
                  <a:pt x="10929" y="10929"/>
                </a:lnTo>
                <a:lnTo>
                  <a:pt x="14176" y="10929"/>
                </a:lnTo>
                <a:lnTo>
                  <a:pt x="14176" y="16684"/>
                </a:lnTo>
                <a:lnTo>
                  <a:pt x="0" y="16684"/>
                </a:lnTo>
                <a:lnTo>
                  <a:pt x="0" y="21600"/>
                </a:lnTo>
                <a:lnTo>
                  <a:pt x="18353" y="21600"/>
                </a:lnTo>
                <a:lnTo>
                  <a:pt x="18353" y="10929"/>
                </a:lnTo>
                <a:lnTo>
                  <a:pt x="21600" y="10929"/>
                </a:lnTo>
                <a:lnTo>
                  <a:pt x="16265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536400" y="-55440"/>
            <a:ext cx="8412480" cy="3700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БОУ «Камскополянская средняя общеобразовательная школа №2 с углубленным изучением отдельных предметов» пгт Камские Поляны Нижнекамского района Р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7570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ть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онятие словосочетание, способы связи слов в словосочетании, роль словосочетаний в тексте.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Уметь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ыделять словосочетания из предложения, находить в словосочетании главное и зависимое слово, строить словосочетания; использовать точные, выразительные словосочетания для достижения ясности, образности реч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996633"/>
                </a:solidFill>
                <a:latin typeface="Calibri"/>
              </a:rPr>
              <a:t>Темница, царевна, там, в, </a:t>
            </a:r>
            <a:br>
              <a:rPr sz="3600"/>
            </a:br>
            <a:r>
              <a:rPr b="0" i="1" lang="ru-RU" sz="3600" spc="-1" strike="noStrike">
                <a:solidFill>
                  <a:srgbClr val="996633"/>
                </a:solidFill>
                <a:latin typeface="Calibri"/>
              </a:rPr>
              <a:t>тужит, волк, а, служит, </a:t>
            </a:r>
            <a:br>
              <a:rPr sz="3600"/>
            </a:br>
            <a:r>
              <a:rPr b="0" i="1" lang="ru-RU" sz="3600" spc="-1" strike="noStrike">
                <a:solidFill>
                  <a:srgbClr val="996633"/>
                </a:solidFill>
                <a:latin typeface="Calibri"/>
              </a:rPr>
              <a:t>бурый, ей, верно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Есть ли смысл в том, что записано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Что нужно сделать, чтобы между словами установился определенный смысл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6633"/>
                </a:solidFill>
                <a:latin typeface="Calibri"/>
              </a:rPr>
              <a:t>В темнице там царевна тужит,</a:t>
            </a:r>
            <a:br>
              <a:rPr sz="4000"/>
            </a:br>
            <a:r>
              <a:rPr b="0" i="1" lang="ru-RU" sz="4000" spc="-1" strike="noStrike">
                <a:solidFill>
                  <a:srgbClr val="996633"/>
                </a:solidFill>
                <a:latin typeface="Calibri"/>
              </a:rPr>
              <a:t>А бурый волк ей верно служит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3357360"/>
            <a:ext cx="8496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из поэмы «Руслан и Людмила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помогло вам построить предложение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 Выделите словосочет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i="1" lang="ru-RU" sz="3200" spc="-1" strike="noStrike">
                <a:solidFill>
                  <a:srgbClr val="990099"/>
                </a:solidFill>
                <a:latin typeface="Calibri"/>
              </a:rPr>
              <a:t>В темнице там царевна тужит,</a:t>
            </a:r>
            <a:br>
              <a:rPr sz="3200"/>
            </a:br>
            <a:r>
              <a:rPr b="0" i="1" lang="ru-RU" sz="3200" spc="-1" strike="noStrike">
                <a:solidFill>
                  <a:srgbClr val="990099"/>
                </a:solidFill>
                <a:latin typeface="Calibri"/>
              </a:rPr>
              <a:t>       А бурый волк ей верно служит.</a:t>
            </a: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Измените главное слово.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 волке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 (Предложный падеж)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Что стало с зависимым?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ур/ом/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 (оно тоже изменилось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ывод : слова в словосочетании связаны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    грамматическ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устанавливается смысл в предложении между словами, законы сочетания слов в предложении и самих предложений изучает раздел науки о языке 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Vladimir Script"/>
              </a:rPr>
              <a:t>синтаксис</a:t>
            </a:r>
            <a:r>
              <a:rPr b="1" lang="ru-RU" sz="44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греч. – составление, построени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ила употребления знаков препинания изучает </a:t>
            </a:r>
            <a:r>
              <a:rPr b="1" i="1" lang="ru-RU" sz="4400" spc="-1" strike="noStrike">
                <a:solidFill>
                  <a:srgbClr val="ff0000"/>
                </a:solidFill>
                <a:latin typeface="Vladimir Script"/>
              </a:rPr>
              <a:t>пунктуация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4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ва каких частей речи могут составлять словосочета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ли слова в словосочетании       сочет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WordArt 4"/>
          <p:cNvSpPr txBox="1"/>
          <p:nvPr/>
        </p:nvSpPr>
        <p:spPr>
          <a:xfrm>
            <a:off x="1979640" y="692280"/>
            <a:ext cx="45673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умай!</a:t>
            </a:r>
            <a:endParaRPr b="0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Calibri"/>
              </a:rPr>
              <a:t>Виды словосочетаний по строению.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301760" y="1828800"/>
          <a:ext cx="6800760" cy="3657600"/>
        </p:xfrm>
        <a:graphic>
          <a:graphicData uri="http://schemas.openxmlformats.org/drawingml/2006/table">
            <a:tbl>
              <a:tblPr/>
              <a:tblGrid>
                <a:gridCol w="3400560"/>
                <a:gridCol w="3400200"/>
              </a:tblGrid>
              <a:tr h="43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9900"/>
                          </a:solidFill>
                          <a:latin typeface="Comic Sans MS"/>
                        </a:rPr>
                        <a:t>Им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лк бур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авное слово выражено именем существительны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9900"/>
                          </a:solidFill>
                          <a:latin typeface="Comic Sans MS"/>
                        </a:rPr>
                        <a:t>Глаго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ужит вер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авное слово выражено глагол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5"/>
          <p:cNvSpPr/>
          <p:nvPr/>
        </p:nvSpPr>
        <p:spPr>
          <a:xfrm>
            <a:off x="7072200" y="294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AutoShape 17"/>
          <p:cNvSpPr/>
          <p:nvPr/>
        </p:nvSpPr>
        <p:spPr>
          <a:xfrm flipH="1" rot="10800000">
            <a:off x="1908000" y="2708280"/>
            <a:ext cx="1368720" cy="216000"/>
          </a:xfrm>
          <a:custGeom>
            <a:avLst/>
            <a:gdLst>
              <a:gd name="textAreaLeft" fmla="*/ 360 w 1368720"/>
              <a:gd name="textAreaRight" fmla="*/ 1173600 w 1368720"/>
              <a:gd name="textAreaTop" fmla="*/ 18612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17227" y="0"/>
                </a:moveTo>
                <a:lnTo>
                  <a:pt x="12854" y="7200"/>
                </a:lnTo>
                <a:lnTo>
                  <a:pt x="15940" y="7200"/>
                </a:lnTo>
                <a:lnTo>
                  <a:pt x="15940" y="18597"/>
                </a:lnTo>
                <a:lnTo>
                  <a:pt x="0" y="18597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72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18"/>
          <p:cNvSpPr/>
          <p:nvPr/>
        </p:nvSpPr>
        <p:spPr>
          <a:xfrm flipH="1" rot="10800000">
            <a:off x="5724360" y="2708280"/>
            <a:ext cx="1368720" cy="216000"/>
          </a:xfrm>
          <a:custGeom>
            <a:avLst/>
            <a:gdLst>
              <a:gd name="textAreaLeft" fmla="*/ 360 w 1368720"/>
              <a:gd name="textAreaRight" fmla="*/ 1173600 w 1368720"/>
              <a:gd name="textAreaTop" fmla="*/ 18612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17227" y="0"/>
                </a:moveTo>
                <a:lnTo>
                  <a:pt x="12854" y="7200"/>
                </a:lnTo>
                <a:lnTo>
                  <a:pt x="15940" y="7200"/>
                </a:lnTo>
                <a:lnTo>
                  <a:pt x="15940" y="18597"/>
                </a:lnTo>
                <a:lnTo>
                  <a:pt x="0" y="18597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72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9100"/>
                </a:solidFill>
                <a:latin typeface="Constantia"/>
              </a:rPr>
              <a:t>Задание:    </a:t>
            </a:r>
            <a:r>
              <a:rPr b="1" i="1" lang="ru-RU" sz="4000" spc="-1" strike="noStrike">
                <a:solidFill>
                  <a:srgbClr val="f49100"/>
                </a:solidFill>
                <a:latin typeface="Constantia"/>
              </a:rPr>
              <a:t>выбери нужно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лубокая (весна, осень, ночь, день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Большое ( спасибо, пожалуйст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Рыбный (суп, хвост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ушеные (грибы, фрукты, облака, бель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WordArt 4"/>
          <p:cNvSpPr txBox="1"/>
          <p:nvPr/>
        </p:nvSpPr>
        <p:spPr>
          <a:xfrm rot="21462600">
            <a:off x="2109960" y="4222440"/>
            <a:ext cx="511164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 уверены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14:57:54Z</dcterms:created>
  <dc:creator>Ольга</dc:creator>
  <dc:description/>
  <dc:language>en-US</dc:language>
  <cp:lastModifiedBy>Слушатель курсов</cp:lastModifiedBy>
  <dcterms:modified xsi:type="dcterms:W3CDTF">2012-11-23T06:46:18Z</dcterms:modified>
  <cp:revision>30</cp:revision>
  <dc:subject/>
  <dc:title>Урок русского языка  в 5 классе</dc:title>
</cp:coreProperties>
</file>