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AB5-8348-45C5-A1AD-A758214E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E335-97BF-4AF1-84E6-56A778550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EFAE-CBFA-4020-9FAF-546F857A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27F-8633-4B73-8615-363B2573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423-175A-47A9-9CB9-F9987C2F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E7AA-6CB1-4D87-9EAA-2BBBE56E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B8A-C537-41B2-AD12-9E80FE1F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838-566B-4558-A7F1-8B7EF2E0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92B1-2F91-4EA6-A3D9-1866A9CDC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47E-30BA-4BD4-B06E-13CA3D78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932-B674-42A9-B5FE-34F65E5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0E2-23E6-4292-AC07-41135F40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0287-27E1-40A8-9E2A-7327147E8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37440" cy="6337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олнце, растения и мы с вам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вторение изученног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очему растения называют зелёной одеждой Зем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Перечислите группы растений и дайте им краткую характерист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 каким группам относятся следующие раст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роза, лиственница, морская капус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клён, кедр, одуванчик, сос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рганы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1700280"/>
            <a:ext cx="5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2205000"/>
            <a:ext cx="50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2637000"/>
            <a:ext cx="5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3141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3645000"/>
            <a:ext cx="5050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95640" y="414972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95640" y="4653000"/>
            <a:ext cx="50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2637000"/>
            <a:ext cx="503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87640" y="263700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2637000"/>
            <a:ext cx="5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2637000"/>
            <a:ext cx="5029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2637000"/>
            <a:ext cx="576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213372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1700280"/>
            <a:ext cx="50472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3141720"/>
            <a:ext cx="504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0720" y="4149720"/>
            <a:ext cx="502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4149720"/>
            <a:ext cx="505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4149720"/>
            <a:ext cx="50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16720" y="4149720"/>
            <a:ext cx="503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4653000"/>
            <a:ext cx="50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5084640"/>
            <a:ext cx="505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5516640"/>
            <a:ext cx="5050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5950080"/>
            <a:ext cx="505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6381720"/>
            <a:ext cx="505080" cy="476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5516640"/>
            <a:ext cx="431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360" y="5516640"/>
            <a:ext cx="43164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5516640"/>
            <a:ext cx="503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2000" y="5516640"/>
            <a:ext cx="504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16720" y="5516640"/>
            <a:ext cx="50328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00360" y="177336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744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34000" y="265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45280" y="41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8880" y="3716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81800" y="5516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gradFill rotWithShape="0">
            <a:gsLst>
              <a:gs pos="0">
                <a:srgbClr val="4e7050"/>
              </a:gs>
              <a:gs pos="100000">
                <a:srgbClr val="aaf4a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ЛНЦЕ          РАСТЕНИЯ          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3284640"/>
            <a:ext cx="719280" cy="360360"/>
          </a:xfrm>
          <a:prstGeom prst="leftRightArrow">
            <a:avLst>
              <a:gd name="adj1" fmla="val 50000"/>
              <a:gd name="adj2" fmla="val 3973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51640" y="3284640"/>
            <a:ext cx="718920" cy="360360"/>
          </a:xfrm>
          <a:prstGeom prst="leftRightArrow">
            <a:avLst>
              <a:gd name="adj1" fmla="val 50000"/>
              <a:gd name="adj2" fmla="val 397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ыхание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3700440" cy="3674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24000" y="2276640"/>
            <a:ext cx="201600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2276640"/>
            <a:ext cx="2016360" cy="122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еки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3480" y="5052960"/>
            <a:ext cx="1433880" cy="88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4941720"/>
            <a:ext cx="194472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еки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781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270828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544500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24360" y="5445000"/>
            <a:ext cx="720720" cy="287640"/>
          </a:xfrm>
          <a:prstGeom prst="rightArrow">
            <a:avLst>
              <a:gd name="adj1" fmla="val 50000"/>
              <a:gd name="adj2" fmla="val 626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7440" y="530064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ак питаются раст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воими корнями растения всасываю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из почвы воду с растворёнными со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ие вещества в большом количестве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одержатся в этих плодах растен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КРАХМАЛ                             ГЛЮК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508720" y="4005360"/>
            <a:ext cx="2950920" cy="2146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3095640" cy="20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916360" y="1989000"/>
            <a:ext cx="3960720" cy="3934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5280" y="1773360"/>
            <a:ext cx="201600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глекисл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284640"/>
            <a:ext cx="208728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ИСЛ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5229360"/>
            <a:ext cx="2376720" cy="1366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 растворён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2349360"/>
            <a:ext cx="201780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КРАХМ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2276640"/>
            <a:ext cx="792000" cy="288720"/>
          </a:xfrm>
          <a:prstGeom prst="rightArrow">
            <a:avLst>
              <a:gd name="adj1" fmla="val 50000"/>
              <a:gd name="adj2" fmla="val 685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6000" y="3716280"/>
            <a:ext cx="792000" cy="289080"/>
          </a:xfrm>
          <a:prstGeom prst="leftArrow">
            <a:avLst>
              <a:gd name="adj1" fmla="val 50000"/>
              <a:gd name="adj2" fmla="val 684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43280" y="5229360"/>
            <a:ext cx="792000" cy="287280"/>
          </a:xfrm>
          <a:prstGeom prst="rightArrow">
            <a:avLst>
              <a:gd name="adj1" fmla="val 50000"/>
              <a:gd name="adj2" fmla="val 6892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732720" y="1484280"/>
            <a:ext cx="21952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9T18:42:50Z</dcterms:created>
  <dc:creator>Ольга</dc:creator>
  <dc:description/>
  <dc:language>en-US</dc:language>
  <cp:lastModifiedBy>Ольга</cp:lastModifiedBy>
  <dcterms:modified xsi:type="dcterms:W3CDTF">2014-11-09T19:49:15Z</dcterms:modified>
  <cp:revision>2</cp:revision>
  <dc:subject/>
  <dc:title>Солнце, растения и мы с вами</dc:title>
</cp:coreProperties>
</file>