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A59-DA66-441E-909E-B9343297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EA3-7C61-4C16-81E2-31AD6AF8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F16-7F7B-4EAC-A535-9BCF0AFC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B18-5677-44BA-94E6-AADDE15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611-53C8-48A9-8F91-EA778563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CAC-F828-4754-90AE-7774B0E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F2E-5846-43B2-A88E-C997FA4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AAE-2440-4134-95F4-8DF2E435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172-33FE-4FE5-A29D-F737B470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68D-7943-4E6B-8D61-4C21681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34A-7375-4E27-BA3F-5074DCF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9A4-A139-49A6-B7A7-B45489B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08CB-FE69-40E4-9E84-D0DCED2A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633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олнце, растения и мы с в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торение изучен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чему растения называют зелёной одеждой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числите группы растений и дайте им краткую характерис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 каким группам относятся следующие раст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оза, лиственница, морская кап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лён, кедр, одуванчик, со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ы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00280"/>
            <a:ext cx="5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220500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263700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3645000"/>
            <a:ext cx="50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414972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465300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263700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63700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2637000"/>
            <a:ext cx="5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637000"/>
            <a:ext cx="502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2637000"/>
            <a:ext cx="5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213372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170028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141720"/>
            <a:ext cx="50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414972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414972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414972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465300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5084640"/>
            <a:ext cx="505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5516640"/>
            <a:ext cx="505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595008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381720"/>
            <a:ext cx="5050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516640"/>
            <a:ext cx="431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5516640"/>
            <a:ext cx="431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516640"/>
            <a:ext cx="50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5516640"/>
            <a:ext cx="504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5516640"/>
            <a:ext cx="50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773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3400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8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1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gradFill rotWithShape="0">
            <a:gsLst>
              <a:gs pos="0">
                <a:srgbClr val="4e7050"/>
              </a:gs>
              <a:gs pos="100000">
                <a:srgbClr val="aaf4a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НЦЕ          РАСТЕНИЯ         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3284640"/>
            <a:ext cx="719280" cy="360360"/>
          </a:xfrm>
          <a:prstGeom prst="leftRightArrow">
            <a:avLst>
              <a:gd name="adj1" fmla="val 50000"/>
              <a:gd name="adj2" fmla="val 3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3284640"/>
            <a:ext cx="718920" cy="360360"/>
          </a:xfrm>
          <a:prstGeom prst="leftRightArrow">
            <a:avLst>
              <a:gd name="adj1" fmla="val 50000"/>
              <a:gd name="adj2" fmla="val 397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ыха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700440" cy="367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2276640"/>
            <a:ext cx="201600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2276640"/>
            <a:ext cx="201636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е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3480" y="5052960"/>
            <a:ext cx="1433880" cy="88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4941720"/>
            <a:ext cx="19447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е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781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70828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544500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544500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7440" y="530064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итаются раст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воими корнями растения всас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з почвы воду с растворёнными со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ие вещества в большом количеств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держатся в этих плодах раст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ХМАЛ                             ГЛЮ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2950920" cy="2146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956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960720" cy="393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773360"/>
            <a:ext cx="2016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е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284640"/>
            <a:ext cx="2087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229360"/>
            <a:ext cx="2376720" cy="136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растворё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349360"/>
            <a:ext cx="201780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2276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716280"/>
            <a:ext cx="792000" cy="289080"/>
          </a:xfrm>
          <a:prstGeom prst="leftArrow">
            <a:avLst>
              <a:gd name="adj1" fmla="val 50000"/>
              <a:gd name="adj2" fmla="val 68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229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1484280"/>
            <a:ext cx="2195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8:42:50Z</dcterms:created>
  <dc:creator>Ольга</dc:creator>
  <dc:description/>
  <dc:language>en-US</dc:language>
  <cp:lastModifiedBy>Ольга</cp:lastModifiedBy>
  <dcterms:modified xsi:type="dcterms:W3CDTF">2014-11-09T19:49:15Z</dcterms:modified>
  <cp:revision>2</cp:revision>
  <dc:subject/>
  <dc:title>Солнце, растения и мы с вами</dc:title>
</cp:coreProperties>
</file>