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2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F2F3-0F40-4AB7-8B33-DB153EB32A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B219-9F24-4AC6-8BF9-1C1A508598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7B8-518D-4CCD-9020-8F874EAA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C9E-B247-4324-8E84-315677CC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742-FB31-4D1C-AA7A-64227D18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CB6-C4F8-4B74-99BC-757206EC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924-B805-4FF6-8A26-9A24820E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FD1-C213-4C1E-BE34-4B40CBB2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847-F927-429D-9B9A-C54632E7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30A-D1F1-4BED-8BED-60C855C9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8F5-7484-4C6A-A3A6-C9B50C6A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5E2-89AD-462B-94FB-990A5E08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2EE-46E8-4D1B-B126-A5FEF2A0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935-4DCF-4890-8CD3-673783C3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4785-8C58-44D0-AB3C-80968E6E3D0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9CED-1E10-41F2-AA49-567422C475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roshkolu.ru/user/AidaAlex/file/393069/" TargetMode="External"/><Relationship Id="rId2" Type="http://schemas.openxmlformats.org/officeDocument/2006/relationships/hyperlink" Target="http://english.ucoz.de/index/alfavit/0-43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817560" y="1268280"/>
            <a:ext cx="7772400" cy="2370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0040" y="321444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632523"/>
              </a:solidFill>
              <a:latin typeface="Calibri"/>
            </a:endParaRPr>
          </a:p>
        </p:txBody>
      </p:sp>
      <p:grpSp>
        <p:nvGrpSpPr>
          <p:cNvPr id="50" name="Прямоугольник 3"/>
          <p:cNvGrpSpPr/>
          <p:nvPr/>
        </p:nvGrpSpPr>
        <p:grpSpPr>
          <a:xfrm>
            <a:off x="-19080" y="5913360"/>
            <a:ext cx="9175680" cy="176400"/>
            <a:chOff x="-19080" y="5913360"/>
            <a:chExt cx="9175680" cy="176400"/>
          </a:xfrm>
        </p:grpSpPr>
        <p:pic>
          <p:nvPicPr>
            <p:cNvPr id="51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-19080" y="5913360"/>
              <a:ext cx="91756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92920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4"/>
          <p:cNvGrpSpPr/>
          <p:nvPr/>
        </p:nvGrpSpPr>
        <p:grpSpPr>
          <a:xfrm>
            <a:off x="-19080" y="6199200"/>
            <a:ext cx="9175680" cy="171360"/>
            <a:chOff x="-19080" y="6199200"/>
            <a:chExt cx="9175680" cy="171360"/>
          </a:xfrm>
        </p:grpSpPr>
        <p:pic>
          <p:nvPicPr>
            <p:cNvPr id="5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61992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62150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TextBox 5" descr=""/>
          <p:cNvPicPr/>
          <p:nvPr/>
        </p:nvPicPr>
        <p:blipFill>
          <a:blip r:embed="rId4"/>
          <a:stretch/>
        </p:blipFill>
        <p:spPr>
          <a:xfrm>
            <a:off x="-1042920" y="2305080"/>
            <a:ext cx="5376960" cy="61372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6" descr=""/>
          <p:cNvPicPr/>
          <p:nvPr/>
        </p:nvPicPr>
        <p:blipFill>
          <a:blip r:embed="rId5"/>
          <a:stretch/>
        </p:blipFill>
        <p:spPr>
          <a:xfrm>
            <a:off x="792000" y="2298600"/>
            <a:ext cx="5585040" cy="621684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7" descr=""/>
          <p:cNvPicPr/>
          <p:nvPr/>
        </p:nvPicPr>
        <p:blipFill>
          <a:blip r:embed="rId6"/>
          <a:stretch/>
        </p:blipFill>
        <p:spPr>
          <a:xfrm>
            <a:off x="3048120" y="2475000"/>
            <a:ext cx="4803480" cy="56815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8" descr=""/>
          <p:cNvPicPr/>
          <p:nvPr/>
        </p:nvPicPr>
        <p:blipFill>
          <a:blip r:embed="rId7"/>
          <a:stretch/>
        </p:blipFill>
        <p:spPr>
          <a:xfrm>
            <a:off x="4614840" y="2212920"/>
            <a:ext cx="5645160" cy="6265800"/>
          </a:xfrm>
          <a:prstGeom prst="rect">
            <a:avLst/>
          </a:prstGeom>
          <a:ln w="0">
            <a:noFill/>
          </a:ln>
        </p:spPr>
      </p:pic>
      <p:grpSp>
        <p:nvGrpSpPr>
          <p:cNvPr id="60" name="Прямоугольник 9"/>
          <p:cNvGrpSpPr/>
          <p:nvPr/>
        </p:nvGrpSpPr>
        <p:grpSpPr>
          <a:xfrm>
            <a:off x="-19080" y="6340320"/>
            <a:ext cx="9175680" cy="176400"/>
            <a:chOff x="-19080" y="6340320"/>
            <a:chExt cx="9175680" cy="176400"/>
          </a:xfrm>
        </p:grpSpPr>
        <p:pic>
          <p:nvPicPr>
            <p:cNvPr id="61" name="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-19080" y="6340320"/>
              <a:ext cx="91756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0" y="635796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Прямоугольник 10"/>
          <p:cNvGrpSpPr/>
          <p:nvPr/>
        </p:nvGrpSpPr>
        <p:grpSpPr>
          <a:xfrm>
            <a:off x="-19080" y="6059520"/>
            <a:ext cx="9175680" cy="169920"/>
            <a:chOff x="-19080" y="6059520"/>
            <a:chExt cx="9175680" cy="169920"/>
          </a:xfrm>
        </p:grpSpPr>
        <p:pic>
          <p:nvPicPr>
            <p:cNvPr id="64" name="Прямоугольник 10" descr=""/>
            <p:cNvPicPr/>
            <p:nvPr/>
          </p:nvPicPr>
          <p:blipFill>
            <a:blip r:embed="rId9"/>
            <a:stretch/>
          </p:blipFill>
          <p:spPr>
            <a:xfrm>
              <a:off x="-19080" y="605952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607212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" descr="H:\Documents and Settings\Aida\Рабочий стол\текстуры и фоны, клипарты\новеньки картинки\questions mc.gif"/>
          <p:cNvPicPr/>
          <p:nvPr/>
        </p:nvPicPr>
        <p:blipFill>
          <a:blip r:embed="rId10"/>
          <a:stretch/>
        </p:blipFill>
        <p:spPr>
          <a:xfrm>
            <a:off x="-142920" y="428760"/>
            <a:ext cx="150012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oshkolu.ru/user/AidaAlex/file/393069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nglish.ucoz.de/index/alfavit/0-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viki.rdf.ru/item/78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y-english.ucoz.ru/index/bukvy_i_zvuki/0-4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school6ch.ucoz.ru/index/tvorcheskie_raboty_uchenikov/0-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ochemu4ka.ru/load/vsjo_dlja_detskogo_sada/kartochki_quot_schjot_ot_1_do_10_quot_cvetnye/44-1-0-12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8429-56B8-4F9C-A1DA-3D6B2ADC88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7AC0-03C6-4E86-9A38-D08A3B493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вайте, познакомимс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8E9D-383F-4168-A598-6684FE0D1F8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404E-BA3A-4752-83C7-450EFD9C4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Documents and Settings\Администратор\Мои документы\Мои рисунки\картинки\анимации НОВЫЕ КАРТИНКИ\Животные\забавная лисичка.jpg"/>
          <p:cNvPicPr/>
          <p:nvPr/>
        </p:nvPicPr>
        <p:blipFill>
          <a:blip r:embed="rId1"/>
          <a:stretch/>
        </p:blipFill>
        <p:spPr>
          <a:xfrm>
            <a:off x="642960" y="1571760"/>
            <a:ext cx="3228840" cy="382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Documents and Settings\Администратор\Мои документы\Мои рисунки\картинки\анимации НОВЫЕ КАРТИНКИ\Животные\Кити.jpg"/>
          <p:cNvPicPr/>
          <p:nvPr/>
        </p:nvPicPr>
        <p:blipFill>
          <a:blip r:embed="rId2"/>
          <a:stretch/>
        </p:blipFill>
        <p:spPr>
          <a:xfrm>
            <a:off x="4643280" y="1571760"/>
            <a:ext cx="4038840" cy="3917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19"/>
          <p:cNvSpPr/>
          <p:nvPr/>
        </p:nvSpPr>
        <p:spPr>
          <a:xfrm>
            <a:off x="1000080" y="5643720"/>
            <a:ext cx="27860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Funny Fo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5286240" y="5572080"/>
            <a:ext cx="27860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Kit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The ABC quiz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D622-94FE-46A8-A8C7-871E3D7F3CD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2644-EE96-4A06-B317-8CA128531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Администратор\Мои документы\Downloads\Алфавит цветной.jpg"/>
          <p:cNvPicPr/>
          <p:nvPr/>
        </p:nvPicPr>
        <p:blipFill>
          <a:blip r:embed="rId1"/>
          <a:stretch/>
        </p:blipFill>
        <p:spPr>
          <a:xfrm>
            <a:off x="2170080" y="1328760"/>
            <a:ext cx="46515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 вс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0C63-B987-49C6-B1D6-71E1B982BEA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CB18-F6CC-4124-A226-70C03E31D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00280" y="1214280"/>
            <a:ext cx="76136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едини значки с букв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85840" y="1714680"/>
          <a:ext cx="4038480" cy="4572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Funny Fox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l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d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t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f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786200" y="1785960"/>
          <a:ext cx="4038840" cy="4572000"/>
        </p:xfrm>
        <a:graphic>
          <a:graphicData uri="http://schemas.openxmlformats.org/drawingml/2006/table">
            <a:tbl>
              <a:tblPr/>
              <a:tblGrid>
                <a:gridCol w="2019240"/>
                <a:gridCol w="201960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Kitti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w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b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k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s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8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7A98-E5EB-4733-B3DC-16865C2D5A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6C03-4FA0-4906-AF21-54FEC54B7C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тори циф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E1AE-4E30-463F-AAFC-3FFACDD976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74BF-CB3F-49F0-92EB-D0FF57677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500120" y="1285920"/>
            <a:ext cx="60008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гадай живот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4C5A-84B9-4635-891E-208AE90A336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5633-B9E0-4595-BD8D-D6A2ADE8E8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Администратор\Мои документы\Мои рисунки\картинки\анимации НОВЫЕ КАРТИНКИ\Животные\попугай.JPG"/>
          <p:cNvPicPr/>
          <p:nvPr/>
        </p:nvPicPr>
        <p:blipFill>
          <a:blip r:embed="rId1"/>
          <a:stretch/>
        </p:blipFill>
        <p:spPr>
          <a:xfrm>
            <a:off x="214200" y="3857760"/>
            <a:ext cx="2106720" cy="270828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5" descr="2mм5.gif"/>
          <p:cNvPicPr/>
          <p:nvPr/>
        </p:nvPicPr>
        <p:blipFill>
          <a:blip r:embed="rId2"/>
          <a:stretch/>
        </p:blipFill>
        <p:spPr>
          <a:xfrm>
            <a:off x="1785960" y="1571760"/>
            <a:ext cx="1857240" cy="2649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Администратор\Мои документы\Мои рисунки\картинки\анимации НОВЫЕ КАРТИНКИ\Животные\петух.JPG"/>
          <p:cNvPicPr/>
          <p:nvPr/>
        </p:nvPicPr>
        <p:blipFill>
          <a:blip r:embed="rId3"/>
          <a:stretch/>
        </p:blipFill>
        <p:spPr>
          <a:xfrm>
            <a:off x="6286680" y="3857760"/>
            <a:ext cx="2320920" cy="264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Администратор\Мои документы\Мои рисунки\картинки\анимации НОВЫЕ КАРТИНКИ\Животные\34m5.gif"/>
          <p:cNvPicPr/>
          <p:nvPr/>
        </p:nvPicPr>
        <p:blipFill>
          <a:blip r:embed="rId4"/>
          <a:stretch/>
        </p:blipFill>
        <p:spPr>
          <a:xfrm flipH="1">
            <a:off x="4357800" y="1571760"/>
            <a:ext cx="296064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обери пазл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9EB2-68B3-4E39-AE29-0DF17DA1AAC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A0F0-9362-446C-915D-1687B94F78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43000" y="1285920"/>
            <a:ext cx="68580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вайте, споё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9410-7B46-4CB6-8A12-06F9D93D228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BADE-DA85-4B53-BDC7-AF4D3E78E5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83581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0:59:46Z</dcterms:created>
  <dc:creator>Admin</dc:creator>
  <dc:description>http://aida.ucoz.ru</dc:description>
  <dc:language>en-US</dc:language>
  <cp:lastModifiedBy>Эдуард</cp:lastModifiedBy>
  <dcterms:modified xsi:type="dcterms:W3CDTF">2014-09-12T19:36:55Z</dcterms:modified>
  <cp:revision>18</cp:revision>
  <dc:subject/>
  <dc:title>The ABC party Class 2</dc:title>
</cp:coreProperties>
</file>