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2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0B20-B11C-448F-A632-33348EC968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8D30-B741-4A42-B808-477DEF315E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C65C-7126-4EF5-8C50-7F775DC7A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22B6-29C3-45C5-AF5B-09A63A6E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315-6CA8-424C-A455-12BB1AB8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10A-552A-46CB-B368-6B702D4D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560-FFCC-442F-A675-E2FE0ACC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F85-0EFE-48A6-931E-04993022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3C63-17E2-4EA2-B913-88567DD0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AE2-47FA-4993-8D21-16A2A399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73A7-1FA6-4AE0-8F5A-7CC9B237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735-A9E5-44DA-9E29-B9D067EA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ED0-71B7-4626-986A-E5C46BED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D9C-0B9C-41C4-9D46-AF01799C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69DE-F7C7-4360-BF80-36D89C0D98A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8D72-457B-4945-B02E-E3954E9739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roshkolu.ru/user/AidaAlex/file/393069/" TargetMode="External"/><Relationship Id="rId2" Type="http://schemas.openxmlformats.org/officeDocument/2006/relationships/hyperlink" Target="http://english.ucoz.de/index/alfavit/0-43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817560" y="1268280"/>
            <a:ext cx="7772400" cy="2370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0040" y="3214440"/>
            <a:ext cx="7858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632523"/>
              </a:solidFill>
              <a:latin typeface="Calibri"/>
            </a:endParaRPr>
          </a:p>
        </p:txBody>
      </p:sp>
      <p:grpSp>
        <p:nvGrpSpPr>
          <p:cNvPr id="50" name="Прямоугольник 3"/>
          <p:cNvGrpSpPr/>
          <p:nvPr/>
        </p:nvGrpSpPr>
        <p:grpSpPr>
          <a:xfrm>
            <a:off x="-19080" y="5913360"/>
            <a:ext cx="9175680" cy="176400"/>
            <a:chOff x="-19080" y="5913360"/>
            <a:chExt cx="9175680" cy="176400"/>
          </a:xfrm>
        </p:grpSpPr>
        <p:pic>
          <p:nvPicPr>
            <p:cNvPr id="51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-19080" y="5913360"/>
              <a:ext cx="91756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592920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Прямоугольник 4"/>
          <p:cNvGrpSpPr/>
          <p:nvPr/>
        </p:nvGrpSpPr>
        <p:grpSpPr>
          <a:xfrm>
            <a:off x="-19080" y="6199200"/>
            <a:ext cx="9175680" cy="171360"/>
            <a:chOff x="-19080" y="6199200"/>
            <a:chExt cx="9175680" cy="171360"/>
          </a:xfrm>
        </p:grpSpPr>
        <p:pic>
          <p:nvPicPr>
            <p:cNvPr id="54" name="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-19080" y="6199200"/>
              <a:ext cx="917568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0" y="621504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TextBox 5" descr=""/>
          <p:cNvPicPr/>
          <p:nvPr/>
        </p:nvPicPr>
        <p:blipFill>
          <a:blip r:embed="rId4"/>
          <a:stretch/>
        </p:blipFill>
        <p:spPr>
          <a:xfrm>
            <a:off x="-1042920" y="2305080"/>
            <a:ext cx="5376960" cy="6137280"/>
          </a:xfrm>
          <a:prstGeom prst="rect">
            <a:avLst/>
          </a:prstGeom>
          <a:ln w="0">
            <a:noFill/>
          </a:ln>
        </p:spPr>
      </p:pic>
      <p:pic>
        <p:nvPicPr>
          <p:cNvPr id="57" name="TextBox 6" descr=""/>
          <p:cNvPicPr/>
          <p:nvPr/>
        </p:nvPicPr>
        <p:blipFill>
          <a:blip r:embed="rId5"/>
          <a:stretch/>
        </p:blipFill>
        <p:spPr>
          <a:xfrm>
            <a:off x="792000" y="2298600"/>
            <a:ext cx="5585040" cy="621684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7" descr=""/>
          <p:cNvPicPr/>
          <p:nvPr/>
        </p:nvPicPr>
        <p:blipFill>
          <a:blip r:embed="rId6"/>
          <a:stretch/>
        </p:blipFill>
        <p:spPr>
          <a:xfrm>
            <a:off x="3048120" y="2475000"/>
            <a:ext cx="4803480" cy="568152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8" descr=""/>
          <p:cNvPicPr/>
          <p:nvPr/>
        </p:nvPicPr>
        <p:blipFill>
          <a:blip r:embed="rId7"/>
          <a:stretch/>
        </p:blipFill>
        <p:spPr>
          <a:xfrm>
            <a:off x="4614840" y="2212920"/>
            <a:ext cx="5645160" cy="6265800"/>
          </a:xfrm>
          <a:prstGeom prst="rect">
            <a:avLst/>
          </a:prstGeom>
          <a:ln w="0">
            <a:noFill/>
          </a:ln>
        </p:spPr>
      </p:pic>
      <p:grpSp>
        <p:nvGrpSpPr>
          <p:cNvPr id="60" name="Прямоугольник 9"/>
          <p:cNvGrpSpPr/>
          <p:nvPr/>
        </p:nvGrpSpPr>
        <p:grpSpPr>
          <a:xfrm>
            <a:off x="-19080" y="6340320"/>
            <a:ext cx="9175680" cy="176400"/>
            <a:chOff x="-19080" y="6340320"/>
            <a:chExt cx="9175680" cy="176400"/>
          </a:xfrm>
        </p:grpSpPr>
        <p:pic>
          <p:nvPicPr>
            <p:cNvPr id="61" name="Прямоугольник 9" descr=""/>
            <p:cNvPicPr/>
            <p:nvPr/>
          </p:nvPicPr>
          <p:blipFill>
            <a:blip r:embed="rId8"/>
            <a:stretch/>
          </p:blipFill>
          <p:spPr>
            <a:xfrm>
              <a:off x="-19080" y="6340320"/>
              <a:ext cx="91756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0" y="635796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Прямоугольник 10"/>
          <p:cNvGrpSpPr/>
          <p:nvPr/>
        </p:nvGrpSpPr>
        <p:grpSpPr>
          <a:xfrm>
            <a:off x="-19080" y="6059520"/>
            <a:ext cx="9175680" cy="169920"/>
            <a:chOff x="-19080" y="6059520"/>
            <a:chExt cx="9175680" cy="169920"/>
          </a:xfrm>
        </p:grpSpPr>
        <p:pic>
          <p:nvPicPr>
            <p:cNvPr id="64" name="Прямоугольник 10" descr=""/>
            <p:cNvPicPr/>
            <p:nvPr/>
          </p:nvPicPr>
          <p:blipFill>
            <a:blip r:embed="rId9"/>
            <a:stretch/>
          </p:blipFill>
          <p:spPr>
            <a:xfrm>
              <a:off x="-19080" y="6059520"/>
              <a:ext cx="917568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0" y="6072120"/>
              <a:ext cx="914400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" descr="H:\Documents and Settings\Aida\Рабочий стол\текстуры и фоны, клипарты\новеньки картинки\questions mc.gif"/>
          <p:cNvPicPr/>
          <p:nvPr/>
        </p:nvPicPr>
        <p:blipFill>
          <a:blip r:embed="rId10"/>
          <a:stretch/>
        </p:blipFill>
        <p:spPr>
          <a:xfrm>
            <a:off x="-142920" y="428760"/>
            <a:ext cx="150012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пользованные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roshkolu.ru/user/AidaAlex/file/393069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nglish.ucoz.de/index/alfavit/0-4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viki.rdf.ru/item/78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my-english.ucoz.ru/index/bukvy_i_zvuki/0-4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school6ch.ucoz.ru/index/tvorcheskie_raboty_uchenikov/0-2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http://pochemu4ka.ru/load/vsjo_dlja_detskogo_sada/kartochki_quot_schjot_ot_1_do_10_quot_cvetnye/44-1-0-124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6589-2557-459C-A215-E9C3CE7251B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B5D5-CD78-4C35-971A-B93D1EA9B0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вайте, познакомимс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1BF3-2793-4DB1-9B83-2E89CD59B04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672F-524C-4F4F-ADFD-283C168546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:\Documents and Settings\Администратор\Мои документы\Мои рисунки\картинки\анимации НОВЫЕ КАРТИНКИ\Животные\забавная лисичка.jpg"/>
          <p:cNvPicPr/>
          <p:nvPr/>
        </p:nvPicPr>
        <p:blipFill>
          <a:blip r:embed="rId1"/>
          <a:stretch/>
        </p:blipFill>
        <p:spPr>
          <a:xfrm>
            <a:off x="642960" y="1571760"/>
            <a:ext cx="3228840" cy="3828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C:\Documents and Settings\Администратор\Мои документы\Мои рисунки\картинки\анимации НОВЫЕ КАРТИНКИ\Животные\Кити.jpg"/>
          <p:cNvPicPr/>
          <p:nvPr/>
        </p:nvPicPr>
        <p:blipFill>
          <a:blip r:embed="rId2"/>
          <a:stretch/>
        </p:blipFill>
        <p:spPr>
          <a:xfrm>
            <a:off x="4643280" y="1571760"/>
            <a:ext cx="4038840" cy="3917880"/>
          </a:xfrm>
          <a:prstGeom prst="rect">
            <a:avLst/>
          </a:prstGeom>
          <a:ln w="0">
            <a:noFill/>
          </a:ln>
        </p:spPr>
      </p:pic>
      <p:sp>
        <p:nvSpPr>
          <p:cNvPr id="72" name="TextBox 19"/>
          <p:cNvSpPr/>
          <p:nvPr/>
        </p:nvSpPr>
        <p:spPr>
          <a:xfrm>
            <a:off x="1000080" y="5643720"/>
            <a:ext cx="278604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Funny Fo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5286240" y="5572080"/>
            <a:ext cx="2786040" cy="6426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0a0"/>
                </a:solidFill>
                <a:latin typeface="Comic Sans MS"/>
              </a:rPr>
              <a:t>Kit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The ABC quiz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C4AE-41F8-4F09-98E8-75559635EF3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FF91-903F-443C-9789-494CC5D71B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Documents and Settings\Администратор\Мои документы\Downloads\Алфавит цветной.jpg"/>
          <p:cNvPicPr/>
          <p:nvPr/>
        </p:nvPicPr>
        <p:blipFill>
          <a:blip r:embed="rId1"/>
          <a:stretch/>
        </p:blipFill>
        <p:spPr>
          <a:xfrm>
            <a:off x="2170080" y="1328760"/>
            <a:ext cx="465156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 все букв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7CC56-1893-40DD-9266-292349EE115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51E6-7074-45D5-B475-CE3956E4FD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800280" y="1214280"/>
            <a:ext cx="76136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едини значки с буквам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85840" y="1714680"/>
          <a:ext cx="4038480" cy="4572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Funny Fox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l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d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t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f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i: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4786200" y="1785960"/>
          <a:ext cx="4038840" cy="4572000"/>
        </p:xfrm>
        <a:graphic>
          <a:graphicData uri="http://schemas.openxmlformats.org/drawingml/2006/table">
            <a:tbl>
              <a:tblPr/>
              <a:tblGrid>
                <a:gridCol w="2019240"/>
                <a:gridCol w="2019600"/>
              </a:tblGrid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Kittie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w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b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e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k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[s]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85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640F-4101-48E6-AFAA-63F22445D48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A987-74CA-4D4A-849B-65A7807C32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втори циф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F9F3-07A1-473D-9E09-D655A29BDB8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2B11-B773-4443-AB36-D054EE277F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500120" y="1285920"/>
            <a:ext cx="6000840" cy="53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гадай животно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2F85-82EB-47B1-8B71-F544140C38E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08E9-1893-4313-8C09-26E63E66E6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Администратор\Мои документы\Мои рисунки\картинки\анимации НОВЫЕ КАРТИНКИ\Животные\попугай.JPG"/>
          <p:cNvPicPr/>
          <p:nvPr/>
        </p:nvPicPr>
        <p:blipFill>
          <a:blip r:embed="rId1"/>
          <a:stretch/>
        </p:blipFill>
        <p:spPr>
          <a:xfrm>
            <a:off x="214200" y="3857760"/>
            <a:ext cx="2106720" cy="270828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5" descr="2mм5.gif"/>
          <p:cNvPicPr/>
          <p:nvPr/>
        </p:nvPicPr>
        <p:blipFill>
          <a:blip r:embed="rId2"/>
          <a:stretch/>
        </p:blipFill>
        <p:spPr>
          <a:xfrm>
            <a:off x="1785960" y="1571760"/>
            <a:ext cx="1857240" cy="2649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C:\Documents and Settings\Администратор\Мои документы\Мои рисунки\картинки\анимации НОВЫЕ КАРТИНКИ\Животные\петух.JPG"/>
          <p:cNvPicPr/>
          <p:nvPr/>
        </p:nvPicPr>
        <p:blipFill>
          <a:blip r:embed="rId3"/>
          <a:stretch/>
        </p:blipFill>
        <p:spPr>
          <a:xfrm>
            <a:off x="6286680" y="3857760"/>
            <a:ext cx="2320920" cy="264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C:\Documents and Settings\Администратор\Мои документы\Мои рисунки\картинки\анимации НОВЫЕ КАРТИНКИ\Животные\34m5.gif"/>
          <p:cNvPicPr/>
          <p:nvPr/>
        </p:nvPicPr>
        <p:blipFill>
          <a:blip r:embed="rId4"/>
          <a:stretch/>
        </p:blipFill>
        <p:spPr>
          <a:xfrm flipH="1">
            <a:off x="4357800" y="1571760"/>
            <a:ext cx="296064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обери пазл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6519-6919-4009-A20A-BFF731CB3B5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DB65-EE10-4116-80C8-9E2955E3BF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143000" y="1285920"/>
            <a:ext cx="68580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авайте, споё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A72C8-4430-4540-9E95-DE2DD097D11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8723-C854-4E81-B289-F299C5474D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428760" y="1500120"/>
            <a:ext cx="83581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9T10:59:46Z</dcterms:created>
  <dc:creator>Admin</dc:creator>
  <dc:description>http://aida.ucoz.ru</dc:description>
  <dc:language>en-US</dc:language>
  <cp:lastModifiedBy>Эдуард</cp:lastModifiedBy>
  <dcterms:modified xsi:type="dcterms:W3CDTF">2014-09-12T19:36:55Z</dcterms:modified>
  <cp:revision>18</cp:revision>
  <dc:subject/>
  <dc:title>The ABC party Class 2</dc:title>
</cp:coreProperties>
</file>