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2002-852B-4196-81E6-FF3628A59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88F4-0481-4D31-A56A-71462FD8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1070-379C-4228-AD35-FEA6683FF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74BA-4F50-4F52-A591-FB7E3C741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57FF-E3B9-444D-BE24-CF0C1CCF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CB4A-EF2D-4DE8-AD45-E53F4F09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726B-C499-4A22-9221-11A47C8A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30C3-5404-4D56-B90B-9D081C5D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DB2F-D021-4AF4-BDE5-415E2DD1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6086-EEAD-40A7-8320-7771BD78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3EA1-1076-49E8-A03C-0F0FE123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4849-E764-4E91-96BB-96029B99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316C-B5AA-455B-9BD1-29E991E9F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РГОВОЕ ИЗМЕРИТЕЛЬНОЕ ОБОРУД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МДК 01.01 Основы управления ассортиментом това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Э-15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492360" y="549360"/>
            <a:ext cx="46767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68360" y="250920"/>
            <a:ext cx="828036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ерия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есы торговые (CAS) 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ип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т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змер уровня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00 х 245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ип дисплея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Флуоресцен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Цена деления (г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инимальный вес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0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аксимальный вес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0 (15)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292720" y="3284640"/>
            <a:ext cx="3673440" cy="29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Товарные (до 3 тонн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шка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лектро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сы шкальные РП-500Г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сы шкальные РП-500Ш13 – передвижные рыча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616720" y="2276640"/>
            <a:ext cx="3425760" cy="3528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39640" y="2276640"/>
            <a:ext cx="41036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сы товарные платформенные передвижные шкального типа РП-100Ш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92360" y="2060640"/>
            <a:ext cx="705636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лектронные товарн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па ПВ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па В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11280" y="3141720"/>
            <a:ext cx="2162160" cy="2695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995640" y="1700280"/>
            <a:ext cx="429732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ерия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есы товарные CAS 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ип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От сети / Аккумуля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змер уровня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00 х 410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ип дисплея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Цена деления (г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инимальный вес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00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аксимальный вес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60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ес нетто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7 к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716360" y="2954160"/>
            <a:ext cx="396252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Автомобильные и вагонные (10 – 200 тон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059280" y="1239840"/>
            <a:ext cx="5545080" cy="1752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39640" y="2914560"/>
            <a:ext cx="41036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хнологическ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95280" y="1531800"/>
            <a:ext cx="4392720" cy="2360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95880" y="2924280"/>
            <a:ext cx="3222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ОРГОВОЕ ИЗМЕРИТЕЛЬНОЕ ОБОРУД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есы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ир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еры длины и объе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796000" y="4437000"/>
            <a:ext cx="3168720" cy="2113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635280" y="3789360"/>
            <a:ext cx="1578240" cy="2735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39640" y="4743360"/>
            <a:ext cx="2737080" cy="1741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084720" y="1557360"/>
            <a:ext cx="273384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Лаборатор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55520" y="2827440"/>
            <a:ext cx="4129200" cy="3419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788000" y="1773360"/>
            <a:ext cx="367164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етрологическ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476360" y="1413000"/>
            <a:ext cx="42022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ля специальных измер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определения натуры зерн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дельного веса жидкост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держания влаг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ределения крутящегося момента двигателей и т. 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867280" y="4075200"/>
            <a:ext cx="248148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В зависимости от принципа действ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ычажны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электромеханические вес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о месту и способу установ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ционар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ви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сто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по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рез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троен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о виду указательного устройств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ирн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кальн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кально-гирн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иферблат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птическ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нно-индикаторные (цифровые электронны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По виду отсчета показаний взвеши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визуальным отсчет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показания считываются с циферблата, экрана, табло или подсчитываются по значению мер массы – гир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документальной регистрацие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когда значение массы, а на некоторых весах и стоимость товара печатаются на чеках и лентах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 способу снятия показа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местным (работник находится рядом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дистанционным способами снятия показаний (на расстоянии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 степени автоматизац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способу достижения положения равновесия) весы подразде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втоматическ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уавтоматическ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автоматическ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 точности взвешива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весы подразделяются на 17 класс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 виду грузоприемного устрой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латформенн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ункер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отков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 возможности подключения внешнего потребителя информации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контрольно-кассовой маши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принтеру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 серверу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з интерфей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Е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 назначени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щего назнач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А) Настольные (до 20 кг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иферблат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 источнику электропит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подключением к сети через адаптер (преобразователь ток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 постоянного тока элементов питания (автономное питани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 универсальной системы электропит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 комплектност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лько вес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сы — принте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сы — касс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сы — касса — скане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сы — касса — сканер — компьютер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сы с термопечатью этике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аркировка ве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буква – конструкция грузоподъемного устройства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 – рычажно-механическое; Т - электронно-тензометричес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буква – способ установки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 - настольные; П - передвижные; С – стационар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ифра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ельная грузоподъем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алее буква  - виду указательного устройст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Г - гирные, Ш - шкальные, Ц – циферблат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алее цифра – вид отсчета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– визуальный; 2 – документальная регистрац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ифра - место снятия показани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3 - местные, 4 - дистанцион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ледующая буква - область преимущественного применения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- автомобильные; В - вагонные вес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Н-10Ц1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есы рычажные (Р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стольные (H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наибольшим пределом взвешивания 10кг (10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иферблатные (Ц)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визуальным отсчетом (1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местным способом показаний взвешивания (3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ребования, предъявляемые к веса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рологически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ргово-эксплуатационны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анитарно-гигиеническим требования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Точность взвешива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еличина допустимой погреш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Максимальная скорость взвешиван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Наглядность показан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оответствие весового прибора характеру взвешиваемого това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рочность вес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Нейтральность материал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Удобство ухода за весам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ир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рговые гири выпускаются массой 5, 10, 20, 50, 100, 200, 500 г и 1, 2, 5, 10 кг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476360" y="3141720"/>
            <a:ext cx="6767640" cy="33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 мерам длины и объ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носятся деревянные или металлические метр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рные круж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нзур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35280" y="5661000"/>
            <a:ext cx="6667200" cy="628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508720" y="2708280"/>
            <a:ext cx="3076560" cy="2048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042920" y="3835440"/>
            <a:ext cx="29401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верка и клеймен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ры длины и объема (кроме стеклянных мер объема) поверяются не реже 1 раза в 2 год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соизмерительные приборы и гири – не реже 1 раза в го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Циферблатные ве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Н-10Ц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ухплощадочн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ел взвешивания – 0,1 – 10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а деления: 5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0360" y="3573360"/>
            <a:ext cx="2322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еклянные меры объема клеймятся при выпуске их из производст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еймо на весах ставится на коромысле, съемных чашках, передвижной гире или на пломбе (на циферблатных весах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гири наносят поверительное клеймо на алюминиевую пробку, при помощи которой запрессовывается отверстие тарировочной полости гирь после их повер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55640" y="189000"/>
            <a:ext cx="777708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226040" y="1628640"/>
            <a:ext cx="4917960" cy="49183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стольные циферблатны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Н-3Ц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ел взвешивания: 0,04 – 3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79280" y="2924280"/>
            <a:ext cx="44640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148360" y="1989000"/>
            <a:ext cx="3514680" cy="45244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есы циферблатные лотковые ВЦЛ-10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ел взвешивания: 0,5 – 10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а деления: 0,01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лектронные настоль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па 9026 ВН-3Д23 – для определения и регистрации массы и стои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708360" y="2751120"/>
            <a:ext cx="49388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5034240" cy="5034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па ВР: - 1037, 1038,1040, 4149, 49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419640" y="1125360"/>
            <a:ext cx="5451480" cy="33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3T16:02:19Z</dcterms:created>
  <dc:creator>МКС</dc:creator>
  <dc:description/>
  <dc:language>en-US</dc:language>
  <cp:lastModifiedBy>МКС</cp:lastModifiedBy>
  <dcterms:modified xsi:type="dcterms:W3CDTF">2016-05-03T17:57:45Z</dcterms:modified>
  <cp:revision>5</cp:revision>
  <dc:subject/>
  <dc:title>ТОРГОВОЕ ИЗМЕРИТЕЛЬНОЕ ОБОРУДОВАНИЕ</dc:title>
</cp:coreProperties>
</file>