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5E6-0540-44FE-9F0A-44C136C8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F55-E575-4EBF-A021-77DB7F1F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160-65EF-42E8-89FB-EE16A967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9AA-4259-4D7E-AB98-9EFA07FC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3E2-B652-4D87-8A82-DA6E4EB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549-5B3C-4471-9761-5EF536D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E7F-A387-463A-BF9D-AD0CCCF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458-4318-4BE9-9200-3F70629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414-697B-45C0-8EA6-FF07EF7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069-7B45-4AB0-B65E-0B68058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F9C-AFA1-4CC5-B42C-A0BC738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D3D-CBD5-4B68-AA0B-2AC5C51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B3F4-87EB-4994-85EC-ED1638C0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РГОВОЕ ИЗМЕРИТЕЛЬ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ДК 01.01 Основы управления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Э-15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4676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25092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сы торговые (CAS) 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мер уровн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х 24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 диспле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луоресце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а деления (г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кс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 (15)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6734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Товарные (до 3 тонн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шкальные РП-500Г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шкальные РП-500Ш13 – передвижные рыча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16720" y="2276640"/>
            <a:ext cx="3425760" cy="35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227664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товарные платформенные передвижные шкального типа РП-100Ш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7056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овар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ПВ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162160" cy="26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сы товарные CAS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ети / Аккумуля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мер уровн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0 х 4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 диспле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а деления (г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кс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с нетт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2954160"/>
            <a:ext cx="3962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Автомобильные и вагонные (10 – 200 тон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59280" y="1239840"/>
            <a:ext cx="554508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9640" y="29145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1531800"/>
            <a:ext cx="4392720" cy="236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95880" y="2924280"/>
            <a:ext cx="322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РГОВОЕ ИЗМЕРИТЕЛЬНОЕ ОБОРУ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с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ир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ы длины и объе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157824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9640" y="4743360"/>
            <a:ext cx="2737080" cy="174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1557360"/>
            <a:ext cx="27338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5520" y="2827440"/>
            <a:ext cx="4129200" cy="34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671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р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4202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специальных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определения натуры зер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ельного веса жидкос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я влаг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крутящегося момента двигателей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67280" y="4075200"/>
            <a:ext cx="248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зависимости от принципа действ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ычаж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лектромеханические ве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месту и способу установ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цион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о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виду указательного устрой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льно-ги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о-индикаторные (цифровые электро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виду отсчета показаний взвеши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визуальным отсче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казания считываются с циферблата, экрана, табло или подсчитываются по значению мер массы – ги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документальной регистрац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когда значение массы, а на некоторых весах и стоимость товара печатаются на чеках и лент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способу снятия показ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местным (работник находится ря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истанционным способами снятия показаний (на расстоян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степени автоматиз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способу достижения положения равновесия) весы подразде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ма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автома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автомат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точности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есы подразделяются на 17 класс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виду грузоприемного устр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тформе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нке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к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возможности подключения внешнего потребителя информаци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контрольно-кассовой маш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принте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ерве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интерф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назначе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го на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Настольные (до 20 кг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источнику электро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дключением к сети через адаптер (преобразователь то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остоянного тока элементов питания (автономное пита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универсальной системы электро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комплект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ве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прин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 — скан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 — сканер — компью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с термопечатью этик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кировка в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уква – конструкция грузоподъемного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– рычажно-механическое; Т - электронно-тензометр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уква – способ установки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 - настольные; П - передвижные; С – стацион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ьная грузоподъе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лее буква  - виду указательного устр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Г - гирные, Ш - шкальные, Ц – циферблат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лее цифра – вид отсчет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визуальный; 2 – документальная регистр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а - место снятия показа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 - местные, 4 - дистанцио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ющая буква - область преимущественного применения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- автомобильные; В - вагонные вес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Н-10Ц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рычажные (Р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 (H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ибольшим пределом взвешивания 10кг (10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(Ц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изуальным отсчетом (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естным способом показаний взвешивания (3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вес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рологическ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о-эксплуатацио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итарно-гигиеническим требова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ность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личина допустимой погреш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ксимальная скорость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глядность показа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оответствие весового прибора характеру взвешиваемого тов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чность ве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йтральность материа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добство ухода за вес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р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ые гири выпускаются массой 5, 10, 20, 50, 100, 200, 500 г и 1, 2, 5, 1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7676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 мерам длины и объ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сятся деревянные или металлические мет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ные круж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зу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35280" y="5661000"/>
            <a:ext cx="666720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508720" y="27082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3835440"/>
            <a:ext cx="294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ерка и клейм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ы длины и объема (кроме стеклянных мер объема) поверяются не реже 1 раза в 2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оизмерительные приборы и гири – не реже 1 раза в г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ферблатные ве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-10Ц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площадоч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ел взвешивания – 0,1 –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 деления: 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32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клянные меры объема клеймятся при выпуске их из произв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мо на весах ставится на коромысле, съемных чашках, передвижной гире или на пломбе (на циферблатных веса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ири наносят поверительное клеймо на алюминиевую пробку, при помощи которой запрессовывается отверстие тарировочной полости гирь после их пов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777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6040" y="1628640"/>
            <a:ext cx="4917960" cy="4918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 циферблат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Н-3Ц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 взвешивания: 0,04 – 3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4464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514680" cy="4524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ы циферблатные лотковые ВЦЛ-1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 взвешивания: 0,5 –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а деления: 0,0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насто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9026 ВН-3Д23 – для определения и регистрации массы и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08360" y="2751120"/>
            <a:ext cx="4938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034240" cy="5034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ВР: - 1037, 1038,1040, 4149, 49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19640" y="1125360"/>
            <a:ext cx="5451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6:02:19Z</dcterms:created>
  <dc:creator>МКС</dc:creator>
  <dc:description/>
  <dc:language>en-US</dc:language>
  <cp:lastModifiedBy>МКС</cp:lastModifiedBy>
  <dcterms:modified xsi:type="dcterms:W3CDTF">2016-05-03T17:57:45Z</dcterms:modified>
  <cp:revision>5</cp:revision>
  <dc:subject/>
  <dc:title>ТОРГОВОЕ ИЗМЕРИТЕЛЬНОЕ ОБОРУДОВАНИЕ</dc:title>
</cp:coreProperties>
</file>