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C5E-4908-4D8C-A73D-B45B805B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D91-9508-4F50-9CBB-82DD68BE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1FC-D695-4EA7-81BA-1F7D7307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66B-4A87-4732-B613-4EC5B3A6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F04-D901-435D-AD7C-1CD7C3C9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5B5-046C-4F80-A01E-517C4323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ACB-6045-440B-97B2-65761414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0DE-AACE-4A6A-9C63-750D43E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F00-E195-41FE-AEFF-45823D0C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667-6735-40F0-BFA8-985BA43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73E-6005-4C03-BF6F-B039269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929-54AB-4C9F-B9B3-B066CD7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E6F-6C14-4ADE-986C-8ACC8D748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ffice.microsoft.com/clipart/preview.aspx?AssetID=MCj0430241&amp;Query=&#1084;&#1072;&#1096;&#1080;&#1085;&#1072;" TargetMode="External"/><Relationship Id="rId2" Type="http://schemas.openxmlformats.org/officeDocument/2006/relationships/hyperlink" Target="http://office.microsoft.com/clipart/preview.aspx?AssetID=MCj0254404&amp;Query=&#1092;&#1080;&#1085;&#1080;&#1096;" TargetMode="External"/><Relationship Id="rId3" Type="http://schemas.openxmlformats.org/officeDocument/2006/relationships/hyperlink" Target="http://todos.zonebg.com/img/soundfiles/carstarting.wav" TargetMode="External"/><Relationship Id="rId4" Type="http://schemas.openxmlformats.org/officeDocument/2006/relationships/hyperlink" Target="http://www.wildworldofsoccer.com/pictures/applause.wav" TargetMode="External"/><Relationship Id="rId5" Type="http://schemas.openxmlformats.org/officeDocument/2006/relationships/hyperlink" Target="http://billor.chsh.chc.edu.tw/sound/cheers.wav" TargetMode="External"/><Relationship Id="rId6" Type="http://schemas.openxmlformats.org/officeDocument/2006/relationships/hyperlink" Target="http://www.lumal.com/publication/sound/applause.wav" TargetMode="External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ТРЕНАЖЁР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«СЛОВАРНЫЕ СЛ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81080" y="333360"/>
            <a:ext cx="946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Georgia"/>
              </a:rPr>
              <a:t>«БОЛЬШИЕ ГОНК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3860640"/>
            <a:ext cx="525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втор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лахова Е.В.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читель начальных классов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У сош с.Реп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лашовского район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аратовской области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009 го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7556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4000" y="4581360"/>
            <a:ext cx="2592000" cy="1727280"/>
            <a:chOff x="324000" y="4581360"/>
            <a:chExt cx="2592000" cy="1727280"/>
          </a:xfrm>
        </p:grpSpPr>
        <p:sp>
          <p:nvSpPr>
            <p:cNvPr id="302" name=""/>
            <p:cNvSpPr/>
            <p:nvPr/>
          </p:nvSpPr>
          <p:spPr>
            <a:xfrm>
              <a:off x="324000" y="5767920"/>
              <a:ext cx="1500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6"/>
            <a:stretch/>
          </p:blipFill>
          <p:spPr>
            <a:xfrm>
              <a:off x="474120" y="4581360"/>
              <a:ext cx="244188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998640" y="5349600"/>
              <a:ext cx="1349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..РОГ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84720" y="4437000"/>
            <a:ext cx="2448000" cy="2019240"/>
            <a:chOff x="6084720" y="4437000"/>
            <a:chExt cx="2448000" cy="2019240"/>
          </a:xfrm>
        </p:grpSpPr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6084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588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ОВ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12000" y="0"/>
            <a:ext cx="72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83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2916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3924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07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6156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64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17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..С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-108000" y="404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199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2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09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58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54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97164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684360" y="465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348000" y="4581360"/>
            <a:ext cx="2518920" cy="1702080"/>
            <a:chOff x="3348000" y="4581360"/>
            <a:chExt cx="2518920" cy="170208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3348000" y="4581360"/>
              <a:ext cx="251892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898080" y="5445000"/>
              <a:ext cx="149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..МИЛ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84720" y="4437000"/>
            <a:ext cx="2592360" cy="2019240"/>
            <a:chOff x="6084720" y="4437000"/>
            <a:chExt cx="2592360" cy="2019240"/>
          </a:xfrm>
        </p:grpSpPr>
        <p:pic>
          <p:nvPicPr>
            <p:cNvPr id="334" name="" descr=""/>
            <p:cNvPicPr/>
            <p:nvPr/>
          </p:nvPicPr>
          <p:blipFill>
            <a:blip r:embed="rId6"/>
            <a:stretch/>
          </p:blipFill>
          <p:spPr>
            <a:xfrm>
              <a:off x="6084720" y="4437000"/>
              <a:ext cx="259236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617520" y="5445000"/>
              <a:ext cx="1600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ТИ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226920" y="0"/>
            <a:ext cx="73080" cy="46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2052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306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068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292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630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7380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95280" y="4653000"/>
            <a:ext cx="2703240" cy="1781280"/>
            <a:chOff x="395280" y="4653000"/>
            <a:chExt cx="2703240" cy="1781280"/>
          </a:xfrm>
        </p:grpSpPr>
        <p:sp>
          <p:nvSpPr>
            <p:cNvPr id="349" name=""/>
            <p:cNvSpPr/>
            <p:nvPr/>
          </p:nvSpPr>
          <p:spPr>
            <a:xfrm>
              <a:off x="395280" y="5877000"/>
              <a:ext cx="156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9"/>
            <a:stretch/>
          </p:blipFill>
          <p:spPr>
            <a:xfrm>
              <a:off x="551880" y="4653000"/>
              <a:ext cx="25466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099080" y="5445360"/>
              <a:ext cx="1407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СКВ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404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0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1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209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2787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590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1116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1692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97164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348000" y="4581360"/>
            <a:ext cx="2663640" cy="1702080"/>
            <a:chOff x="3348000" y="4581360"/>
            <a:chExt cx="2663640" cy="1702080"/>
          </a:xfrm>
        </p:grpSpPr>
        <p:pic>
          <p:nvPicPr>
            <p:cNvPr id="362" name="" descr=""/>
            <p:cNvPicPr/>
            <p:nvPr/>
          </p:nvPicPr>
          <p:blipFill>
            <a:blip r:embed="rId7"/>
            <a:stretch/>
          </p:blipFill>
          <p:spPr>
            <a:xfrm>
              <a:off x="3348000" y="4581360"/>
              <a:ext cx="266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929760" y="5445000"/>
              <a:ext cx="1582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..БЯТ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372360" y="4437000"/>
            <a:ext cx="2447640" cy="2019240"/>
            <a:chOff x="6372360" y="4437000"/>
            <a:chExt cx="2447640" cy="2019240"/>
          </a:xfrm>
        </p:grpSpPr>
        <p:pic>
          <p:nvPicPr>
            <p:cNvPr id="365" name="" descr=""/>
            <p:cNvPicPr/>
            <p:nvPr/>
          </p:nvPicPr>
          <p:blipFill>
            <a:blip r:embed="rId8"/>
            <a:stretch/>
          </p:blipFill>
          <p:spPr>
            <a:xfrm>
              <a:off x="6372360" y="4437000"/>
              <a:ext cx="2447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875280" y="5445000"/>
              <a:ext cx="15109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ДР..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08472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1979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2987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399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507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6084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7164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24000" y="4581360"/>
            <a:ext cx="2880720" cy="1800000"/>
            <a:chOff x="324000" y="4581360"/>
            <a:chExt cx="2880720" cy="1800000"/>
          </a:xfrm>
        </p:grpSpPr>
        <p:sp>
          <p:nvSpPr>
            <p:cNvPr id="380" name=""/>
            <p:cNvSpPr/>
            <p:nvPr/>
          </p:nvSpPr>
          <p:spPr>
            <a:xfrm>
              <a:off x="324000" y="5818320"/>
              <a:ext cx="1667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1"/>
            <a:stretch/>
          </p:blipFill>
          <p:spPr>
            <a:xfrm>
              <a:off x="491040" y="4581360"/>
              <a:ext cx="27136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073880" y="5382000"/>
              <a:ext cx="15001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 СВ..Д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0" y="404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8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9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433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219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1718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76360" y="4076640"/>
            <a:ext cx="60483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НИШ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6360" y="1773360"/>
            <a:ext cx="712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940360" y="1773360"/>
            <a:ext cx="71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04640"/>
            <a:ext cx="9144000" cy="223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58000 h 2232360"/>
              <a:gd name="textAreaBottom" fmla="*/ 2166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84360" y="1557360"/>
            <a:ext cx="42483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 flipH="1" rot="17706600">
            <a:off x="6979680" y="4332240"/>
            <a:ext cx="1185840" cy="2259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 rot="3482400">
            <a:off x="991080" y="4272480"/>
            <a:ext cx="1315800" cy="2508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rot="16200000">
            <a:off x="4500360" y="691560"/>
            <a:ext cx="142920" cy="79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103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НЕТ- РЕСУРС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другие 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ffice.microsoft.com/clipart/preview.aspx?AssetID=MCj0430241&amp;Query=ма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ffice.microsoft.com/clipart/preview.aspx?AssetID=MCj0254404&amp;Query=фин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ые фай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iki.rdf.ru/cat/zagadki/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учителя начальных классов МОУ «Новоаннинская гимназия» Пономаревой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dos.zonebg.com/img/soundfiles/carstarting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ldworldofsoccer.com/pictures/applause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billor.chsh.chc.edu.tw/sound/cheers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umal.com/publication/sound/applause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Диск «1С:Школа. Игры и задачи, 1 – 4 клас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00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5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1128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4000" y="4581360"/>
            <a:ext cx="2487600" cy="1781280"/>
            <a:chOff x="324000" y="4581360"/>
            <a:chExt cx="2487600" cy="1781280"/>
          </a:xfrm>
        </p:grpSpPr>
        <p:sp>
          <p:nvSpPr>
            <p:cNvPr id="53" name=""/>
            <p:cNvSpPr/>
            <p:nvPr/>
          </p:nvSpPr>
          <p:spPr>
            <a:xfrm>
              <a:off x="32400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46836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7164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ДР..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98764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125360"/>
            <a:ext cx="71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5564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1197000"/>
            <a:ext cx="7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162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2555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5724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4140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93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34800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51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308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817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3284640"/>
            <a:ext cx="792000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00720" y="4437000"/>
            <a:ext cx="2448000" cy="2019240"/>
            <a:chOff x="6300720" y="4437000"/>
            <a:chExt cx="2448000" cy="2019240"/>
          </a:xfrm>
        </p:grpSpPr>
        <p:pic>
          <p:nvPicPr>
            <p:cNvPr id="76" name="" descr=""/>
            <p:cNvPicPr/>
            <p:nvPr/>
          </p:nvPicPr>
          <p:blipFill>
            <a:blip r:embed="rId11"/>
            <a:stretch/>
          </p:blipFill>
          <p:spPr>
            <a:xfrm>
              <a:off x="6300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04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.. СУНО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83664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56000" y="126828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78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58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09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7407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87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7164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84360" y="465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0"/>
            <a:ext cx="71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0"/>
            <a:ext cx="7128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62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555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92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429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292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156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7021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7956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101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03640" y="4581360"/>
            <a:ext cx="2736360" cy="1702080"/>
            <a:chOff x="3203640" y="4581360"/>
            <a:chExt cx="2736360" cy="1702080"/>
          </a:xfrm>
        </p:grpSpPr>
        <p:pic>
          <p:nvPicPr>
            <p:cNvPr id="105" name="" descr=""/>
            <p:cNvPicPr/>
            <p:nvPr/>
          </p:nvPicPr>
          <p:blipFill>
            <a:blip r:embed="rId10"/>
            <a:stretch/>
          </p:blipFill>
          <p:spPr>
            <a:xfrm>
              <a:off x="3203640" y="4581360"/>
              <a:ext cx="273636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01240" y="5445000"/>
              <a:ext cx="1625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..ДВЕД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56360" y="4437000"/>
            <a:ext cx="2448000" cy="2019240"/>
            <a:chOff x="6156360" y="4437000"/>
            <a:chExt cx="2448000" cy="2019240"/>
          </a:xfrm>
        </p:grpSpPr>
        <p:pic>
          <p:nvPicPr>
            <p:cNvPr id="108" name="" descr=""/>
            <p:cNvPicPr/>
            <p:nvPr/>
          </p:nvPicPr>
          <p:blipFill>
            <a:blip r:embed="rId11"/>
            <a:stretch/>
          </p:blipFill>
          <p:spPr>
            <a:xfrm>
              <a:off x="615636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65964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..РЕВН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620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27640" y="1052640"/>
            <a:ext cx="439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71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09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19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5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128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97164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55640" y="465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3964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83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844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99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93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011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021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817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133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ОР.. Д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19640" y="4508640"/>
            <a:ext cx="2303280" cy="1701720"/>
            <a:chOff x="3419640" y="4508640"/>
            <a:chExt cx="2303280" cy="1701720"/>
          </a:xfrm>
        </p:grpSpPr>
        <p:pic>
          <p:nvPicPr>
            <p:cNvPr id="137" name="" descr=""/>
            <p:cNvPicPr/>
            <p:nvPr/>
          </p:nvPicPr>
          <p:blipFill>
            <a:blip r:embed="rId11"/>
            <a:stretch/>
          </p:blipFill>
          <p:spPr>
            <a:xfrm>
              <a:off x="3419640" y="4508640"/>
              <a:ext cx="2303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2560" y="5371920"/>
              <a:ext cx="1368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ТИ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12000" y="4365720"/>
            <a:ext cx="2447640" cy="2019240"/>
            <a:chOff x="6012000" y="4365720"/>
            <a:chExt cx="2447640" cy="2019240"/>
          </a:xfrm>
        </p:grpSpPr>
        <p:pic>
          <p:nvPicPr>
            <p:cNvPr id="140" name="" descr=""/>
            <p:cNvPicPr/>
            <p:nvPr/>
          </p:nvPicPr>
          <p:blipFill>
            <a:blip r:embed="rId12"/>
            <a:stretch/>
          </p:blipFill>
          <p:spPr>
            <a:xfrm>
              <a:off x="6012000" y="4365720"/>
              <a:ext cx="2447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514920" y="5373720"/>
              <a:ext cx="15109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..С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4720" y="907920"/>
            <a:ext cx="439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71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78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71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38036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1692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628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492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645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53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88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885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4581360"/>
            <a:ext cx="2952000" cy="1773360"/>
            <a:chOff x="0" y="4581360"/>
            <a:chExt cx="2952000" cy="1773360"/>
          </a:xfrm>
        </p:grpSpPr>
        <p:sp>
          <p:nvSpPr>
            <p:cNvPr id="164" name=""/>
            <p:cNvSpPr/>
            <p:nvPr/>
          </p:nvSpPr>
          <p:spPr>
            <a:xfrm>
              <a:off x="0" y="5799600"/>
              <a:ext cx="1708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171000" y="4581360"/>
              <a:ext cx="278100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68600" y="5370120"/>
              <a:ext cx="1537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..СУНО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56360" y="4365720"/>
            <a:ext cx="2448000" cy="2019240"/>
            <a:chOff x="6156360" y="4365720"/>
            <a:chExt cx="2448000" cy="201924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6156360" y="436572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59640" y="537372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..ДВЕД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40360" y="907920"/>
            <a:ext cx="5047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78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09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59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556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8360" y="4581360"/>
            <a:ext cx="2487600" cy="1781280"/>
            <a:chOff x="468360" y="4581360"/>
            <a:chExt cx="2487600" cy="1781280"/>
          </a:xfrm>
        </p:grpSpPr>
        <p:sp>
          <p:nvSpPr>
            <p:cNvPr id="179" name=""/>
            <p:cNvSpPr/>
            <p:nvPr/>
          </p:nvSpPr>
          <p:spPr>
            <a:xfrm>
              <a:off x="46836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6"/>
            <a:stretch/>
          </p:blipFill>
          <p:spPr>
            <a:xfrm>
              <a:off x="61272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11600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ОВ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084720" y="4437000"/>
            <a:ext cx="2448000" cy="2019240"/>
            <a:chOff x="6084720" y="4437000"/>
            <a:chExt cx="2448000" cy="2019240"/>
          </a:xfrm>
        </p:grpSpPr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6084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588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..БА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979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987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4211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5292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644508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7524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198" name="" descr=""/>
            <p:cNvPicPr/>
            <p:nvPr/>
          </p:nvPicPr>
          <p:blipFill>
            <a:blip r:embed="rId10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ТИ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356000" y="90792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219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88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09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5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8269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755640" y="465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5280" y="4653000"/>
            <a:ext cx="2663640" cy="1781280"/>
            <a:chOff x="395280" y="4653000"/>
            <a:chExt cx="2663640" cy="1781280"/>
          </a:xfrm>
        </p:grpSpPr>
        <p:sp>
          <p:nvSpPr>
            <p:cNvPr id="210" name=""/>
            <p:cNvSpPr/>
            <p:nvPr/>
          </p:nvSpPr>
          <p:spPr>
            <a:xfrm>
              <a:off x="395280" y="5877000"/>
              <a:ext cx="154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49720" y="4653000"/>
              <a:ext cx="2509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088640" y="5445360"/>
              <a:ext cx="1387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..МИЛ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84720" y="4508640"/>
            <a:ext cx="2448000" cy="2019240"/>
            <a:chOff x="6084720" y="4508640"/>
            <a:chExt cx="2448000" cy="2019240"/>
          </a:xfrm>
        </p:grpSpPr>
        <p:pic>
          <p:nvPicPr>
            <p:cNvPr id="214" name="" descr=""/>
            <p:cNvPicPr/>
            <p:nvPr/>
          </p:nvPicPr>
          <p:blipFill>
            <a:blip r:embed="rId8"/>
            <a:stretch/>
          </p:blipFill>
          <p:spPr>
            <a:xfrm>
              <a:off x="6084720" y="450864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588000" y="551664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..С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594036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763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771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08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860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940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6948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0294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48000" y="4653000"/>
            <a:ext cx="2303640" cy="1701720"/>
            <a:chOff x="3348000" y="4653000"/>
            <a:chExt cx="2303640" cy="1701720"/>
          </a:xfrm>
        </p:grpSpPr>
        <p:pic>
          <p:nvPicPr>
            <p:cNvPr id="229" name="" descr=""/>
            <p:cNvPicPr/>
            <p:nvPr/>
          </p:nvPicPr>
          <p:blipFill>
            <a:blip r:embed="rId11"/>
            <a:stretch/>
          </p:blipFill>
          <p:spPr>
            <a:xfrm>
              <a:off x="3348000" y="4653000"/>
              <a:ext cx="230364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851280" y="5516280"/>
              <a:ext cx="1368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СС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199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71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209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116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187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55640" y="465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241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ДРЕ.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59280" y="4581360"/>
            <a:ext cx="2736360" cy="1656000"/>
            <a:chOff x="3059280" y="4581360"/>
            <a:chExt cx="2736360" cy="165600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3059280" y="4581360"/>
              <a:ext cx="273636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656880" y="5421600"/>
              <a:ext cx="1625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А..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012000" y="0"/>
            <a:ext cx="72720" cy="46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1908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2916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399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5003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6011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7021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8101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84720" y="4437000"/>
            <a:ext cx="2448000" cy="2019240"/>
            <a:chOff x="6084720" y="4437000"/>
            <a:chExt cx="2448000" cy="2019240"/>
          </a:xfrm>
        </p:grpSpPr>
        <p:pic>
          <p:nvPicPr>
            <p:cNvPr id="260" name="" descr=""/>
            <p:cNvPicPr/>
            <p:nvPr/>
          </p:nvPicPr>
          <p:blipFill>
            <a:blip r:embed="rId11"/>
            <a:stretch/>
          </p:blipFill>
          <p:spPr>
            <a:xfrm>
              <a:off x="6084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88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ЛА .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33336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67280" y="765000"/>
            <a:ext cx="79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78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58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209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8269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1403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900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611280" y="4797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272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..НИ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276" name="" descr=""/>
            <p:cNvPicPr/>
            <p:nvPr/>
          </p:nvPicPr>
          <p:blipFill>
            <a:blip r:embed="rId8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..ДВЕД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12000" y="0"/>
            <a:ext cx="72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1763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2987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4068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5148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622908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7237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300720" y="4437000"/>
            <a:ext cx="2448000" cy="2019240"/>
            <a:chOff x="6300720" y="4437000"/>
            <a:chExt cx="2448000" cy="2019240"/>
          </a:xfrm>
        </p:grpSpPr>
        <p:pic>
          <p:nvPicPr>
            <p:cNvPr id="291" name="" descr=""/>
            <p:cNvPicPr/>
            <p:nvPr/>
          </p:nvPicPr>
          <p:blipFill>
            <a:blip r:embed="rId11"/>
            <a:stretch/>
          </p:blipFill>
          <p:spPr>
            <a:xfrm>
              <a:off x="6300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04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МИЛ..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4720" y="907920"/>
            <a:ext cx="439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718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09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2199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49:54Z</dcterms:created>
  <dc:creator>Сергей</dc:creator>
  <dc:description/>
  <dc:language>en-US</dc:language>
  <cp:lastModifiedBy>Сергей</cp:lastModifiedBy>
  <dcterms:modified xsi:type="dcterms:W3CDTF">2009-05-10T15:52:34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