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E0A3-EDEF-44AD-A91F-76988901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6666-E02E-4BDF-AEBD-04B6CB0D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5CBE-A139-4839-B150-94D67B3DE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26D-429A-425A-AC85-B0A7BD618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D86-76FF-4F3F-ABDF-99D37AE6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CAB2-F46F-4869-8899-4C9E0A05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B32F-ED5C-4D49-A2A3-D8F37CE6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118-49DE-4236-AF30-FDCF1D2D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8D01-52BB-437B-ADDE-DF996650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860-EFF6-4F62-8B09-093CFBE6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5945-7D8D-4113-89C5-FD346D52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9B15-9A85-4E1D-91A2-EF76646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D2F58-5C61-4B33-8B3B-BD2850576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ffice.microsoft.com/clipart/preview.aspx?AssetID=MCj0430241&amp;Query=&#1084;&#1072;&#1096;&#1080;&#1085;&#1072;" TargetMode="External"/><Relationship Id="rId2" Type="http://schemas.openxmlformats.org/officeDocument/2006/relationships/hyperlink" Target="http://office.microsoft.com/clipart/preview.aspx?AssetID=MCj0254404&amp;Query=&#1092;&#1080;&#1085;&#1080;&#1096;" TargetMode="External"/><Relationship Id="rId3" Type="http://schemas.openxmlformats.org/officeDocument/2006/relationships/hyperlink" Target="http://todos.zonebg.com/img/soundfiles/carstarting.wav" TargetMode="External"/><Relationship Id="rId4" Type="http://schemas.openxmlformats.org/officeDocument/2006/relationships/hyperlink" Target="http://www.wildworldofsoccer.com/pictures/applause.wav" TargetMode="External"/><Relationship Id="rId5" Type="http://schemas.openxmlformats.org/officeDocument/2006/relationships/hyperlink" Target="http://billor.chsh.chc.edu.tw/sound/cheers.wav" TargetMode="External"/><Relationship Id="rId6" Type="http://schemas.openxmlformats.org/officeDocument/2006/relationships/hyperlink" Target="http://www.lumal.com/publication/sound/applause.wav" TargetMode="External"/><Relationship Id="rId7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ТРЕНАЖЁР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Georgia"/>
              </a:rPr>
              <a:t>«СЛОВАРНЫЕ СЛО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181080" y="333360"/>
            <a:ext cx="946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Georgia"/>
              </a:rPr>
              <a:t>«БОЛЬШИЕ ГОНК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3860640"/>
            <a:ext cx="5256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Автор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 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лахова Е.В.,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учитель начальных классов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ОУ сош с.Репно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лашовского района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Саратовской области,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2009 год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5"/>
          <a:stretch/>
        </p:blipFill>
        <p:spPr>
          <a:xfrm>
            <a:off x="7556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24000" y="4581360"/>
            <a:ext cx="2592000" cy="1727280"/>
            <a:chOff x="324000" y="4581360"/>
            <a:chExt cx="2592000" cy="1727280"/>
          </a:xfrm>
        </p:grpSpPr>
        <p:sp>
          <p:nvSpPr>
            <p:cNvPr id="302" name=""/>
            <p:cNvSpPr/>
            <p:nvPr/>
          </p:nvSpPr>
          <p:spPr>
            <a:xfrm>
              <a:off x="324000" y="5767920"/>
              <a:ext cx="150012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03" name="" descr=""/>
            <p:cNvPicPr/>
            <p:nvPr/>
          </p:nvPicPr>
          <p:blipFill>
            <a:blip r:embed="rId6"/>
            <a:stretch/>
          </p:blipFill>
          <p:spPr>
            <a:xfrm>
              <a:off x="474120" y="4581360"/>
              <a:ext cx="2441880" cy="172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998640" y="5349600"/>
              <a:ext cx="13496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..РОГ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084720" y="4437000"/>
            <a:ext cx="2448000" cy="2019240"/>
            <a:chOff x="6084720" y="4437000"/>
            <a:chExt cx="2448000" cy="2019240"/>
          </a:xfrm>
        </p:grpSpPr>
        <p:pic>
          <p:nvPicPr>
            <p:cNvPr id="306" name="" descr=""/>
            <p:cNvPicPr/>
            <p:nvPr/>
          </p:nvPicPr>
          <p:blipFill>
            <a:blip r:embed="rId7"/>
            <a:stretch/>
          </p:blipFill>
          <p:spPr>
            <a:xfrm>
              <a:off x="6084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6588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ОВ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08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6012000" y="0"/>
            <a:ext cx="72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 rot="16200000">
            <a:off x="183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2916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 rot="16200000">
            <a:off x="3924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507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6156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164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817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321" name="" descr=""/>
            <p:cNvPicPr/>
            <p:nvPr/>
          </p:nvPicPr>
          <p:blipFill>
            <a:blip r:embed="rId10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..С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-108000" y="404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308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2199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0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21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2" dur="1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2091" fill="hold"/>
                                        <p:tgtEl>
                                          <p:spTgt spid="2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331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4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35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3" dur="1588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1547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97164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684360" y="465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348000" y="4581360"/>
            <a:ext cx="2518920" cy="1702080"/>
            <a:chOff x="3348000" y="4581360"/>
            <a:chExt cx="2518920" cy="1702080"/>
          </a:xfrm>
        </p:grpSpPr>
        <p:pic>
          <p:nvPicPr>
            <p:cNvPr id="331" name="" descr=""/>
            <p:cNvPicPr/>
            <p:nvPr/>
          </p:nvPicPr>
          <p:blipFill>
            <a:blip r:embed="rId5"/>
            <a:stretch/>
          </p:blipFill>
          <p:spPr>
            <a:xfrm>
              <a:off x="3348000" y="4581360"/>
              <a:ext cx="251892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3898080" y="5445000"/>
              <a:ext cx="14961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..МИЛ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84720" y="4437000"/>
            <a:ext cx="2592360" cy="2019240"/>
            <a:chOff x="6084720" y="4437000"/>
            <a:chExt cx="2592360" cy="2019240"/>
          </a:xfrm>
        </p:grpSpPr>
        <p:pic>
          <p:nvPicPr>
            <p:cNvPr id="334" name="" descr=""/>
            <p:cNvPicPr/>
            <p:nvPr/>
          </p:nvPicPr>
          <p:blipFill>
            <a:blip r:embed="rId6"/>
            <a:stretch/>
          </p:blipFill>
          <p:spPr>
            <a:xfrm>
              <a:off x="6084720" y="4437000"/>
              <a:ext cx="259236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6617520" y="5445000"/>
              <a:ext cx="16005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ТИ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226920" y="0"/>
            <a:ext cx="73080" cy="465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2052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"/>
          <p:cNvSpPr/>
          <p:nvPr/>
        </p:nvSpPr>
        <p:spPr>
          <a:xfrm rot="16200000">
            <a:off x="306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4068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 rot="16200000">
            <a:off x="5292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"/>
          <p:cNvSpPr/>
          <p:nvPr/>
        </p:nvSpPr>
        <p:spPr>
          <a:xfrm rot="16200000">
            <a:off x="630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7380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95280" y="4653000"/>
            <a:ext cx="2703240" cy="1781280"/>
            <a:chOff x="395280" y="4653000"/>
            <a:chExt cx="2703240" cy="1781280"/>
          </a:xfrm>
        </p:grpSpPr>
        <p:sp>
          <p:nvSpPr>
            <p:cNvPr id="349" name=""/>
            <p:cNvSpPr/>
            <p:nvPr/>
          </p:nvSpPr>
          <p:spPr>
            <a:xfrm>
              <a:off x="395280" y="5877000"/>
              <a:ext cx="1564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50" name="" descr=""/>
            <p:cNvPicPr/>
            <p:nvPr/>
          </p:nvPicPr>
          <p:blipFill>
            <a:blip r:embed="rId9"/>
            <a:stretch/>
          </p:blipFill>
          <p:spPr>
            <a:xfrm>
              <a:off x="551880" y="4653000"/>
              <a:ext cx="25466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099080" y="5445360"/>
              <a:ext cx="14076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СКВ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0" y="404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346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9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50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1" dur="1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2091" fill="hold"/>
                                        <p:tgtEl>
                                          <p:spTgt spid="3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3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1000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2787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8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369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3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4" dur="1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590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"/>
          <a:stretch/>
        </p:blipFill>
        <p:spPr>
          <a:xfrm>
            <a:off x="1116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4"/>
          <a:stretch/>
        </p:blipFill>
        <p:spPr>
          <a:xfrm>
            <a:off x="169236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5"/>
          <a:stretch/>
        </p:blipFill>
        <p:spPr>
          <a:xfrm>
            <a:off x="97164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6"/>
          <a:stretch/>
        </p:blipFill>
        <p:spPr>
          <a:xfrm>
            <a:off x="90000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3348000" y="4581360"/>
            <a:ext cx="2663640" cy="1702080"/>
            <a:chOff x="3348000" y="4581360"/>
            <a:chExt cx="2663640" cy="1702080"/>
          </a:xfrm>
        </p:grpSpPr>
        <p:pic>
          <p:nvPicPr>
            <p:cNvPr id="362" name="" descr=""/>
            <p:cNvPicPr/>
            <p:nvPr/>
          </p:nvPicPr>
          <p:blipFill>
            <a:blip r:embed="rId7"/>
            <a:stretch/>
          </p:blipFill>
          <p:spPr>
            <a:xfrm>
              <a:off x="3348000" y="4581360"/>
              <a:ext cx="266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3929760" y="5445000"/>
              <a:ext cx="1582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..БЯТ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6372360" y="4437000"/>
            <a:ext cx="2447640" cy="2019240"/>
            <a:chOff x="6372360" y="4437000"/>
            <a:chExt cx="2447640" cy="2019240"/>
          </a:xfrm>
        </p:grpSpPr>
        <p:pic>
          <p:nvPicPr>
            <p:cNvPr id="365" name="" descr=""/>
            <p:cNvPicPr/>
            <p:nvPr/>
          </p:nvPicPr>
          <p:blipFill>
            <a:blip r:embed="rId8"/>
            <a:stretch/>
          </p:blipFill>
          <p:spPr>
            <a:xfrm>
              <a:off x="6372360" y="4437000"/>
              <a:ext cx="2447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875280" y="5445000"/>
              <a:ext cx="15109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ДР..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"/>
          <p:cNvSpPr/>
          <p:nvPr/>
        </p:nvSpPr>
        <p:spPr>
          <a:xfrm>
            <a:off x="608472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"/>
          <p:cNvSpPr/>
          <p:nvPr/>
        </p:nvSpPr>
        <p:spPr>
          <a:xfrm rot="16200000">
            <a:off x="1979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2987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399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"/>
          <p:cNvSpPr/>
          <p:nvPr/>
        </p:nvSpPr>
        <p:spPr>
          <a:xfrm rot="16200000">
            <a:off x="507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 rot="16200000">
            <a:off x="6084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7164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324000" y="4581360"/>
            <a:ext cx="2880720" cy="1800000"/>
            <a:chOff x="324000" y="4581360"/>
            <a:chExt cx="2880720" cy="1800000"/>
          </a:xfrm>
        </p:grpSpPr>
        <p:sp>
          <p:nvSpPr>
            <p:cNvPr id="380" name=""/>
            <p:cNvSpPr/>
            <p:nvPr/>
          </p:nvSpPr>
          <p:spPr>
            <a:xfrm>
              <a:off x="324000" y="5818320"/>
              <a:ext cx="16671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381" name="" descr=""/>
            <p:cNvPicPr/>
            <p:nvPr/>
          </p:nvPicPr>
          <p:blipFill>
            <a:blip r:embed="rId11"/>
            <a:stretch/>
          </p:blipFill>
          <p:spPr>
            <a:xfrm>
              <a:off x="491040" y="4581360"/>
              <a:ext cx="27136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1073880" y="5382000"/>
              <a:ext cx="1500120" cy="64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 СВ..ДАН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0" y="404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38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7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88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89" dur="1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6" dur="2433" fill="hold"/>
                                        <p:tgtEl>
                                          <p:spTgt spid="3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7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98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1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2199" fill="hold"/>
                                        <p:tgtEl>
                                          <p:spTgt spid="3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0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1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1718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476360" y="4076640"/>
            <a:ext cx="604836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ИНИШ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916360" y="1773360"/>
            <a:ext cx="7128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"/>
          <p:cNvSpPr/>
          <p:nvPr/>
        </p:nvSpPr>
        <p:spPr>
          <a:xfrm>
            <a:off x="5940360" y="1773360"/>
            <a:ext cx="71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404640"/>
            <a:ext cx="9144000" cy="223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558000 h 2232360"/>
              <a:gd name="textAreaBottom" fmla="*/ 2166480 h 223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2484360" y="1557360"/>
            <a:ext cx="42483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Ы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4"/>
          <a:stretch/>
        </p:blipFill>
        <p:spPr>
          <a:xfrm flipH="1" rot="17706600">
            <a:off x="6979680" y="4332240"/>
            <a:ext cx="1185840" cy="22590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5"/>
          <a:stretch/>
        </p:blipFill>
        <p:spPr>
          <a:xfrm rot="3482400">
            <a:off x="991080" y="4272480"/>
            <a:ext cx="1315800" cy="25081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rot="16200000">
            <a:off x="4500360" y="691560"/>
            <a:ext cx="142920" cy="7921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5" dur="1103" fill="hold"/>
                                        <p:tgtEl>
                                          <p:spTgt spid="3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НЕТ- РЕСУРС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другие исто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ffice.microsoft.com/clipart/preview.aspx?AssetID=MCj0430241&amp;Query=маш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ffice.microsoft.com/clipart/preview.aspx?AssetID=MCj0254404&amp;Query=фини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вуковые файл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viki.rdf.ru/cat/zagadki/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и учителя начальных классов МОУ «Новоаннинская гимназия» Пономаревой Л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todos.zonebg.com/img/soundfiles/carstarting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wildworldofsoccer.com/pictures/applause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billor.chsh.chc.edu.tw/sound/cheers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lumal.com/publication/sound/applause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 Диск «1С:Школа. Игры и задачи, 1 – 4 класс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7407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900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5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611280" y="4941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24000" y="4581360"/>
            <a:ext cx="2487600" cy="1781280"/>
            <a:chOff x="324000" y="4581360"/>
            <a:chExt cx="2487600" cy="1781280"/>
          </a:xfrm>
        </p:grpSpPr>
        <p:sp>
          <p:nvSpPr>
            <p:cNvPr id="53" name=""/>
            <p:cNvSpPr/>
            <p:nvPr/>
          </p:nvSpPr>
          <p:spPr>
            <a:xfrm>
              <a:off x="32400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7"/>
            <a:stretch/>
          </p:blipFill>
          <p:spPr>
            <a:xfrm>
              <a:off x="46836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97164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57" name="" descr=""/>
            <p:cNvPicPr/>
            <p:nvPr/>
          </p:nvPicPr>
          <p:blipFill>
            <a:blip r:embed="rId8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ДР..С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98764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1125360"/>
            <a:ext cx="71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15564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/>
          <p:nvPr/>
        </p:nvSpPr>
        <p:spPr>
          <a:xfrm>
            <a:off x="5940360" y="1197000"/>
            <a:ext cx="7164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162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2555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5724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4140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 rot="16200000">
            <a:off x="493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 rot="16200000">
            <a:off x="334800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651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7308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817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55640" y="3284640"/>
            <a:ext cx="792000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300720" y="4437000"/>
            <a:ext cx="2448000" cy="2019240"/>
            <a:chOff x="6300720" y="4437000"/>
            <a:chExt cx="2448000" cy="2019240"/>
          </a:xfrm>
        </p:grpSpPr>
        <p:pic>
          <p:nvPicPr>
            <p:cNvPr id="76" name="" descr=""/>
            <p:cNvPicPr/>
            <p:nvPr/>
          </p:nvPicPr>
          <p:blipFill>
            <a:blip r:embed="rId11"/>
            <a:stretch/>
          </p:blipFill>
          <p:spPr>
            <a:xfrm>
              <a:off x="6300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6804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.. СУНО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0" y="83664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356000" y="126828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278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588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2" dur="1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209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7407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87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826920" y="4653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971640" y="638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684360" y="4653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9640" y="0"/>
            <a:ext cx="806472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0"/>
            <a:ext cx="7164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2916360" y="0"/>
            <a:ext cx="7128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620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555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92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429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5292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6156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7021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7956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1128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101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03640" y="4581360"/>
            <a:ext cx="2736360" cy="1702080"/>
            <a:chOff x="3203640" y="4581360"/>
            <a:chExt cx="2736360" cy="1702080"/>
          </a:xfrm>
        </p:grpSpPr>
        <p:pic>
          <p:nvPicPr>
            <p:cNvPr id="105" name="" descr=""/>
            <p:cNvPicPr/>
            <p:nvPr/>
          </p:nvPicPr>
          <p:blipFill>
            <a:blip r:embed="rId10"/>
            <a:stretch/>
          </p:blipFill>
          <p:spPr>
            <a:xfrm>
              <a:off x="3203640" y="4581360"/>
              <a:ext cx="273636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801240" y="5445000"/>
              <a:ext cx="1625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..ДВЕД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6156360" y="4437000"/>
            <a:ext cx="2448000" cy="2019240"/>
            <a:chOff x="6156360" y="4437000"/>
            <a:chExt cx="2448000" cy="2019240"/>
          </a:xfrm>
        </p:grpSpPr>
        <p:pic>
          <p:nvPicPr>
            <p:cNvPr id="108" name="" descr=""/>
            <p:cNvPicPr/>
            <p:nvPr/>
          </p:nvPicPr>
          <p:blipFill>
            <a:blip r:embed="rId11"/>
            <a:stretch/>
          </p:blipFill>
          <p:spPr>
            <a:xfrm>
              <a:off x="615636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665964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..РЕВН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0" y="62064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27640" y="1052640"/>
            <a:ext cx="439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6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" dur="1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718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60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61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209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19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72360" y="31417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8036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75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11280" y="5084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97164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755640" y="465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3964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836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2844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399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93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011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7021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8172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133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ОР.. Д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419640" y="4508640"/>
            <a:ext cx="2303280" cy="1701720"/>
            <a:chOff x="3419640" y="4508640"/>
            <a:chExt cx="2303280" cy="1701720"/>
          </a:xfrm>
        </p:grpSpPr>
        <p:pic>
          <p:nvPicPr>
            <p:cNvPr id="137" name="" descr=""/>
            <p:cNvPicPr/>
            <p:nvPr/>
          </p:nvPicPr>
          <p:blipFill>
            <a:blip r:embed="rId11"/>
            <a:stretch/>
          </p:blipFill>
          <p:spPr>
            <a:xfrm>
              <a:off x="3419640" y="4508640"/>
              <a:ext cx="230328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3922560" y="5371920"/>
              <a:ext cx="13680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ТИ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012000" y="4365720"/>
            <a:ext cx="2447640" cy="2019240"/>
            <a:chOff x="6012000" y="4365720"/>
            <a:chExt cx="2447640" cy="2019240"/>
          </a:xfrm>
        </p:grpSpPr>
        <p:pic>
          <p:nvPicPr>
            <p:cNvPr id="140" name="" descr=""/>
            <p:cNvPicPr/>
            <p:nvPr/>
          </p:nvPicPr>
          <p:blipFill>
            <a:blip r:embed="rId12"/>
            <a:stretch/>
          </p:blipFill>
          <p:spPr>
            <a:xfrm>
              <a:off x="6012000" y="4365720"/>
              <a:ext cx="244764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514920" y="5373720"/>
              <a:ext cx="15109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..С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284720" y="907920"/>
            <a:ext cx="439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718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278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" dur="1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71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38036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ЗЫ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1692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2628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492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645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53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588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885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4581360"/>
            <a:ext cx="2952000" cy="1773360"/>
            <a:chOff x="0" y="4581360"/>
            <a:chExt cx="2952000" cy="1773360"/>
          </a:xfrm>
        </p:grpSpPr>
        <p:sp>
          <p:nvSpPr>
            <p:cNvPr id="164" name=""/>
            <p:cNvSpPr/>
            <p:nvPr/>
          </p:nvSpPr>
          <p:spPr>
            <a:xfrm>
              <a:off x="0" y="5799600"/>
              <a:ext cx="17085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171000" y="4581360"/>
              <a:ext cx="278100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768600" y="5370120"/>
              <a:ext cx="1537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..СУНО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56360" y="4365720"/>
            <a:ext cx="2448000" cy="2019240"/>
            <a:chOff x="6156360" y="4365720"/>
            <a:chExt cx="2448000" cy="2019240"/>
          </a:xfrm>
        </p:grpSpPr>
        <p:pic>
          <p:nvPicPr>
            <p:cNvPr id="168" name="" descr=""/>
            <p:cNvPicPr/>
            <p:nvPr/>
          </p:nvPicPr>
          <p:blipFill>
            <a:blip r:embed="rId8"/>
            <a:stretch/>
          </p:blipFill>
          <p:spPr>
            <a:xfrm>
              <a:off x="6156360" y="436572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659640" y="537372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..ДВЕД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140360" y="907920"/>
            <a:ext cx="5047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78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09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5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6" dur="1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159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694836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23400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755640" y="4724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8360" y="4581360"/>
            <a:ext cx="2487600" cy="1781280"/>
            <a:chOff x="468360" y="4581360"/>
            <a:chExt cx="2487600" cy="1781280"/>
          </a:xfrm>
        </p:grpSpPr>
        <p:sp>
          <p:nvSpPr>
            <p:cNvPr id="179" name=""/>
            <p:cNvSpPr/>
            <p:nvPr/>
          </p:nvSpPr>
          <p:spPr>
            <a:xfrm>
              <a:off x="46836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80" name="" descr=""/>
            <p:cNvPicPr/>
            <p:nvPr/>
          </p:nvPicPr>
          <p:blipFill>
            <a:blip r:embed="rId6"/>
            <a:stretch/>
          </p:blipFill>
          <p:spPr>
            <a:xfrm>
              <a:off x="61272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11600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ОВ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084720" y="4437000"/>
            <a:ext cx="2448000" cy="2019240"/>
            <a:chOff x="6084720" y="4437000"/>
            <a:chExt cx="2448000" cy="2019240"/>
          </a:xfrm>
        </p:grpSpPr>
        <p:pic>
          <p:nvPicPr>
            <p:cNvPr id="183" name="" descr=""/>
            <p:cNvPicPr/>
            <p:nvPr/>
          </p:nvPicPr>
          <p:blipFill>
            <a:blip r:embed="rId7"/>
            <a:stretch/>
          </p:blipFill>
          <p:spPr>
            <a:xfrm>
              <a:off x="6084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6588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..БАК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1979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2987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4211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5292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644508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7524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198" name="" descr=""/>
            <p:cNvPicPr/>
            <p:nvPr/>
          </p:nvPicPr>
          <p:blipFill>
            <a:blip r:embed="rId10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..РТИНА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356000" y="90792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9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2199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9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0" dur="1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588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79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3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09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812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5564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82692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755640" y="465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5280" y="4653000"/>
            <a:ext cx="2663640" cy="1781280"/>
            <a:chOff x="395280" y="4653000"/>
            <a:chExt cx="2663640" cy="1781280"/>
          </a:xfrm>
        </p:grpSpPr>
        <p:sp>
          <p:nvSpPr>
            <p:cNvPr id="210" name=""/>
            <p:cNvSpPr/>
            <p:nvPr/>
          </p:nvSpPr>
          <p:spPr>
            <a:xfrm>
              <a:off x="395280" y="5877000"/>
              <a:ext cx="1541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7"/>
            <a:stretch/>
          </p:blipFill>
          <p:spPr>
            <a:xfrm>
              <a:off x="549720" y="4653000"/>
              <a:ext cx="2509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1088640" y="5445360"/>
              <a:ext cx="1387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..МИЛ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084720" y="4508640"/>
            <a:ext cx="2448000" cy="2019240"/>
            <a:chOff x="6084720" y="4508640"/>
            <a:chExt cx="2448000" cy="2019240"/>
          </a:xfrm>
        </p:grpSpPr>
        <p:pic>
          <p:nvPicPr>
            <p:cNvPr id="214" name="" descr=""/>
            <p:cNvPicPr/>
            <p:nvPr/>
          </p:nvPicPr>
          <p:blipFill>
            <a:blip r:embed="rId8"/>
            <a:stretch/>
          </p:blipFill>
          <p:spPr>
            <a:xfrm>
              <a:off x="6084720" y="450864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6588000" y="551664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..С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2916360" y="0"/>
            <a:ext cx="712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/>
          <p:nvPr/>
        </p:nvSpPr>
        <p:spPr>
          <a:xfrm>
            <a:off x="5940360" y="0"/>
            <a:ext cx="7164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/>
          <p:nvPr/>
        </p:nvSpPr>
        <p:spPr>
          <a:xfrm rot="16200000">
            <a:off x="1763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2771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 rot="16200000">
            <a:off x="3708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860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94036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694836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80294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348000" y="4653000"/>
            <a:ext cx="2303640" cy="1701720"/>
            <a:chOff x="3348000" y="4653000"/>
            <a:chExt cx="2303640" cy="1701720"/>
          </a:xfrm>
        </p:grpSpPr>
        <p:pic>
          <p:nvPicPr>
            <p:cNvPr id="229" name="" descr=""/>
            <p:cNvPicPr/>
            <p:nvPr/>
          </p:nvPicPr>
          <p:blipFill>
            <a:blip r:embed="rId11"/>
            <a:stretch/>
          </p:blipFill>
          <p:spPr>
            <a:xfrm>
              <a:off x="3348000" y="4653000"/>
              <a:ext cx="2303640" cy="170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851280" y="5516280"/>
              <a:ext cx="136836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ССИ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356000" y="836640"/>
            <a:ext cx="43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9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199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20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8" dur="1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171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213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213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1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2" dur="1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" dur="209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1116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755640" y="479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5"/>
          <a:stretch/>
        </p:blipFill>
        <p:spPr>
          <a:xfrm>
            <a:off x="1187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755640" y="4653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241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7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ДРЕ.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059280" y="4581360"/>
            <a:ext cx="2736360" cy="1656000"/>
            <a:chOff x="3059280" y="4581360"/>
            <a:chExt cx="2736360" cy="1656000"/>
          </a:xfrm>
        </p:grpSpPr>
        <p:pic>
          <p:nvPicPr>
            <p:cNvPr id="245" name="" descr=""/>
            <p:cNvPicPr/>
            <p:nvPr/>
          </p:nvPicPr>
          <p:blipFill>
            <a:blip r:embed="rId8"/>
            <a:stretch/>
          </p:blipFill>
          <p:spPr>
            <a:xfrm>
              <a:off x="3059280" y="4581360"/>
              <a:ext cx="273636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3656880" y="5421600"/>
              <a:ext cx="1625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А..ИБО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012000" y="0"/>
            <a:ext cx="72720" cy="4626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 rot="16200000">
            <a:off x="1908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2916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 rot="16200000">
            <a:off x="399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5003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601164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7021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810108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84720" y="4437000"/>
            <a:ext cx="2448000" cy="2019240"/>
            <a:chOff x="6084720" y="4437000"/>
            <a:chExt cx="2448000" cy="2019240"/>
          </a:xfrm>
        </p:grpSpPr>
        <p:pic>
          <p:nvPicPr>
            <p:cNvPr id="260" name="" descr=""/>
            <p:cNvPicPr/>
            <p:nvPr/>
          </p:nvPicPr>
          <p:blipFill>
            <a:blip r:embed="rId11"/>
            <a:stretch/>
          </p:blipFill>
          <p:spPr>
            <a:xfrm>
              <a:off x="6084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6588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ЛА .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0" y="333360"/>
            <a:ext cx="9144000" cy="115272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720"/>
              <a:gd name="textAreaBottom" fmla="*/ 1118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067280" y="765000"/>
            <a:ext cx="79992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2787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1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3" dur="1588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0" dur="1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209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812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82692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140328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90000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611280" y="47973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11280" y="0"/>
            <a:ext cx="806436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39640" y="4581360"/>
            <a:ext cx="2487600" cy="1781280"/>
            <a:chOff x="539640" y="4581360"/>
            <a:chExt cx="2487600" cy="1781280"/>
          </a:xfrm>
        </p:grpSpPr>
        <p:sp>
          <p:nvSpPr>
            <p:cNvPr id="272" name=""/>
            <p:cNvSpPr/>
            <p:nvPr/>
          </p:nvSpPr>
          <p:spPr>
            <a:xfrm>
              <a:off x="539640" y="5805360"/>
              <a:ext cx="14396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73" name="" descr=""/>
            <p:cNvPicPr/>
            <p:nvPr/>
          </p:nvPicPr>
          <p:blipFill>
            <a:blip r:embed="rId7"/>
            <a:stretch/>
          </p:blipFill>
          <p:spPr>
            <a:xfrm>
              <a:off x="684000" y="4581360"/>
              <a:ext cx="234324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187280" y="5373720"/>
              <a:ext cx="1295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УЧ..НИК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3492360" y="4581360"/>
            <a:ext cx="2303640" cy="1702080"/>
            <a:chOff x="3492360" y="4581360"/>
            <a:chExt cx="2303640" cy="1702080"/>
          </a:xfrm>
        </p:grpSpPr>
        <p:pic>
          <p:nvPicPr>
            <p:cNvPr id="276" name="" descr=""/>
            <p:cNvPicPr/>
            <p:nvPr/>
          </p:nvPicPr>
          <p:blipFill>
            <a:blip r:embed="rId8"/>
            <a:stretch/>
          </p:blipFill>
          <p:spPr>
            <a:xfrm>
              <a:off x="3492360" y="4581360"/>
              <a:ext cx="2303640" cy="17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3995640" y="5445000"/>
              <a:ext cx="1368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..ДВЕДЬ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"/>
          <p:cNvSpPr/>
          <p:nvPr/>
        </p:nvSpPr>
        <p:spPr>
          <a:xfrm flipH="1">
            <a:off x="2842560" y="0"/>
            <a:ext cx="7308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012000" y="0"/>
            <a:ext cx="72720" cy="45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755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1763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29876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406872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514800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622908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7237440" y="4436640"/>
            <a:ext cx="142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8316720" y="4436280"/>
            <a:ext cx="1429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738036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3794"/>
                </a:moveTo>
                <a:lnTo>
                  <a:pt x="32875" y="10800"/>
                </a:lnTo>
                <a:lnTo>
                  <a:pt x="18862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4360" y="4076640"/>
            <a:ext cx="7920000" cy="44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АРТ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300720" y="4437000"/>
            <a:ext cx="2448000" cy="2019240"/>
            <a:chOff x="6300720" y="4437000"/>
            <a:chExt cx="2448000" cy="2019240"/>
          </a:xfrm>
        </p:grpSpPr>
        <p:pic>
          <p:nvPicPr>
            <p:cNvPr id="291" name="" descr=""/>
            <p:cNvPicPr/>
            <p:nvPr/>
          </p:nvPicPr>
          <p:blipFill>
            <a:blip r:embed="rId11"/>
            <a:stretch/>
          </p:blipFill>
          <p:spPr>
            <a:xfrm>
              <a:off x="6300720" y="4437000"/>
              <a:ext cx="2448000" cy="20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6804000" y="5445000"/>
              <a:ext cx="151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ФАМИЛ..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476280"/>
            <a:ext cx="9144000" cy="1152360"/>
          </a:xfrm>
          <a:custGeom>
            <a:avLst/>
            <a:gdLst>
              <a:gd name="textAreaLeft" fmla="*/ 2286000 w 9144000"/>
              <a:gd name="textAreaRight" fmla="*/ 6858000 w 9144000"/>
              <a:gd name="textAreaTop" fmla="*/ 288000 h 1152360"/>
              <a:gd name="textAreaBottom" fmla="*/ 111852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4720" y="907920"/>
            <a:ext cx="4395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74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75" dur="1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1718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88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89" dur="1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09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1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2199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8T13:49:54Z</dcterms:created>
  <dc:creator>Сергей</dc:creator>
  <dc:description/>
  <dc:language>en-US</dc:language>
  <cp:lastModifiedBy>Сергей</cp:lastModifiedBy>
  <dcterms:modified xsi:type="dcterms:W3CDTF">2009-05-10T15:52:34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