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0102-8C07-4935-AE65-E85C3479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9CFF-EE5B-4576-94E8-5BE7E8AB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0CB6-D23B-46E9-A38A-A4961904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0AAC-C2F8-47C8-BDE0-47131FE7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E0C2-C5F3-43C1-B112-409E46ED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BAE4-6861-4FBB-BC14-4282978B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E0C-1109-4E5B-B8BC-18C9199F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E13-CB11-4F3E-BA7A-87557DA1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C8A-A103-4CC7-85D6-CD28EB70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A0A6-0F35-4861-86C2-8AC2A773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B70F-4C01-4315-BD14-C44EBFE9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DFC2-AB6C-402E-826A-1922747D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2047-858D-40BF-8B2B-44AB7ABB79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76092"/>
                </a:solidFill>
                <a:latin typeface="Calibri"/>
              </a:rPr>
              <a:t>ТУШИНО.</a:t>
            </a:r>
            <a:br>
              <a:rPr sz="4400"/>
            </a:br>
            <a:r>
              <a:rPr b="1" i="1" lang="ru-RU" sz="4400" spc="-1" strike="noStrike">
                <a:solidFill>
                  <a:srgbClr val="376092"/>
                </a:solidFill>
                <a:latin typeface="Calibri"/>
              </a:rPr>
              <a:t>ИСТОРИЯ ОТ НАЧАЛА ВЕК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2544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ПРЕЗЕНТАЦИЯ К ПРОЕК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«ТУШИНО . ПУТЕШЕСТВИЕ ВО ВРЕМЕНИ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ПОДГОТОВИЛА И ПРОВЕЛ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КАРЯКИНА Е.В.  ВОСПИТАТЕЛЬ ГБОУ  СОШ №105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Г. МОСК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ВСЛЕД ЗА ЖИВОТНЫМИ ПРИШЛИ В НАШИ КРАЯ И ПЕРВОБЫТНЫЕ ОХОТН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108000" y="1989000"/>
            <a:ext cx="892800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15840" y="620640"/>
            <a:ext cx="9128160" cy="5472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350280" cy="7012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ВО ЧТО ОТДЕВАЛИСЬ ДРЕВНИЕ ЛЮД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2" descr=""/>
          <p:cNvPicPr/>
          <p:nvPr/>
        </p:nvPicPr>
        <p:blipFill>
          <a:blip r:embed="rId1"/>
          <a:stretch/>
        </p:blipFill>
        <p:spPr>
          <a:xfrm>
            <a:off x="581040" y="1125360"/>
            <a:ext cx="3936960" cy="244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579600" y="3789360"/>
            <a:ext cx="3938400" cy="28735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"/>
          <p:cNvPicPr/>
          <p:nvPr/>
        </p:nvPicPr>
        <p:blipFill>
          <a:blip r:embed="rId3"/>
          <a:stretch/>
        </p:blipFill>
        <p:spPr>
          <a:xfrm>
            <a:off x="4932360" y="1609560"/>
            <a:ext cx="378000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19080" y="0"/>
            <a:ext cx="9174240" cy="6831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ДРЕВНЕЙШАЯ ИСТОР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16 – 17 ТЫСЯЧ ЛЕТ НАЗАД КЛИМАТ БЫЛ     БЛИЗОК К СОВРЕМЕННОМУ , НО НА ТЕРРИТОРИИ ТУШИНА ВСТРЕЧАЛИСЬ ЛЕДНИКОВЫЕ ПОЛЯРНЫЕ ЖИВОТ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8699760" cy="3265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71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ОВЦЕБЫ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rcRect l="0" t="0" r="0" b="24519"/>
          <a:stretch/>
        </p:blipFill>
        <p:spPr>
          <a:xfrm>
            <a:off x="325440" y="1557360"/>
            <a:ext cx="829008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БОЛЬШЕРОГИЙ ОЛЕ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rcRect l="13328" t="5912" r="14750" b="14740"/>
          <a:stretch/>
        </p:blipFill>
        <p:spPr>
          <a:xfrm>
            <a:off x="1525680" y="1438200"/>
            <a:ext cx="6092640" cy="5038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ВОЛОСАТЫЙ НОСОРО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311040" y="1341360"/>
            <a:ext cx="8520120" cy="5011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З У Б 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1044720" y="1268280"/>
            <a:ext cx="705456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РОСОМАХ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534960" y="1411200"/>
            <a:ext cx="8074080" cy="4735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7720" y="115560"/>
            <a:ext cx="82515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ХОЛМЫ БЫЛИ ПОКРЫТЫ ЛЕСОМ , ВНИЗУ ПРОСТИРАЛИСЬ БОЛОТА , ПОРОСШИЕ МЕЛКОЙ СОСНОЙ И КОРЯВОЙ БЕРЕЗОЙ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НА ЭТИХ БОЛОТА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ПАСЛИСЬ</a:t>
            </a: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ГИГАНТСКИЕ 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ПОКРЫТЫЕ</a:t>
            </a: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БУР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ШЕРСТ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4000680" y="1628640"/>
            <a:ext cx="5113080" cy="4481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М А М О Н Т 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6912000" cy="5526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7T05:02:27Z</dcterms:created>
  <dc:creator>RePack by Diakov</dc:creator>
  <dc:description/>
  <dc:language>en-US</dc:language>
  <cp:lastModifiedBy>RePack by Diakov</cp:lastModifiedBy>
  <dcterms:modified xsi:type="dcterms:W3CDTF">2017-10-08T14:34:37Z</dcterms:modified>
  <cp:revision>45</cp:revision>
  <dc:subject/>
  <dc:title>ТУШИНО . ИСТОРИЯ ОТ НАЧАЛА ВЕКОВ.</dc:title>
</cp:coreProperties>
</file>