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639-A25F-4E03-94A0-EE12DC90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BA9-562E-4F78-84D1-A388F6A0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DF5-6C8C-4ADE-8912-FFEF4CE3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052-C51D-468C-9B79-B5809EB8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13A-75C5-4F78-A9C8-D5919337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FB7-C0F2-490F-A721-BB7108A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0D3-FE97-4D90-A425-945B1AD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74F-8688-4534-AA48-63F7C444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FC7-AAD8-4CFC-BFC1-6E79A39A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D4B-EF66-4C60-959E-51D452F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0AD-4E17-4243-9B12-2F4FFDD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970-BA2F-414C-AA64-F3ED1783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437-4564-4224-B2DE-6B1AA363A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О ЧТО ОТДЕВАЛИСЬ ДРЕВНИЕ ЛЮ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2" descr=""/>
          <p:cNvPicPr/>
          <p:nvPr/>
        </p:nvPicPr>
        <p:blipFill>
          <a:blip r:embed="rId1"/>
          <a:stretch/>
        </p:blipFill>
        <p:spPr>
          <a:xfrm>
            <a:off x="581040" y="1125360"/>
            <a:ext cx="393696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579600" y="3789360"/>
            <a:ext cx="3938400" cy="2873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4932360" y="1609560"/>
            <a:ext cx="3780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360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В БЫТ ГОРОДЩА ПЛОТНО ВХОДИЛА ДРЕВНЯЯ МЕТАЛЛУРГИЯ . ЖИТЕЛИ БЫЛИ И ИСКУССНЫМИ КОСТОРЕЗАМ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179280" y="1157400"/>
            <a:ext cx="2952720" cy="4071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2"/>
          <a:srcRect l="0" t="2892" r="0" b="5669"/>
          <a:stretch/>
        </p:blipFill>
        <p:spPr>
          <a:xfrm>
            <a:off x="5724360" y="1157400"/>
            <a:ext cx="3306960" cy="4032000"/>
          </a:xfrm>
          <a:prstGeom prst="rect">
            <a:avLst/>
          </a:prstGeom>
          <a:ln w="0">
            <a:noFill/>
          </a:ln>
        </p:spPr>
      </p:pic>
      <p:pic>
        <p:nvPicPr>
          <p:cNvPr id="69" name="Объект 3" descr=""/>
          <p:cNvPicPr/>
          <p:nvPr/>
        </p:nvPicPr>
        <p:blipFill>
          <a:blip r:embed="rId3"/>
          <a:stretch/>
        </p:blipFill>
        <p:spPr>
          <a:xfrm>
            <a:off x="3129120" y="4076640"/>
            <a:ext cx="458280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ЕДМЕТЫ БЫТА СЛАВ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rcRect l="9219" t="16567" r="8613" b="0"/>
          <a:stretch/>
        </p:blipFill>
        <p:spPr>
          <a:xfrm>
            <a:off x="826920" y="1197000"/>
            <a:ext cx="741708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ПЕРВОЕ УПОМИНАНИЕ О ТУШИНО БЫЛО В 14 ВЕКЕ : «В 1390 ИВАН РОДИОНОВИЧ, ПО ПРОЗВИЩУ КВАШНЯ, ПОХОРОНЕН В МОНАСТЫРЕ СПАСА НА РЕКЕ ВСХОДНЕ». ЕГО МЛАДШИЙ СЫН , ВАСИЛИЙ ИВАНОВИЧ , ИМЕЛ ПРОЗВИЩЕ – ТУША , ОТ НЕГО ПОШЛА ФАМИЛИЯ ТУШИНЫХ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98480" cy="5035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3710160" y="2492280"/>
            <a:ext cx="5100480" cy="403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851280" y="1557360"/>
            <a:ext cx="43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БЫТ БОЯР 14 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ПИСИ 18 ВЕКА : «В ТУШИНЕ НАСЕЛЕНИЕ ЗАМЕТНО ПРИРАСТАЕТ , СОСТОЯНИЕ КРЕСТЬЯН ОЦЕНИВАЕТСЯ КАК ЗАЖИТОЧНОЕ . ХЛЕБ РОДИТЬСЯ : РОЖЬ , ПШЕНИЦА , ОВЕС , ГРЕЧИХА ХОРОШАЯ . ПОКОСЫ ХОРОШИ , ЛЕС МЕЛКИЙ КУСТАРНИК , В НЕМ ЗАЙЦЫ , ТЕТЕРЕВА , А ПРИ РЕКАХ ДИКИЕ УТКИ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546120" y="1773360"/>
            <a:ext cx="8051760" cy="4962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КОНЦЕ 19 ВЕКА В ДЕРЕВНЕ ТУШИНО СТРОЯТ ШКОЛУ И БОЛЬНИЦУ .  ЖЕНЩИНЫ НА ДОМУ ВЯЗАЛИ ЧУЛКИ И ПЕРЧАТКИ. КРЕСТЬЯНЕ ХОДЯТ В ЦЕРКОВЬ ПРЕОБРАЖЕНИЯ В СЕЛЕ СПАС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55680" y="1628640"/>
            <a:ext cx="4781520" cy="4896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5798520" y="23493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452840" y="3246480"/>
            <a:ext cx="238320" cy="371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951520" y="2502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508720" y="2502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Церковь Спаса Преображения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селе Спас (Тушино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Литография XIX 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Бывшая церковь  Спас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онастыря, построена ок. 1587 г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снесена в конце XIX века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СЕЛАХ БРАТЦЕВО И СПАС ПОСТРОЕНЫ ТКАЦКИЕ  ФАБРИКИ. ПЕРЕВОЗ ТОВАРОВ ДЛЯ ФАБРИК СТАЛ ДОХОДНЫМ ДЕЛОМ ДЛЯ ТУШИНЦ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0" y="2637000"/>
            <a:ext cx="5619600" cy="3747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68360" y="184464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ТКАЦКИЙ СТАНОК 19 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3051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6576480" y="5084640"/>
            <a:ext cx="14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ПЕРЕВО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ТОВА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19 В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В 1932 г. НАЧАЛОСЬ СТРОИТЕЛЬСТВО  АВИАМОТОРНОГО ЗАВОДА , У ЖЕЛЕЗНОДОРОЖНОЙ СТАНЦИИ  ТУШ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25244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>
            <a:off x="152280" y="1341360"/>
            <a:ext cx="534060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3"/>
          <a:stretch/>
        </p:blipFill>
        <p:spPr>
          <a:xfrm>
            <a:off x="4646520" y="3429000"/>
            <a:ext cx="4356360" cy="3267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152640" y="5745240"/>
            <a:ext cx="44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1963 ПЕРЕИМЕНОВАН В ТУШИ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ЕХАНИЧЕСКИЙ ЗАВОД  ТМ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45800"/>
            <a:ext cx="8435880" cy="11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РОИТЕЛЬСТВО КАНАЛА МОСКВА – ВОЛГА .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 1932 -1937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-9360" y="907920"/>
            <a:ext cx="558144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3282840" y="3797280"/>
            <a:ext cx="5403960" cy="3036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"/>
          <p:cNvPicPr/>
          <p:nvPr/>
        </p:nvPicPr>
        <p:blipFill>
          <a:blip r:embed="rId3"/>
          <a:stretch/>
        </p:blipFill>
        <p:spPr>
          <a:xfrm>
            <a:off x="5681520" y="1125360"/>
            <a:ext cx="335448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В 1935 г. ПОСТРОЕН ТУШИНСКИЙ АЭРОДРОМ , ОТКРЫТ ЦЕНТРАЛЬНЫЙ  АЭРОКЛУБ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5" descr=""/>
          <p:cNvPicPr/>
          <p:nvPr/>
        </p:nvPicPr>
        <p:blipFill>
          <a:blip r:embed="rId1"/>
          <a:stretch/>
        </p:blipFill>
        <p:spPr>
          <a:xfrm>
            <a:off x="1347840" y="4748040"/>
            <a:ext cx="6448320" cy="2097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25448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В 1938г.ДЕРЕВНЯ ТУШИНО ПЕРЕИМЕНОВАНА В ГОРОД ТУШ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204840" y="1341360"/>
            <a:ext cx="850752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9080" y="0"/>
            <a:ext cx="91742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ДАЛЕЕ НАШИ ПРЕДКИ СТАЛИ ИЗГОТАВЛИВАТЬ ОРУД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1778040" y="1628640"/>
            <a:ext cx="558792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В ИСТОРИЧЕСКОМ МУЗЕЕ ХРАНЯТСЯ ДВА КАМЕННЫХ ТОПОРА , НАЙДЕНЫХ ПРИ СТРОИТЕЛЬСТВЕ ВОЛОКОЛАМСКОГО ШОССЕ , ОКОЛО СЕЛА СПАС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403280" y="1816200"/>
            <a:ext cx="55548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ервое оруж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444680" y="2924280"/>
            <a:ext cx="547200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584360" y="1901880"/>
            <a:ext cx="5867280" cy="383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908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ЭТИМ ОРУДИЕМ НАШИ ПРЕДКИ  НЕ ТОЛЬКО ОХОТИЛИСЬ , НО И СРУБАЛИ ДЕРЕВЬЯ И НАЧАЛИ ОБРАБАТЫВАТЬ ЗЕМЛ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2320" y="1458720"/>
            <a:ext cx="828216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ЛЮДИ СОВРЕМЕННОГО ТИПА - НЕОАНТРО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3"/>
          <p:cNvSpPr/>
          <p:nvPr/>
        </p:nvSpPr>
        <p:spPr>
          <a:xfrm>
            <a:off x="179280" y="5732640"/>
            <a:ext cx="87854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УМЕНЬШЕНИЕ КОЛИЧЕСТВА ДИКИХ ЖИВОТНЫХ ПРИВЕЛО  К РАЗВИТИЮ ЗЕМЛЕДЕЛИЯ И СКОТОВОД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648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ЗАТЕМ ОНИ СТАЛИ ДЕЛАТЬ РАЗНУЮ УТВАРЬ ИЗ ГЛИНЫ И ДЕРЕВ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rcRect l="18425" t="6903" r="7913" b="8871"/>
          <a:stretch/>
        </p:blipFill>
        <p:spPr>
          <a:xfrm>
            <a:off x="108000" y="1236600"/>
            <a:ext cx="4032360" cy="3457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2987640" y="4105440"/>
            <a:ext cx="3168720" cy="2781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864400" y="1125360"/>
            <a:ext cx="317160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ЛЮДИ СТАЛИ ОБЪЕДИНЯТЬ СВОИ ЖИЛИЩА В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900000" y="1417680"/>
            <a:ext cx="7201080" cy="5398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НА МЕСТЕ СОВРЕМЕННОГО ТУШИНА АРХЕОЛОГИ ОБНАРУЖИЛИ СПАСО – ТУШИНСКОЕ ГОРОДИЩЕ . ХОЛМ БЫЛ УКРЕПЛЕН ГЛУБОКИМИ РВАМИ, НАПОЛНЕНЫМИ ВОДОЙ . МАЛЕНЬКИЙ ПОСЕЛОК С МОЩНЫМИ УКРЕПЛЕНИЯМИ  БЫЛ НЕПРЕСТУПНОЙ КРЕПОСТЬЮ В ТЕ ВРЕМ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596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КОТОВОДСТВО БЫЛО ГЛАВНЫМ ЗАНЯТИЕМ НАШИХ ПРЕДКОВ . ПРЕОБЛАДАЛО КОНЕВОДСТВО , Т.К. ЛОШАДЬ ЗИМОЙ ДОСТАЕТ СЕБЕ КОРМ ИЗ - ПОД СНЕГА , А КОРМ ЗАГОТАВЛИВАТЬ ПРИМИТИВНЫМИ ОРУДИЯМИ ЧРЕЗВЫЧАЙНО ТРУДНО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198440" y="2276640"/>
            <a:ext cx="674712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5:02:27Z</dcterms:created>
  <dc:creator>RePack by Diakov</dc:creator>
  <dc:description/>
  <dc:language>en-US</dc:language>
  <cp:lastModifiedBy>RePack by Diakov</cp:lastModifiedBy>
  <dcterms:modified xsi:type="dcterms:W3CDTF">2017-10-08T14:38:54Z</dcterms:modified>
  <cp:revision>44</cp:revision>
  <dc:subject/>
  <dc:title>ТУШИНО . ИСТОРИЯ ОТ НАЧАЛА ВЕКОВ.</dc:title>
</cp:coreProperties>
</file>