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6DD0-200F-4937-93D0-486BFF7F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C18-8661-435E-A20B-D65F14C9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776-774D-4F31-8399-FAE67BD9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9130-EB1C-4C31-8337-577532D8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927F-5347-432D-A136-193F6956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7531-212D-4EAE-A6E8-BEA95ED3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D41-55C8-468B-B975-7DD3B611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4055-CD6B-4CEE-8F64-CC9E476C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E57E-037A-4627-B5DD-A6FA00DD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BBDF-2623-41B8-B06E-00A15FFC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F41A-6D7D-4E3E-B7BA-A4B43249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E8D1-A160-443F-828A-31E521C0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BD9D-6F53-4B71-90C9-FD55455FEC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ВО ЧТО ОТДЕВАЛИСЬ ДРЕВНИЕ ЛЮД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Объект 2" descr=""/>
          <p:cNvPicPr/>
          <p:nvPr/>
        </p:nvPicPr>
        <p:blipFill>
          <a:blip r:embed="rId1"/>
          <a:stretch/>
        </p:blipFill>
        <p:spPr>
          <a:xfrm>
            <a:off x="581040" y="1125360"/>
            <a:ext cx="3936960" cy="24480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"/>
          <p:cNvPicPr/>
          <p:nvPr/>
        </p:nvPicPr>
        <p:blipFill>
          <a:blip r:embed="rId2"/>
          <a:stretch/>
        </p:blipFill>
        <p:spPr>
          <a:xfrm>
            <a:off x="579600" y="3789360"/>
            <a:ext cx="3938400" cy="28735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"/>
          <p:cNvPicPr/>
          <p:nvPr/>
        </p:nvPicPr>
        <p:blipFill>
          <a:blip r:embed="rId3"/>
          <a:stretch/>
        </p:blipFill>
        <p:spPr>
          <a:xfrm>
            <a:off x="4932360" y="1609560"/>
            <a:ext cx="378000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1360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В БЫТ ГОРОДЩА ПЛОТНО ВХОДИЛА ДРЕВНЯЯ МЕТАЛЛУРГИЯ . ЖИТЕЛИ БЫЛИ И ИСКУССНЫМИ КОСТОРЕЗАМ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4" descr=""/>
          <p:cNvPicPr/>
          <p:nvPr/>
        </p:nvPicPr>
        <p:blipFill>
          <a:blip r:embed="rId1"/>
          <a:stretch/>
        </p:blipFill>
        <p:spPr>
          <a:xfrm>
            <a:off x="179280" y="1157400"/>
            <a:ext cx="2952720" cy="40719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6" descr=""/>
          <p:cNvPicPr/>
          <p:nvPr/>
        </p:nvPicPr>
        <p:blipFill>
          <a:blip r:embed="rId2"/>
          <a:srcRect l="0" t="2892" r="0" b="5669"/>
          <a:stretch/>
        </p:blipFill>
        <p:spPr>
          <a:xfrm>
            <a:off x="5724360" y="1157400"/>
            <a:ext cx="3306960" cy="4032000"/>
          </a:xfrm>
          <a:prstGeom prst="rect">
            <a:avLst/>
          </a:prstGeom>
          <a:ln w="0">
            <a:noFill/>
          </a:ln>
        </p:spPr>
      </p:pic>
      <p:pic>
        <p:nvPicPr>
          <p:cNvPr id="69" name="Объект 3" descr=""/>
          <p:cNvPicPr/>
          <p:nvPr/>
        </p:nvPicPr>
        <p:blipFill>
          <a:blip r:embed="rId3"/>
          <a:stretch/>
        </p:blipFill>
        <p:spPr>
          <a:xfrm>
            <a:off x="3129120" y="4076640"/>
            <a:ext cx="4582800" cy="27129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50752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Calibri"/>
              </a:rPr>
              <a:t>ПРЕДМЕТЫ БЫТА СЛАВЯ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Объект 3" descr=""/>
          <p:cNvPicPr/>
          <p:nvPr/>
        </p:nvPicPr>
        <p:blipFill>
          <a:blip r:embed="rId1"/>
          <a:srcRect l="9219" t="16567" r="8613" b="0"/>
          <a:stretch/>
        </p:blipFill>
        <p:spPr>
          <a:xfrm>
            <a:off x="826920" y="1197000"/>
            <a:ext cx="7417080" cy="5472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ПЕРВОЕ УПОМИНАНИЕ О ТУШИНО БЫЛО В 14 ВЕКЕ : «В 1390 ИВАН РОДИОНОВИЧ, ПО ПРОЗВИЩУ КВАШНЯ, ПОХОРОНЕН В МОНАСТЫРЕ СПАСА НА РЕКЕ ВСХОДНЕ». ЕГО МЛАДШИЙ СЫН , ВАСИЛИЙ ИВАНОВИЧ , ИМЕЛ ПРОЗВИЩЕ – ТУША , ОТ НЕГО ПОШЛА ФАМИЛИЯ ТУШИНЫХ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Объект 3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2598480" cy="50356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"/>
          <p:cNvPicPr/>
          <p:nvPr/>
        </p:nvPicPr>
        <p:blipFill>
          <a:blip r:embed="rId2"/>
          <a:stretch/>
        </p:blipFill>
        <p:spPr>
          <a:xfrm>
            <a:off x="3710160" y="2492280"/>
            <a:ext cx="5100480" cy="4032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3851280" y="1557360"/>
            <a:ext cx="437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БЫТ БОЯР 14 В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ЗАПИСИ 18 ВЕКА : «В ТУШИНЕ НАСЕЛЕНИЕ ЗАМЕТНО ПРИРАСТАЕТ , СОСТОЯНИЕ КРЕСТЬЯН ОЦЕНИВАЕТСЯ КАК ЗАЖИТОЧНОЕ . ХЛЕБ РОДИТЬСЯ : РОЖЬ , ПШЕНИЦА , ОВЕС , ГРЕЧИХА ХОРОШАЯ . ПОКОСЫ ХОРОШИ , ЛЕС МЕЛКИЙ КУСТАРНИК , В НЕМ ЗАЙЦЫ , ТЕТЕРЕВА , А ПРИ РЕКАХ ДИКИЕ УТКИ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Объект 3" descr=""/>
          <p:cNvPicPr/>
          <p:nvPr/>
        </p:nvPicPr>
        <p:blipFill>
          <a:blip r:embed="rId1"/>
          <a:stretch/>
        </p:blipFill>
        <p:spPr>
          <a:xfrm>
            <a:off x="546120" y="1773360"/>
            <a:ext cx="8051760" cy="4962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В КОНЦЕ 19 ВЕКА В ДЕРЕВНЕ ТУШИНО СТРОЯТ ШКОЛУ И БОЛЬНИЦУ .  ЖЕНЩИНЫ НА ДОМУ ВЯЗАЛИ ЧУЛКИ И ПЕРЧАТКИ. КРЕСТЬЯНЕ ХОДЯТ В ЦЕРКОВЬ ПРЕОБРАЖЕНИЯ В СЕЛЕ СПАС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Объект 3" descr=""/>
          <p:cNvPicPr/>
          <p:nvPr/>
        </p:nvPicPr>
        <p:blipFill>
          <a:blip r:embed="rId1"/>
          <a:stretch/>
        </p:blipFill>
        <p:spPr>
          <a:xfrm>
            <a:off x="355680" y="1628640"/>
            <a:ext cx="4781520" cy="4896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5798520" y="234936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4452840" y="3246480"/>
            <a:ext cx="238320" cy="371520"/>
          </a:xfrm>
          <a:prstGeom prst="rect">
            <a:avLst/>
          </a:prstGeom>
          <a:ln w="0">
            <a:noFill/>
          </a:ln>
        </p:spPr>
      </p:pic>
      <p:sp>
        <p:nvSpPr>
          <p:cNvPr id="82" name="TextBox 7"/>
          <p:cNvSpPr/>
          <p:nvPr/>
        </p:nvSpPr>
        <p:spPr>
          <a:xfrm>
            <a:off x="5951520" y="250200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5508720" y="2502000"/>
            <a:ext cx="3456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Церковь Спаса Преображения 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селе Спас (Тушино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Литография XIX ве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Бывшая церковь  Спасско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монастыря, построена ок. 1587 г.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снесена в конце XIX века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В СЕЛАХ БРАТЦЕВО И СПАС ПОСТРОЕНЫ ТКАЦКИЕ  ФАБРИКИ. ПЕРЕВОЗ ТОВАРОВ ДЛЯ ФАБРИК СТАЛ ДОХОДНЫМ ДЕЛОМ ДЛЯ ТУШИНЦЕ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Объект 3" descr=""/>
          <p:cNvPicPr/>
          <p:nvPr/>
        </p:nvPicPr>
        <p:blipFill>
          <a:blip r:embed="rId1"/>
          <a:stretch/>
        </p:blipFill>
        <p:spPr>
          <a:xfrm>
            <a:off x="0" y="2637000"/>
            <a:ext cx="5619600" cy="374796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468360" y="1844640"/>
            <a:ext cx="35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ТКАЦКИЙ СТАНОК 19 ВЕ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6" descr=""/>
          <p:cNvPicPr/>
          <p:nvPr/>
        </p:nvPicPr>
        <p:blipFill>
          <a:blip r:embed="rId2"/>
          <a:stretch/>
        </p:blipFill>
        <p:spPr>
          <a:xfrm>
            <a:off x="4572000" y="1268280"/>
            <a:ext cx="4572000" cy="3051360"/>
          </a:xfrm>
          <a:prstGeom prst="rect">
            <a:avLst/>
          </a:prstGeom>
          <a:ln w="0">
            <a:noFill/>
          </a:ln>
        </p:spPr>
      </p:pic>
      <p:sp>
        <p:nvSpPr>
          <p:cNvPr id="88" name="TextBox 7"/>
          <p:cNvSpPr/>
          <p:nvPr/>
        </p:nvSpPr>
        <p:spPr>
          <a:xfrm>
            <a:off x="6576480" y="5084640"/>
            <a:ext cx="14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ПЕРЕВОЗ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ТОВА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В 19 ВЕ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В 1932 г. НАЧАЛОСЬ СТРОИТЕЛЬСТВО  АВИАМОТОРНОГО ЗАВОДА , У ЖЕЛЕЗНОДОРОЖНОЙ СТАНЦИИ  ТУШИ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Объект 3" descr=""/>
          <p:cNvPicPr/>
          <p:nvPr/>
        </p:nvPicPr>
        <p:blipFill>
          <a:blip r:embed="rId1"/>
          <a:stretch/>
        </p:blipFill>
        <p:spPr>
          <a:xfrm>
            <a:off x="7093080" y="1341360"/>
            <a:ext cx="1252440" cy="187164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5" descr=""/>
          <p:cNvPicPr/>
          <p:nvPr/>
        </p:nvPicPr>
        <p:blipFill>
          <a:blip r:embed="rId2"/>
          <a:stretch/>
        </p:blipFill>
        <p:spPr>
          <a:xfrm>
            <a:off x="152280" y="1341360"/>
            <a:ext cx="5340600" cy="38163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"/>
          <p:cNvPicPr/>
          <p:nvPr/>
        </p:nvPicPr>
        <p:blipFill>
          <a:blip r:embed="rId3"/>
          <a:stretch/>
        </p:blipFill>
        <p:spPr>
          <a:xfrm>
            <a:off x="4646520" y="3429000"/>
            <a:ext cx="4356360" cy="3267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9"/>
          <p:cNvSpPr/>
          <p:nvPr/>
        </p:nvSpPr>
        <p:spPr>
          <a:xfrm>
            <a:off x="152640" y="5745240"/>
            <a:ext cx="449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В 1963 ПЕРЕИМЕНОВАН В ТУШИНС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МЕХАНИЧЕСКИЙ ЗАВОД  ТМ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145800"/>
            <a:ext cx="8435880" cy="112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СТРОИТЕЛЬСТВО КАНАЛА МОСКВА – ВОЛГА .</a:t>
            </a:r>
            <a:br>
              <a:rPr sz="2400"/>
            </a:b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 1932 -1937 ГОД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Объект 3" descr=""/>
          <p:cNvPicPr/>
          <p:nvPr/>
        </p:nvPicPr>
        <p:blipFill>
          <a:blip r:embed="rId1"/>
          <a:stretch/>
        </p:blipFill>
        <p:spPr>
          <a:xfrm>
            <a:off x="-9360" y="907920"/>
            <a:ext cx="5581440" cy="3600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5" descr=""/>
          <p:cNvPicPr/>
          <p:nvPr/>
        </p:nvPicPr>
        <p:blipFill>
          <a:blip r:embed="rId2"/>
          <a:stretch/>
        </p:blipFill>
        <p:spPr>
          <a:xfrm>
            <a:off x="3282840" y="3797280"/>
            <a:ext cx="5403960" cy="30369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6" descr=""/>
          <p:cNvPicPr/>
          <p:nvPr/>
        </p:nvPicPr>
        <p:blipFill>
          <a:blip r:embed="rId3"/>
          <a:stretch/>
        </p:blipFill>
        <p:spPr>
          <a:xfrm>
            <a:off x="5681520" y="1125360"/>
            <a:ext cx="3354480" cy="22924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В 1935 г. ПОСТРОЕН ТУШИНСКИЙ АЭРОДРОМ , ОТКРЫТ ЦЕНТРАЛЬНЫЙ  АЭРОКЛУБ 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Объект 5" descr=""/>
          <p:cNvPicPr/>
          <p:nvPr/>
        </p:nvPicPr>
        <p:blipFill>
          <a:blip r:embed="rId1"/>
          <a:stretch/>
        </p:blipFill>
        <p:spPr>
          <a:xfrm>
            <a:off x="1347840" y="4748040"/>
            <a:ext cx="6448320" cy="209736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4824360" cy="36176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7" descr=""/>
          <p:cNvPicPr/>
          <p:nvPr/>
        </p:nvPicPr>
        <p:blipFill>
          <a:blip r:embed="rId3"/>
          <a:stretch/>
        </p:blipFill>
        <p:spPr>
          <a:xfrm>
            <a:off x="5364000" y="1557360"/>
            <a:ext cx="254484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Calibri"/>
              </a:rPr>
              <a:t>В 1938г.ДЕРЕВНЯ ТУШИНО ПЕРЕИМЕНОВАНА В ГОРОД ТУШИ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Объект 3" descr=""/>
          <p:cNvPicPr/>
          <p:nvPr/>
        </p:nvPicPr>
        <p:blipFill>
          <a:blip r:embed="rId1"/>
          <a:stretch/>
        </p:blipFill>
        <p:spPr>
          <a:xfrm>
            <a:off x="204840" y="1341360"/>
            <a:ext cx="8507520" cy="5472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19080" y="0"/>
            <a:ext cx="9174240" cy="68310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Calibri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ДАЛЕЕ НАШИ ПРЕДКИ СТАЛИ ИЗГОТАВЛИВАТЬ ОРУД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Объект 3" descr=""/>
          <p:cNvPicPr/>
          <p:nvPr/>
        </p:nvPicPr>
        <p:blipFill>
          <a:blip r:embed="rId1"/>
          <a:stretch/>
        </p:blipFill>
        <p:spPr>
          <a:xfrm>
            <a:off x="1778040" y="1628640"/>
            <a:ext cx="558792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В ИСТОРИЧЕСКОМ МУЗЕЕ ХРАНЯТСЯ ДВА КАМЕННЫХ ТОПОРА , НАЙДЕНЫХ ПРИ СТРОИТЕЛЬСТВЕ ВОЛОКОЛАМСКОГО ШОССЕ , ОКОЛО СЕЛА СПАС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Заголовок 1"/>
          <p:cNvSpPr/>
          <p:nvPr/>
        </p:nvSpPr>
        <p:spPr>
          <a:xfrm>
            <a:off x="1403280" y="1816200"/>
            <a:ext cx="5554800" cy="13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Первое оруж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Объект 4" descr=""/>
          <p:cNvPicPr/>
          <p:nvPr/>
        </p:nvPicPr>
        <p:blipFill>
          <a:blip r:embed="rId1"/>
          <a:stretch/>
        </p:blipFill>
        <p:spPr>
          <a:xfrm>
            <a:off x="1444680" y="2924280"/>
            <a:ext cx="5472000" cy="38592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1584360" y="1901880"/>
            <a:ext cx="5867280" cy="3830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9080"/>
            <a:ext cx="8785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ЭТИМ ОРУДИЕМ НАШИ ПРЕДКИ  НЕ ТОЛЬКО ОХОТИЛИСЬ , НО И СРУБАЛИ ДЕРЕВЬЯ И НАЧАЛИ ОБРАБАТЫВАТЬ ЗЕМЛИ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2320" y="1458720"/>
            <a:ext cx="8282160" cy="67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ЛЮДИ СОВРЕМЕННОГО ТИПА - НЕОАНТРОП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одзаголовок 3"/>
          <p:cNvSpPr/>
          <p:nvPr/>
        </p:nvSpPr>
        <p:spPr>
          <a:xfrm>
            <a:off x="179280" y="5732640"/>
            <a:ext cx="878544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УМЕНЬШЕНИЕ КОЛИЧЕСТВА ДИКИХ ЖИВОТНЫХ ПРИВЕЛО  К РАЗВИТИЮ ЗЕМЛЕДЕЛИЯ И СКОТОВОД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6480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ЗАТЕМ ОНИ СТАЛИ ДЕЛАТЬ РАЗНУЮ УТВАРЬ ИЗ ГЛИНЫ И ДЕРЕВА 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rcRect l="18425" t="6903" r="7913" b="8871"/>
          <a:stretch/>
        </p:blipFill>
        <p:spPr>
          <a:xfrm>
            <a:off x="108000" y="1236600"/>
            <a:ext cx="4032360" cy="34578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"/>
          <p:cNvPicPr/>
          <p:nvPr/>
        </p:nvPicPr>
        <p:blipFill>
          <a:blip r:embed="rId2"/>
          <a:stretch/>
        </p:blipFill>
        <p:spPr>
          <a:xfrm>
            <a:off x="2987640" y="4105440"/>
            <a:ext cx="3168720" cy="2781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"/>
          <p:cNvPicPr/>
          <p:nvPr/>
        </p:nvPicPr>
        <p:blipFill>
          <a:blip r:embed="rId3"/>
          <a:stretch/>
        </p:blipFill>
        <p:spPr>
          <a:xfrm>
            <a:off x="5864400" y="1125360"/>
            <a:ext cx="3171600" cy="4548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Calibri"/>
              </a:rPr>
              <a:t>ЛЮДИ СТАЛИ ОБЪЕДИНЯТЬ СВОИ ЖИЛИЩА В ПОС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Объект 3" descr=""/>
          <p:cNvPicPr/>
          <p:nvPr/>
        </p:nvPicPr>
        <p:blipFill>
          <a:blip r:embed="rId1"/>
          <a:stretch/>
        </p:blipFill>
        <p:spPr>
          <a:xfrm>
            <a:off x="900000" y="1417680"/>
            <a:ext cx="7201080" cy="5398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Calibri"/>
              </a:rPr>
              <a:t>НА МЕСТЕ СОВРЕМЕННОГО ТУШИНА АРХЕОЛОГИ ОБНАРУЖИЛИ СПАСО – ТУШИНСКОЕ ГОРОДИЩЕ . ХОЛМ БЫЛ УКРЕПЛЕН ГЛУБОКИМИ РВАМИ, НАПОЛНЕНЫМИ ВОДОЙ . МАЛЕНЬКИЙ ПОСЕЛОК С МОЩНЫМИ УКРЕПЛЕНИЯМИ  БЫЛ НЕПРЕСТУПНОЙ КРЕПОСТЬЮ В ТЕ ВРЕМЕ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3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659640" cy="4997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ru-RU" sz="2400" spc="-1" strike="noStrike">
                <a:solidFill>
                  <a:srgbClr val="376092"/>
                </a:solidFill>
                <a:latin typeface="Calibri"/>
              </a:rPr>
              <a:t>СКОТОВОДСТВО БЫЛО ГЛАВНЫМ ЗАНЯТИЕМ НАШИХ ПРЕДКОВ . ПРЕОБЛАДАЛО КОНЕВОДСТВО , Т.К. ЛОШАДЬ ЗИМОЙ ДОСТАЕТ СЕБЕ КОРМ ИЗ - ПОД СНЕГА , А КОРМ ЗАГОТАВЛИВАТЬ ПРИМИТИВНЫМИ ОРУДИЯМИ ЧРЕЗВЫЧАЙНО ТРУДНО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3" descr=""/>
          <p:cNvPicPr/>
          <p:nvPr/>
        </p:nvPicPr>
        <p:blipFill>
          <a:blip r:embed="rId1"/>
          <a:stretch/>
        </p:blipFill>
        <p:spPr>
          <a:xfrm>
            <a:off x="1198440" y="2276640"/>
            <a:ext cx="6747120" cy="44654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7T05:02:27Z</dcterms:created>
  <dc:creator>RePack by Diakov</dc:creator>
  <dc:description/>
  <dc:language>en-US</dc:language>
  <cp:lastModifiedBy>RePack by Diakov</cp:lastModifiedBy>
  <dcterms:modified xsi:type="dcterms:W3CDTF">2017-10-08T14:38:54Z</dcterms:modified>
  <cp:revision>44</cp:revision>
  <dc:subject/>
  <dc:title>ТУШИНО . ИСТОРИЯ ОТ НАЧАЛА ВЕКОВ.</dc:title>
</cp:coreProperties>
</file>