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A45-7F3F-4153-9E22-F5B27997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227-B63F-467C-9415-2EFF6505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545E-4A22-4E73-BE4C-B6CEF271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BC3D-6616-47BF-86D2-B3CC4FA4A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7768-1DB4-444D-AF56-5C4D8C07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7728-0B38-41CC-9B91-C2679F03B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6839-4E5C-4977-A765-610B4CAB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0BD7-4F26-46D3-84B7-5134A390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28884-C570-4AFB-8144-FA4B705C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63CDC-5EA1-4824-B69A-8561C064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325D-8B63-4BA9-872E-1AEC5973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19E-677D-4CE1-B666-24EC6425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00F-FDF5-4E37-8554-F33DE5F8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37C5-873C-4662-B68B-0F3FC4B7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46F5-D299-4655-9532-814189C33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FCEE-BD74-4F19-B5BC-275EA574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FD1E-28F1-4AA5-A1B2-47B4E3CB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77FA-E821-41C1-941C-C0242FEA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FF3-44F3-4148-B4DE-F16D0DCD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EEDF-1893-4B67-B0EC-7F90BF0F1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5F31-ADC4-475C-9A5B-6AC81A11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ADF-CAC6-4726-84BE-9CB07AB0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395-D721-45C1-ADEC-BD95ACE5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80D-BB5A-4267-BAB7-F5F237BE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0333-44BF-4E91-A012-2D1F50BFD575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B093-7BC0-4CCC-B764-3F29B018CC23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63/919/63919804_1284287151_064737034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50pr-schapovo-school.edusite.ru/images/fgos_logo.gif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5840"/>
            <a:ext cx="90360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бования к современному уроку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условиях введения ФГО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вого поко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-main-pic" descr="Картинка 9 из 146"/>
          <p:cNvPicPr/>
          <p:nvPr/>
        </p:nvPicPr>
        <p:blipFill>
          <a:blip r:embed="rId1"/>
          <a:stretch/>
        </p:blipFill>
        <p:spPr>
          <a:xfrm>
            <a:off x="2124000" y="2781360"/>
            <a:ext cx="5213520" cy="38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ы и форм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ременного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         Метод проек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         Информационно-коммуникационные технолог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         Здоровьесберегающие технологии (интегра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·         Портфоли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Картинка 51 из 4851"/>
          <p:cNvPicPr/>
          <p:nvPr/>
        </p:nvPicPr>
        <p:blipFill>
          <a:blip r:embed="rId1"/>
          <a:stretch/>
        </p:blipFill>
        <p:spPr>
          <a:xfrm>
            <a:off x="6804000" y="4149720"/>
            <a:ext cx="198900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475920"/>
            <a:ext cx="69213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типы уроко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1773000"/>
            <a:ext cx="914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Урок изучения нов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традиционный (комбинированный), лекция, экскурсия, исследовательская работа, учебный и трудовой практикум. Имеет целью изучение и первичное закрепление новых знаний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Урок закрепления з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практикум, экскурсия, лабораторная работа, собеседование, консультация. Имеет целью выработку умений по применению знаний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Урок комплексного применения зн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практикум, лабораторная работа, семинар и т.д. Имеет целью выработку умений самостоятельно применять знания в комплексе, в новых условиях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Урок обобщения и систематизации зн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семинар, конференция, круглый стол и т.д. Имеет целью обобщение единичных знаний в систему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Урок контроля, оценки и коррекции зн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то: контрольная работа, зачет, коллоквиум, смотр знаний и т.д. Имеет целью определить уровень овладения знаниями, умениями и навык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755640" y="115920"/>
            <a:ext cx="1203480" cy="14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5327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СПАСИБО ЗА  ВНИМАНИЕ!</a:t>
            </a:r>
            <a:br>
              <a:rPr sz="3100"/>
            </a:b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               ИНТЕРЕСНЫХ УРОКОВ!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Урок – клеточка педагогического процесса. В нем, как солнце в капле воды, отражаются все его сторон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Calibri"/>
              </a:rPr>
              <a:t>Если не вся, то значительная часть педагогики концентрируется в уроке.               Скаткин 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6" descr="http://gorkschool.ucoz.ru/Imidg/VGOS_MAT.png"/>
          <p:cNvPicPr/>
          <p:nvPr/>
        </p:nvPicPr>
        <p:blipFill>
          <a:blip r:embed="rId1"/>
          <a:stretch/>
        </p:blipFill>
        <p:spPr>
          <a:xfrm>
            <a:off x="4643280" y="2319480"/>
            <a:ext cx="3924360" cy="3133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Картинка 51 из 4851"/>
          <p:cNvPicPr/>
          <p:nvPr/>
        </p:nvPicPr>
        <p:blipFill>
          <a:blip r:embed="rId2"/>
          <a:stretch/>
        </p:blipFill>
        <p:spPr>
          <a:xfrm>
            <a:off x="155520" y="46080"/>
            <a:ext cx="150516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571680"/>
            <a:ext cx="6980400" cy="54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рок как форма организации учебной работы существует с семнадцатого века, то есть более 350 лет. Это педагогическое изобретение оказалось столь жизнеспособным, что и в наши дни урок остается самой распространенной организационной формой учебно-воспитательного процесса в шко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ФГОС"/>
          <p:cNvPicPr/>
          <p:nvPr/>
        </p:nvPicPr>
        <p:blipFill>
          <a:blip r:embed="rId1"/>
          <a:stretch/>
        </p:blipFill>
        <p:spPr>
          <a:xfrm>
            <a:off x="5033880" y="4357800"/>
            <a:ext cx="314316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80010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Современному  обществу нужны образованные, нравственные, предприимчивые люди, которые могу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8920" y="1752120"/>
            <a:ext cx="55450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ализировать свои действ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остоятельно принимать решения, прогнозируя их возможные последстви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личаться мобильность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ыть способны к сотрудничеств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дать чувством ответственности за судьбу страны, ее социально-экономическое процвет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-main-pic" descr="Картинка 26 из 6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57920" y="1785960"/>
            <a:ext cx="272088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89308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ребования к современному уроку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в условиях введения ФГОС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ового покол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560" y="1752120"/>
            <a:ext cx="87138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ипиальным отличием  современного  подхода является ориентация стандартов на результаты освоения основных образовательных  программ. Под результатами понимается не только предметные знания, но и умение применять эти знания в практическ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Картинка 51 из 48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357120"/>
            <a:ext cx="132696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7488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Требования, предъявляемые к современному уроку: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9280" y="1752480"/>
            <a:ext cx="88567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7885080" y="260280"/>
            <a:ext cx="108576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Содержимое 2"/>
          <p:cNvSpPr/>
          <p:nvPr/>
        </p:nvSpPr>
        <p:spPr>
          <a:xfrm>
            <a:off x="609480" y="1500120"/>
            <a:ext cx="792504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еполаг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тив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актическая значимость знаний и ум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бор содержания, обязательного для усвоения каждым учащим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тегративность знаний, отработка общеучебных умений и навы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роение каждого этапа урока по схеме: задача – деятельность учащихся по выполнению задачи – итог деятельности – контроль уровня выполнени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ведение итогов каждого этапа урока, наличие обратной       связи на каждом этапе ур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ебования, предъявляемые к современному уроку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аличие блока самостоятельного получения знаний учащимися  в процессе работы с различными источниками информаци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ганизация групповой работы, позволяющей каждому ученику  говорить и осваивать нормы работы в коллектив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спользование системы самоконтроля и взаимоконтрол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чественная положительная оценка деятельности учащихс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флекс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инимализация и вариативность домашнего задания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ганизация психологического комфорта на уроке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4000" y="333360"/>
            <a:ext cx="68486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Принципы педагогической техники на уроках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50560" y="1752480"/>
            <a:ext cx="8893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вобода выбора (в любом  обучающем или управляющем действии ученику предоставляется право выбора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ткрытости (не только давать знания, но и показывать их границы, сталкивать ученика с проблемами, решения которых лежат за пределами изучаемого курса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еятельности (освоение учениками знаний, умений, навыков преимущественно в форме деятельности, ученик должен уметь использовать свои знания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деальности (высокого КПД) (максимально использовать возможности, знания, интересы самих учащихся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братной связи (регулярно контролировать процесс обучения с помощью развитой системы приемов обратной связи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684360" y="115920"/>
            <a:ext cx="1242720" cy="148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4720" y="713880"/>
            <a:ext cx="404172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по ФГО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7164360" y="189000"/>
            <a:ext cx="1808280" cy="2160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6840" y="499680"/>
            <a:ext cx="40402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ный ур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Объект 5"/>
          <p:cNvSpPr/>
          <p:nvPr/>
        </p:nvSpPr>
        <p:spPr>
          <a:xfrm>
            <a:off x="457200" y="2071800"/>
            <a:ext cx="40226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момент, объявление темы ур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опорных зна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ЗУ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вичное закреп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ача д/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тог уро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момен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проблемной ситуации учителем и формирование проблемы учащими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ктуализация опорных зн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иск решения проблемы уче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ражение и представление учениками реш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знаний учени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ача д/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тог урока, рефлекс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1341000"/>
            <a:ext cx="8001000" cy="6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бновляющейся школе требуются такие методы обучения, которые: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0" y="1752120"/>
            <a:ext cx="91440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формировали бы активную, самостоятельную и инициативную позицию учащихся в учении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развивали бы в первую очередь общеучебные умения и навыки: исследовательские, рефлексивные, самооценочные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формировали бы не просто умения, а компетенции, т.е. умения, непосредственно сопряженные с опытом их применения в практической деятельности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были бы приоритетно нацелены на развитие познавательного интереса учащихся;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- реализовывали бы принцип связи обучения с жизнью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Картинка 51 из 4851"/>
          <p:cNvPicPr/>
          <p:nvPr/>
        </p:nvPicPr>
        <p:blipFill>
          <a:blip r:embed="rId1"/>
          <a:stretch/>
        </p:blipFill>
        <p:spPr>
          <a:xfrm>
            <a:off x="7812000" y="115920"/>
            <a:ext cx="1193760" cy="1425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8:40:05Z</dcterms:created>
  <dc:creator>Марина</dc:creator>
  <dc:description/>
  <dc:language>en-US</dc:language>
  <cp:lastModifiedBy>DNA7 X86</cp:lastModifiedBy>
  <dcterms:modified xsi:type="dcterms:W3CDTF">2016-02-13T19:51:43Z</dcterms:modified>
  <cp:revision>16</cp:revision>
  <dc:subject/>
  <dc:title>ФГОС  в начальной школе</dc:title>
</cp:coreProperties>
</file>