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66E-E9F5-4F14-BAE0-D8E820A1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590-B93F-43AE-93AF-5645FA58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A34-A099-4728-ACF8-77D749DF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847-EC00-4DB3-BEAF-EDEA88D6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FFA-13FD-471A-917C-FC5CFA70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B624-C13B-402D-9B84-CB9F8803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4CB-03ED-48CE-88A8-6C0BFFCF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CDB4-5DDB-4F4C-B94A-3ECD6644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627-466D-46C5-A74A-724144C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19D3-7E76-4F98-AF9E-0B9047C0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B86B-1F20-4C39-8072-A7DCC14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F50-806B-468D-8EAF-E4EBFEC9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B40C-D57F-4431-854E-F1D1387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7A3B-8160-4A4B-B697-19B2CEBA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8D3B-1B5E-462B-B4B4-7528B33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5FB6-2ED6-493D-B883-4C507180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386-939E-4892-A7D7-FC814DD3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2E3-D7AC-4FF2-8BA0-54CA3D3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5F6-7E14-45CD-9786-9018E467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9C4-738A-41F7-A24A-7581DC7E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EB2-0AF6-433F-954B-16F4878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CFA-33C0-4EB9-AA16-64284F5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01A-78D9-401D-9AF9-E9B6831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941-1F60-492A-8188-276064F6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92E3-5DE6-4A7B-9A36-E79D30726F0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201-302B-4541-BC34-3411B1299FC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3/919/63919804_1284287151_064737034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50pr-schapovo-school.edusite.ru/images/fgos_logo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036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 к современному урок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условиях введения ФГО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вого поко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-main-pic" descr="Картинка 9 из 146"/>
          <p:cNvPicPr/>
          <p:nvPr/>
        </p:nvPicPr>
        <p:blipFill>
          <a:blip r:embed="rId1"/>
          <a:stretch/>
        </p:blipFill>
        <p:spPr>
          <a:xfrm>
            <a:off x="2124000" y="2781360"/>
            <a:ext cx="52135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 форм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ременно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Метод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Информационно-коммуникационные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Здоровьесберегающие технологии (интегра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Портфоли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Картинка 51 из 4851"/>
          <p:cNvPicPr/>
          <p:nvPr/>
        </p:nvPicPr>
        <p:blipFill>
          <a:blip r:embed="rId1"/>
          <a:stretch/>
        </p:blipFill>
        <p:spPr>
          <a:xfrm>
            <a:off x="6804000" y="4149720"/>
            <a:ext cx="1989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69213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типы урок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77300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Урок изучения нов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традиционный (комбинированный), лекция, экскурсия, исследовательская работа, учебный и трудовой практикум. Имеет целью изучение и первичное закрепление новых зна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практикум, экскурсия, лабораторная работа, собеседование, консультация. Имеет целью выработку умений по применению зна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Урок комплексного применения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практикум, лабораторная работа, семинар и т.д. Имеет целью выработку умений самостоятельно применять знания в комплексе, в новых условия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семинар, конференция, круглый стол и т.д. Имеет целью обобщение единичных знаний в систем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Урок контроля, оценки и коррекции зн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контрольная работа, зачет, коллоквиум, смотр знаний и т.д. Имеет целью определить уровень овладения знаниями, умениями и навык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55640" y="115920"/>
            <a:ext cx="120348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532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СПАСИБО ЗА  ВНИМАНИЕ!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             ИНТЕРЕСНЫХ УРОКОВ!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рок – клеточка педагогического процесса. В нем, как солнце в капле воды, отражаются все его сторон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Если не вся, то значительная часть педагогики концентрируется в уроке.               Скаткин 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http://gorkschool.ucoz.ru/Imidg/VGOS_MAT.png"/>
          <p:cNvPicPr/>
          <p:nvPr/>
        </p:nvPicPr>
        <p:blipFill>
          <a:blip r:embed="rId1"/>
          <a:stretch/>
        </p:blipFill>
        <p:spPr>
          <a:xfrm>
            <a:off x="4643280" y="2319480"/>
            <a:ext cx="3924360" cy="31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Картинка 51 из 4851"/>
          <p:cNvPicPr/>
          <p:nvPr/>
        </p:nvPicPr>
        <p:blipFill>
          <a:blip r:embed="rId2"/>
          <a:stretch/>
        </p:blipFill>
        <p:spPr>
          <a:xfrm>
            <a:off x="155520" y="46080"/>
            <a:ext cx="150516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571680"/>
            <a:ext cx="6980400" cy="54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к как форма организации учебной работы существует с семнадцатого века, то есть более 350 лет. Это педагогическое изобретение оказалось столь жизнеспособным, что и в наши дни урок остается самой распространенной организационной формой учебно-воспитательного процесс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ФГОС"/>
          <p:cNvPicPr/>
          <p:nvPr/>
        </p:nvPicPr>
        <p:blipFill>
          <a:blip r:embed="rId1"/>
          <a:stretch/>
        </p:blipFill>
        <p:spPr>
          <a:xfrm>
            <a:off x="5033880" y="4357800"/>
            <a:ext cx="31431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01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ременному  обществу нужны образованные, нравственные, предприимчивые люди, которые могу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52120"/>
            <a:ext cx="5545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стоятельно принимать решения, прогнозируя их возможные последств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личаться мобильн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способны к сотрудничест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дать чувством ответственности за судьбу страны, ее социально-экономическое процвет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-main-pic" descr="Картинка 26 из 6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1785960"/>
            <a:ext cx="27208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8930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ребования к современному уроку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условиях введения ФГОС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ового покол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иальным отличием  современного  подхода является ориентация стандартов на результаты освоения основных образовательных  программ. Под результатами понимается не только предметные знания, но и умение применять эти знания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Картинка 51 из 4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357120"/>
            <a:ext cx="132696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88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Требования, предъявляемые к современному уроку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752480"/>
            <a:ext cx="8856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885080" y="260280"/>
            <a:ext cx="108576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Содержимое 2"/>
          <p:cNvSpPr/>
          <p:nvPr/>
        </p:nvSpPr>
        <p:spPr>
          <a:xfrm>
            <a:off x="609480" y="1500120"/>
            <a:ext cx="79250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ктическая значимость знаний и ум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бор содержания, обязательного для усвоения каждым учащим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ативность знаний, отработка общеучебных умений и навы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роение каждого этапа урока по схеме: задача – деятельность учащихся по выполнению задачи – итог деятельности – контроль уровня выполн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ведение итогов каждого этапа урока, наличие обратной       связи на каждом этапе ур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, предъявляемые к современному урок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блока самостоятельного получения знаний учащимися  в процессе работы с различными источниками информ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ация групповой работы, позволяющей каждому ученику  говорить и осваивать нормы работы в коллектив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ование системы самоконтроля и взаимоконтрол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чественная положительная оценка деятельности учащихс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флекс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нимализация и вариативность домашнего зада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ация психологического комфорта на уроке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68486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Принципы педагогической техники на уроках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560" y="1752480"/>
            <a:ext cx="8893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обода выбора (в любом  обучающем или управляющем действии ученику предоставляется право выбора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ткрытости (не только давать знания, но и показывать их границы, сталкивать ученика с проблемами, решения которых лежат за пределами изучаемого курса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еятельности (освоение учениками знаний, умений, навыков преимущественно в форме деятельности, ученик должен уметь использовать свои знания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деальности (высокого КПД) (максимально использовать возможности, знания, интересы самих учащихся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братной связи (регулярно контролировать процесс обучения с помощью развитой системы приемов обратной связи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684360" y="115920"/>
            <a:ext cx="124272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713880"/>
            <a:ext cx="40417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ФГО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164360" y="189000"/>
            <a:ext cx="1808280" cy="2160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499680"/>
            <a:ext cx="40402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у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бъект 5"/>
          <p:cNvSpPr/>
          <p:nvPr/>
        </p:nvSpPr>
        <p:spPr>
          <a:xfrm>
            <a:off x="457200" y="2071800"/>
            <a:ext cx="4022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момент, объявление темы ур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опорных зн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ЗУ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ичное закреп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ача д/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мо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проблемной ситуации учителем и формирование проблемы учащими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уализация опорных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иск решения проблемы уче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ражение и представление учениками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знаний уче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ча д/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ог урока, рефлек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0010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бновляющейся школе требуются такие методы обучения, которые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75212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формировали бы активную, самостоятельную и инициативную позицию учащихся в учении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развивали бы в первую очередь общеучебные умения и навыки: исследовательские, рефлексивные, самооценочны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формировали бы не просто умения, а компетенции, т.е. умения, непосредственно сопряженные с опытом их применения в практической деятельности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были бы приоритетно нацелены на развитие познавательного интереса учащихся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реализовывали бы принцип связи обучения с жизнь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812000" y="115920"/>
            <a:ext cx="1193760" cy="142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8:40:05Z</dcterms:created>
  <dc:creator>Марина</dc:creator>
  <dc:description/>
  <dc:language>en-US</dc:language>
  <cp:lastModifiedBy>DNA7 X86</cp:lastModifiedBy>
  <dcterms:modified xsi:type="dcterms:W3CDTF">2016-02-13T19:51:43Z</dcterms:modified>
  <cp:revision>16</cp:revision>
  <dc:subject/>
  <dc:title>ФГОС  в начальной школе</dc:title>
</cp:coreProperties>
</file>