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169-5F7D-4F68-ACC0-731CB824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E9EA-ABA5-41C3-9126-6532DC86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4592-E529-46D2-AA32-3FF8FC20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A5C-70BA-4F95-B733-79ADB6F7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CF1A-90EB-4395-9EAB-7DDECAD1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DC3D-2117-442C-BB8C-DFF3218B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148A-6D05-45B2-A40E-F3491F01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B268-336C-40F2-AAB8-A39C081B6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A5A8-F85C-41A1-8511-6A2F6F7B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54E1-7CF8-4F7D-A92D-87940690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3017-33C0-4289-BB9F-D9DE6AFC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8AF-FA73-4B62-83E7-492871DF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9A8B-8C68-4C72-996B-4F98CA4B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D05BF-9C6C-4855-B160-041E01E6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1F6E-82AD-4048-8E75-B716A2E9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AF9F-74C7-4337-AAF6-15B5B03C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875E-7DFE-4964-8F6F-DF0E6FA1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28CD5-E5C6-47E6-8FCB-95A59265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F6675-8D3F-430E-B0D1-1BECD845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1F25-4594-4593-B8F5-64CCAB3E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546B-E0FC-4436-92C5-F80BBD94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9072E-C068-4A7D-9605-EDD91217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65E-436C-4AFA-88AB-FB8C401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60BCC-48ED-4E20-B2BC-581B2641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D6BF5-26FF-49EA-BC37-79E7BDB7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383A-6D3E-4025-80E1-C9B9554E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8E102-D4F8-4F93-BC05-8A2D27B7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A675C-07E2-4A5A-8085-D540D42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FE63C-0DEB-468D-9372-8D9141AF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F1AFA-EB4E-4D25-8429-472C4B00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5FD9-3D97-46B0-9E80-E72A6892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5203B-6C5D-465F-81F6-C1BA2CA3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F2F1C-F737-43E4-8D39-5D2EE6F2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FC98-768F-4AC0-BE3B-DD06D03B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0715F-AB41-41A2-87B4-C05D151A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20298-FA1D-4641-90C6-3E32A92A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545AC-A90F-4E5F-8972-87BBEF55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B993-C8E4-45EB-9A56-D1BC4980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86E6-20D4-4E09-B740-67732547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7F3A-8D0A-411A-B43D-DA270F90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CB539-2192-4435-A90D-ADC50980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A871-BB17-4F2C-9294-77414CEC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8AAAC-55E7-4479-A908-D8FBCB6A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217E1-FA08-4AAF-B0CB-23ECF167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083-EFFB-459B-B9B6-F11881D9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A7467-870E-4BDF-9EF7-6B4B82CF5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6AE26-F23F-45A8-9B3F-47116E6D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04766-CE01-4B84-9614-D27FA3B7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ED53E-1010-42B2-BB14-855FD2A4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B00E1-B4A8-4ED8-B9E7-64F403D6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559DE-39B4-4752-9223-24857CC7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07922-0CAF-4525-B320-78A23AB3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A1550-EE93-4DC8-BFC1-041AE42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74A92-F96E-4F61-8114-8BB198BC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8047A-3AED-44A2-A761-8C42430A3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0F2-9D92-4F41-A9B0-A6241CD0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6224A-B206-4BDD-A427-61F694CDC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524-4726-434D-9FC0-8911F15A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33E2-ED82-43E0-97BD-8F529EA8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A28-42AE-4907-A9EB-8CEFD37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D705B-E80A-4844-AAB8-68D32500E90F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032B-77AA-4A15-9FDE-8D41BFD5EA7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C893-0DE0-4722-8165-D4B65A8FB39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0E7F-1CAC-453C-984B-6A02B7059C1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2673-1657-40E4-97B2-7E9172042E5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200400" y="171360"/>
            <a:ext cx="5742000" cy="17366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048120" y="3200400"/>
            <a:ext cx="5726160" cy="2889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«ВОСПИТАТЕЛЬ ГОДА»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2017 ГОД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Подготовила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Воспитател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rebuchet MS"/>
              </a:rPr>
              <a:t>Стрига А.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2" name="Picture 2" descr="C:\Users\Галина Анатольевна\Desktop\Евгения Викторовна\картинки детей по ПДД и пожару\воспитатель.gif"/>
          <p:cNvPicPr/>
          <p:nvPr/>
        </p:nvPicPr>
        <p:blipFill>
          <a:blip r:embed="rId2"/>
          <a:stretch/>
        </p:blipFill>
        <p:spPr>
          <a:xfrm>
            <a:off x="0" y="2286000"/>
            <a:ext cx="3867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2333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3809520"/>
            <a:ext cx="7238880" cy="26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«Ведь если я гореть не буду, и если ты гореть не будешь, и если мы гореть не будем, так кто же здесь рассеет тьму?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зым Хикмет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НАЧНИ ИГРУ» – КОНКУРС ДЕТСКИХ СЧИТАЛОЧЕК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Рисунок 3" descr="сад карт.png"/>
          <p:cNvPicPr/>
          <p:nvPr/>
        </p:nvPicPr>
        <p:blipFill>
          <a:blip r:embed="rId2"/>
          <a:stretch/>
        </p:blipFill>
        <p:spPr>
          <a:xfrm>
            <a:off x="380880" y="2514600"/>
            <a:ext cx="7391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44440" y="115920"/>
            <a:ext cx="7454880" cy="16034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0200"/>
            <a:ext cx="72388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«Талантом можешь ты не быть, но творческим ты быть обязан!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rebuchet MS"/>
              </a:rPr>
              <a:t>«Для творческой тактики главное – зажечь огонь идеи. Для творческой стратегии главное – пронести огонь через всю жизнь!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218960"/>
            <a:ext cx="723888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</a:rPr>
              <a:t>КОНКУРС ЭРУДИТОВ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«Образованный человек тем и отличается от необразованного, что продолжает считать своё образование незаконченным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К.Симонов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7454880" cy="1420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2895120"/>
            <a:ext cx="723888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з стремления к научной работ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дагог неизбежно попадает во власт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рёх педагогических демонов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Рутинности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анальности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еханистичност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rebuchet MS"/>
              </a:rPr>
              <a:t>А.Дистерверг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457200" y="298440"/>
            <a:ext cx="7242120" cy="14270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« Детство – важнейший период человеческой жизни, не подготовка к будущей жизни, а настоящая, яркая, самобытная, неповторимая жизнь. И от того, как прошло детство, кто вел ребенка за руку в детские годы,  зависит,  кем станет  сегодняшний малыш»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акаренко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готски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олстой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ухомлинский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«Это  направление в педагогике возникло при работе с так называемыми трудными детьми. Основополагающими словами в нем являются: «Развивающая среда и действие». А помогающие  предметы – богатый сенсорный и дидактический материал». Кто  автор этого направления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Джанни  Родар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Рудольф Штейнер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Фребель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Монтессори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Заголовок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8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«Синквей» (методика: создание стихотворения  по определенному алгоритму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первая  строка – тема синквей (воспитатель, педагог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вторая строка - 3  прилагательных, характеризующих тему (какой? 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третья строка – 2-3 глагола, характеризующих тему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четвертая строка – фраза,  высказанная  о теме синквея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rebuchet MS"/>
              </a:rPr>
              <a:t>пятая строка – синоним  первой строки, темы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6:17:57Z</dcterms:created>
  <dc:creator>Галина Анатольевна</dc:creator>
  <dc:description/>
  <dc:language>en-US</dc:language>
  <cp:lastModifiedBy>SAZAS</cp:lastModifiedBy>
  <dcterms:modified xsi:type="dcterms:W3CDTF">2017-10-08T16:17:3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