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CB5-3E11-46D8-A926-98501E40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BFF-5EDA-46B4-8929-B9FC576E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953-2864-4EFC-A41D-3CC5F015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A51-F521-438D-A386-BAACE841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0C3C-B881-42DA-B596-B50D8D10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FF2B-1F76-484C-BFF9-43DE6A8E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EE53-D189-4D4F-AC36-A7B4A6FC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2AE0-DB95-43AC-B2C2-C72E8756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FBC1-B426-4E92-AB99-AEC1CB0F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7469-18B0-411C-AA77-C92F2EFB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B7C6-6CD0-4471-9661-9E3DD0D2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3EE-BEF2-4CC8-B56B-85D28167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72AD-48A7-4E69-9EA0-BD42A1FD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B96D-EF5A-41D8-B80C-6019F336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BB44-DD58-4675-8910-6826ADC4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2384-1C1C-4F89-A240-BC3A2BDC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B831-CCD2-4B50-8BE5-4E230D1C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AE64-0541-4971-B256-A2F77BD9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DF21-42C8-4053-A2FD-8F95AD2A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79AAD-BB76-46D9-A1A1-FF985239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828C-E79B-4268-857C-87E90F10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1030D-8D04-4CCC-96A2-0AA28937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7ED-A2D9-4612-A73B-372905EB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D7F81-2392-431B-AC22-585EF297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DC5F-7EBC-4C71-A798-D1A8EC29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0641-13DF-4A25-9012-89088810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40820-9A23-48B6-981A-F787CE87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F947-CA6E-476A-8C44-7F496490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FB146-1C8E-4AE7-AB02-51C8549A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E672-CC26-4F36-89C5-C7DDEF77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67032-C840-419F-ADD4-131C80AE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5D0E3-EDC9-4F6B-83E4-8E67FDA4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22936-42DA-4BFF-B112-6B90D8CD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165-9335-4F29-86E6-73364F08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1D9B1-0FDD-482C-8182-B55B54EB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469A1-8B5D-459B-9CFA-0F0BA031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CCAB6-3D82-4F2F-A853-4389CAF1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FAF1C-D849-41C9-A69B-391068AC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62D6-509D-451B-A39E-FA035468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8317-2927-4F76-ADC6-9BC4DFC6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10FBB-90FB-44C1-82DC-F91F6F93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87A9-B533-46E3-A80A-4762F648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D9AEB-5DA2-4508-B5DA-F91003E3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F1437-8463-4662-9B80-C85F5A7A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EBE-5A9B-4481-9289-76022397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2A466-61B2-4BE8-BED9-73A142FA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6EA64-1FAD-43A5-BD1D-1050CC7A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DC984-6819-41BC-8CC3-D0FA6A91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31916-322A-4454-99C3-DF2AD981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DF475-07C1-42C4-9D93-3C8B73DF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E1719-A4F1-4D96-B462-FC7725E2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51B9E-2EAB-4EC9-AD9C-00C2FB9F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DE3A2-BCAB-4BDA-BDA1-C4C72F83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3354F-64CE-46F2-858A-9CF03821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3D59-720A-42E2-BC97-6C2FCE35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4C1-3F4A-4447-8545-BA1FF0CC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C3A5E-652B-4942-AA4E-D20FF044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506-F397-42BB-85A6-EDF22A6B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660-CDAE-4A50-9321-EBA4B85C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850-B45F-4758-ACEA-73B4BEE7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6F16-1313-49C9-859A-0965F59F3AA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8D2E-7144-4243-BDDF-2774295579F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3F44-9178-4048-B87E-BC6E9A812CE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70A6-FDD8-49C9-A89F-A0F1BEED13A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B0BD-0710-48DD-9644-1FB17A44D5E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200400" y="171360"/>
            <a:ext cx="5742000" cy="1736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048120" y="3200400"/>
            <a:ext cx="5726160" cy="288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«ВОСПИТАТЕЛЬ ГОДА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2017 ГОД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Подготовил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трига А.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C:\Users\Галина Анатольевна\Desktop\Евгения Викторовна\картинки детей по ПДД и пожару\воспитатель.gif"/>
          <p:cNvPicPr/>
          <p:nvPr/>
        </p:nvPicPr>
        <p:blipFill>
          <a:blip r:embed="rId2"/>
          <a:stretch/>
        </p:blipFill>
        <p:spPr>
          <a:xfrm>
            <a:off x="0" y="2286000"/>
            <a:ext cx="3867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2333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3809520"/>
            <a:ext cx="723888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«Ведь если я гореть не буду, и если ты гореть не будешь, и если мы гореть не будем, так кто же здесь рассеет тьму?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зым Хикме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НАЧНИ ИГРУ» – КОНКУРС ДЕТСКИХ СЧИТАЛОЧЕ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Рисунок 3" descr="сад карт.png"/>
          <p:cNvPicPr/>
          <p:nvPr/>
        </p:nvPicPr>
        <p:blipFill>
          <a:blip r:embed="rId2"/>
          <a:stretch/>
        </p:blipFill>
        <p:spPr>
          <a:xfrm>
            <a:off x="380880" y="251460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44440" y="115920"/>
            <a:ext cx="7454880" cy="1603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0200"/>
            <a:ext cx="72388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«Талантом можешь ты не быть, но творческим ты быть обязан!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«Для творческой тактики главное – зажечь огонь идеи. Для творческой стратегии главное – пронести огонь через всю жизнь!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218960"/>
            <a:ext cx="72388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КОНКУРС ЭРУДИТОВ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Образованный человек тем и отличается от необразованного, что продолжает считать своё образование незаконченным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К.Симоно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2895120"/>
            <a:ext cx="72388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з стремления к научной работ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дагог неизбежно попадает во влас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рёх педагогических демонов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утинности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анальности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ханистичности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А.Дистерверг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427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« Детство – важнейший период человеческой жизни, не подготовка к будущей жизни, а настоящая, яркая, самобытная, неповторимая жизнь. И от того, как прошло детство, кто вел ребенка за руку в детские годы,  зависит,  кем станет  сегодняшний малыш»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акаренк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ыготск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олсто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ухомлинский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Это  направление в педагогике возникло при работе с так называемыми трудными детьми. Основополагающими словами в нем являются: «Развивающая среда и действие». А помогающие  предметы – богатый сенсорный и дидактический материал». Кто  автор этого направления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жанни  Родар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удольф Штейне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ребел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онтессор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«Синквей» (методика: создание стихотворения  по определенному алгоритму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первая  строка – тема синквей (воспитатель, педагог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вторая строка - 3  прилагательных, характеризующих тему (какой? 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третья строка – 2-3 глагола, характеризующих тем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четвертая строка – фраза,  высказанная  о теме синкве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пятая строка – синоним  первой строки, темы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6:17:57Z</dcterms:created>
  <dc:creator>Галина Анатольевна</dc:creator>
  <dc:description/>
  <dc:language>en-US</dc:language>
  <cp:lastModifiedBy>SAZAS</cp:lastModifiedBy>
  <dcterms:modified xsi:type="dcterms:W3CDTF">2017-10-08T16:17:3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