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FF0-93B7-49F4-8A47-0A764A8F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15F-C6BF-4D92-9C52-CBAF8C42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663-B0A4-4298-AD5F-46256F04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807-4AF9-48C1-9F1F-72F04D32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A9D-0C73-43EF-A5FC-77274571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620-0CED-40A0-B7CD-525FDE05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0F3-9589-4588-BAE2-B863BC32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3A1-BA6F-46F5-89A1-16281568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457-713B-491F-B8D1-D7BEDF42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719-0968-4B8E-8AF9-530D2109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489-CE02-4116-B722-6B9E469E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B01-D562-4266-B148-F6BA1086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349E-8BE3-49B1-92F2-4C5B33952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epositphotos_12383384-stock-photo-flower-carved-frame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4038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ИЗ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БОУ СОШ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Похвистнево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рухова Ольга Павловна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80880" y="2743200"/>
            <a:ext cx="8763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Декор русской избы»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029200" y="1371600"/>
            <a:ext cx="3733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четверть, 3 у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4038480" y="6324480"/>
            <a:ext cx="1324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17г.</a:t>
            </a:r>
            <a:endParaRPr b="1" lang="en-US" sz="1800" spc="1" strike="noStrike">
              <a:ln w="349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685800" y="10666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оска на фасаде избы, обычно резная, защищающая от влаги торцы бревен п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img10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002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093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81952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иче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89548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лотен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0_28b8_e9dfebba_XL"/>
          <p:cNvPicPr/>
          <p:nvPr/>
        </p:nvPicPr>
        <p:blipFill>
          <a:blip r:embed="rId2"/>
          <a:stretch/>
        </p:blipFill>
        <p:spPr>
          <a:xfrm>
            <a:off x="83808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124080" y="380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ь - охлу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ello_html_255c49f6"/>
          <p:cNvPicPr/>
          <p:nvPr/>
        </p:nvPicPr>
        <p:blipFill>
          <a:blip r:embed="rId2"/>
          <a:stretch/>
        </p:blipFill>
        <p:spPr>
          <a:xfrm>
            <a:off x="2362320" y="1219320"/>
            <a:ext cx="4952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mage"/>
          <p:cNvPicPr/>
          <p:nvPr/>
        </p:nvPicPr>
        <p:blipFill>
          <a:blip r:embed="rId2"/>
          <a:stretch/>
        </p:blipFill>
        <p:spPr>
          <a:xfrm>
            <a:off x="1752480" y="4114800"/>
            <a:ext cx="6096240" cy="2562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uzor24"/>
          <p:cNvPicPr/>
          <p:nvPr/>
        </p:nvPicPr>
        <p:blipFill>
          <a:blip r:embed="rId3"/>
          <a:stretch/>
        </p:blipFill>
        <p:spPr>
          <a:xfrm>
            <a:off x="762120" y="457200"/>
            <a:ext cx="3333600" cy="365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%D0%A0%D0%B8%D1%81%D1%83%D0%BD%D0%BE%D0%BA6"/>
          <p:cNvPicPr/>
          <p:nvPr/>
        </p:nvPicPr>
        <p:blipFill>
          <a:blip r:embed="rId4"/>
          <a:stretch/>
        </p:blipFill>
        <p:spPr>
          <a:xfrm>
            <a:off x="5257800" y="457200"/>
            <a:ext cx="3024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152280" y="2666880"/>
            <a:ext cx="8686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743200" y="457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е рес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124080" y="1371600"/>
            <a:ext cx="6019920" cy="43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А. Горяева., О.В. Островская «Изобразительное искусство» Просвещение – м.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фрагмент из фильма  «Народное искусство» (электроннное издательство «Кордис-меди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о вырезка из композиции «Гусли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tps://ipleer.fm/q/звуки+гус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28960" y="1219320"/>
            <a:ext cx="9372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«Любим храмы светлые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          и дома украшен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-228600" y="1371600"/>
            <a:ext cx="9372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еко́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 (лат.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decor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 —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иличие, пристойность, совместим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) — совокупность элементов, составляющих внешнее оформление архитектурного сооружения или его интерье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274320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Фасад д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03"/>
          <p:cNvPicPr/>
          <p:nvPr/>
        </p:nvPicPr>
        <p:blipFill>
          <a:blip r:embed="rId2"/>
          <a:stretch/>
        </p:blipFill>
        <p:spPr>
          <a:xfrm>
            <a:off x="228600" y="1295280"/>
            <a:ext cx="7467480" cy="251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005"/>
          <p:cNvPicPr/>
          <p:nvPr/>
        </p:nvPicPr>
        <p:blipFill>
          <a:blip r:embed="rId3"/>
          <a:stretch/>
        </p:blipFill>
        <p:spPr>
          <a:xfrm>
            <a:off x="2133720" y="3740040"/>
            <a:ext cx="670536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\Pictures\2017-09-23\002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001"/>
          <p:cNvPicPr/>
          <p:nvPr/>
        </p:nvPicPr>
        <p:blipFill>
          <a:blip r:embed="rId2"/>
          <a:stretch/>
        </p:blipFill>
        <p:spPr>
          <a:xfrm>
            <a:off x="0" y="0"/>
            <a:ext cx="4648320" cy="316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002"/>
          <p:cNvPicPr/>
          <p:nvPr/>
        </p:nvPicPr>
        <p:blipFill>
          <a:blip r:embed="rId3"/>
          <a:stretch/>
        </p:blipFill>
        <p:spPr>
          <a:xfrm>
            <a:off x="4664160" y="2286000"/>
            <a:ext cx="447984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g1"/>
          <p:cNvPicPr/>
          <p:nvPr/>
        </p:nvPicPr>
        <p:blipFill>
          <a:blip r:embed="rId4"/>
          <a:stretch/>
        </p:blipFill>
        <p:spPr>
          <a:xfrm>
            <a:off x="4648320" y="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19"/>
          <p:cNvPicPr/>
          <p:nvPr/>
        </p:nvPicPr>
        <p:blipFill>
          <a:blip r:embed="rId5"/>
          <a:stretch/>
        </p:blipFill>
        <p:spPr>
          <a:xfrm>
            <a:off x="0" y="3124080"/>
            <a:ext cx="4648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04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005"/>
          <p:cNvPicPr/>
          <p:nvPr/>
        </p:nvPicPr>
        <p:blipFill>
          <a:blip r:embed="rId2"/>
          <a:stretch/>
        </p:blipFill>
        <p:spPr>
          <a:xfrm>
            <a:off x="5251320" y="533520"/>
            <a:ext cx="3892680" cy="5790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3"/>
          <p:cNvPicPr/>
          <p:nvPr/>
        </p:nvPicPr>
        <p:blipFill>
          <a:blip r:embed="rId3"/>
          <a:stretch/>
        </p:blipFill>
        <p:spPr>
          <a:xfrm>
            <a:off x="0" y="129528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ма\Новая папка (4)\наличники\101_0908.JP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01_0901"/>
          <p:cNvPicPr/>
          <p:nvPr/>
        </p:nvPicPr>
        <p:blipFill>
          <a:blip r:embed="rId2"/>
          <a:stretch/>
        </p:blipFill>
        <p:spPr>
          <a:xfrm>
            <a:off x="0" y="-15228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01_0909"/>
          <p:cNvPicPr/>
          <p:nvPr/>
        </p:nvPicPr>
        <p:blipFill>
          <a:blip r:embed="rId3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101_0908"/>
          <p:cNvPicPr/>
          <p:nvPr/>
        </p:nvPicPr>
        <p:blipFill>
          <a:blip r:embed="rId4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101_0911"/>
          <p:cNvPicPr/>
          <p:nvPr/>
        </p:nvPicPr>
        <p:blipFill>
          <a:blip r:embed="rId5"/>
          <a:stretch/>
        </p:blipFill>
        <p:spPr>
          <a:xfrm>
            <a:off x="4191120" y="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590920" y="1522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Фрон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04920" y="48769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ршение (обычно треугольное) фасада здания, ограниченное двумя скатами крыши по бокам и карнизом у осн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001"/>
          <p:cNvPicPr/>
          <p:nvPr/>
        </p:nvPicPr>
        <p:blipFill>
          <a:blip r:embed="rId2"/>
          <a:stretch/>
        </p:blipFill>
        <p:spPr>
          <a:xfrm>
            <a:off x="1447920" y="1143000"/>
            <a:ext cx="609588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3T09:37:16Z</dcterms:created>
  <dc:creator>Юрий Котрухов</dc:creator>
  <dc:description/>
  <dc:language>en-US</dc:language>
  <cp:lastModifiedBy>RePack by Diakov</cp:lastModifiedBy>
  <dcterms:modified xsi:type="dcterms:W3CDTF">2017-10-09T13:45:4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