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ED9-6E2C-449C-843E-FF6F6654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66B-499C-477C-8A5E-E0E2213A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CA4-3620-4958-837B-83E65164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CDF-8588-44E2-AF1D-D7C00A41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825D8-E81D-4211-BB35-04191587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2B937-735F-45D2-B561-75DAE363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C805A-4A6C-40A6-BB1D-CA8C5847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643FD-A16E-47F7-9950-7D42398F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954C6-9CE7-422D-98F1-2E7C5C16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B0221-9938-4A96-B8C1-D02D3837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4AB24-6D38-4C60-8CB5-63E598E5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6A2-D2F4-4701-A59E-2A7A196B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3C36B-8C55-4189-92AF-A823D72E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42524-FE70-4154-8F6D-1C2E9126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7BC34-ED85-4B8C-9185-0C3CF422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9A5E8-1388-4747-8CF3-8213A491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6AD05-B04F-419C-82DA-1183B41B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9C0F-5429-42A9-996A-1E779F29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9C39-4DAE-4B45-8DFD-FF901AF1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7409-398E-45C4-A080-138A9EF1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6953-1348-485F-80C0-A7CAD4C7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75FF-2D55-47B8-A3D5-663B6C66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253-58D2-4764-A8CE-AEAB7E7B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417D-8732-4457-AC0B-E6676A3F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30FD-B394-4047-A4D6-9EF3D28D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6A63-A342-4E5B-A841-894D5947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3833-932C-4EC9-AE64-09E7E16C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0BEB2-6442-4A2C-AAF1-B3E0961F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299F-83BA-411B-9A6A-BC8F6152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BF95-FD57-4633-8A32-195744C4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5168E-5D23-4CB0-B2C8-4E2FCDB7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2E924-CC6F-4E8F-95F0-8DECC741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37143-C730-4CF9-8F9F-46009E56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7D2-E510-4777-87A6-6BC4456C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6A6F1-39D8-48BE-B3DB-1BBFB854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9985A-B3EB-4FB6-BBE8-65501096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49883-5623-42CE-A5B3-CFF66B62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3C1E2A-E279-4773-890E-46A1703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6D90B-B8DB-43B5-8C7A-CC6ADC45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CB446-393A-4058-A7BC-03CD457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EBDC6-1ECA-4482-9A3A-627FA3E4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086D4-BF7E-4A73-99A6-EA81C6A4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03429-3985-4665-9D38-AFE3CE25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B1A-980D-4347-9A62-4E1ADC0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156-8441-4576-9CBA-434C1EC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10C-4B5C-4BB5-B743-9EB89AAC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1CC-5903-4425-8A12-3090384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786-9C78-41D1-9011-1BAAC071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1994-0399-489D-BBD2-B87E12BC3E3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19C8-A9DD-494D-8614-1C0D03B07C1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1AFC-9D79-4A5B-BFCD-7A0DDA917E2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C3E9-C475-406F-89C4-406BA74252F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Имя существительное в тексте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Метафора. Сравнение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Какая информация непонятна, нова, неожиданна, вызвала интерес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Определите тему, проблему (основную мысль). Озаглавьте текс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Сформулируйте микроте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Определите стиль и жанр текст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акие новые знания по сохранению здоровья вы попробуете использовать в своей жизн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рочитайте высказывание французского философа ХVIII века. Выделите ключевые сло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«</a:t>
            </a: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Единственная красота, которую я знаю,- это здоровье» (Вольтер, французский философ, писатель, истор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ак связаны такие понятия, как красота и здоровье с темой нашего текст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формулируйте выв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52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Риторическая задача: обращение к младшим школьникам о ценности здоровья и пользе здорового образа жизн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Миниучебное исследование по повести Н.В. Гоголя «Тарас Бульба» (глава </a:t>
            </a:r>
            <a:r>
              <a:rPr b="0" i="1" lang="en-US" sz="2600" spc="-1" strike="noStrike">
                <a:solidFill>
                  <a:srgbClr val="002060"/>
                </a:solidFill>
                <a:latin typeface="Constantia"/>
              </a:rPr>
              <a:t>II. </a:t>
            </a: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Стр. 274-275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Цель исследования: проанализировать язык Гого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Задача: найти в тексте повести метафоры и сравн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Цель: узнать, любил ли использовать эти тропы Н.В. Гогол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Уча…твует в облас…ых соревнованиях, ю…ыми спортсменами, л…кование болельщиков, бор…мся за победу, разд…ется стартовый с…гнал, по сложной д…станции, зимняя ол…мпиада, р…кордные секунды, к…снуться барьера, с пр…восходным результатом, смотрим на ч…мпиона, держ…м кубо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69148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он лучше всякого лекар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спал, как в отпуску побыва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Здоров, как бык, да (не)знаю, как бы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Без наук как без ру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синел, как на льду посиде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Болезнь как рукой снял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ысох, как лист, как спичка. Кости да кожа, одни рёбр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Выразительность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придают тексту яркость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расоту, гармони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Точность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помогают представить то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что описывает авто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Эмоциональность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помогают понять, ка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автор относит  к тому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что описыва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Вывод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слово способно не тольк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запечатлевать, но 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реобразовывать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действительнос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375760" cy="138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5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емный ельник снегами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ак мехом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Опушили седые мороз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 блестках инея, точно в алмазах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Задремали, склонившись, берез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(И.А.Бунин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Отсталых туч над нами пролета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следняя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олп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розрачный их отрезок мягко та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У лунного серп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(А.А.Фе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9152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шел снег. Все пространство от земли до неба наполнилось тихим шорохом. Ветер сперва кружил: то в спину толкал, то с боков. Потом наладился встречный - в лоб. В ушах засвистело, в лицо полетели тысячи маленьких холодных пуль.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(В.М. Шукшин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Буря мглою небо кроет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ихри снежные крут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о, как зверь она завоет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о заплачет, как дит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(А.С. Пушкин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равнения, ребята, окружают нас повсюду. Вы не замечали, что наша обычная физкультминутка тоже построена на сравнени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1. Вдыхаем глубоко через нос, как будто нюхаем цветы. Задерживаем дыхание. Выдыхаем, как будто задуваем пламя свечи. Повторяем три раз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2. Потянулись к солнышку, как будто хотим до него достать, вытягиваем спинки. Повторить три раз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6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1) Давайте вместе решать, как уберечься от простуд. 2) Один из способов – это закаливание. 3) Самый простой его метод – это ножные ванны с ежедневным понижением температуры воды на один градус. 4) Начинаем с тридцати семи, постепенно доводя воду до восемнадцати градусов. 5) Когда вы приучите ноги к холоду, перестаньте использовать теплую воду и при мытье рук и умывании. 6) Зимой откажитесь от варежек, даже если играете в снежки. 7) Только не забудьте, когда вернетесь домой, смазать руки крем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8) Привыкнув к ножным ваннам, можно приступить к растиранию, а потом и обливанию водой, понижая ее температуру тоже постепенно до восемнадцати градусов. 9) Можно научиться контрастным обливаниям: попробуйте поочередно ополаскиваться холодной и теплой водой в течение пяти-семи минут. 9) Важно также оградить организм от инфекции. 10) Возьмите за правило есть ежедневно свежие фрукты и овощи. 11)Научитесь пить вместо чая заваренные плоды шиповника. 12) Штук шестьдесят сушеных ягод нужно растолочь, поместить в термос и залить литром кипятка. 14) Если вы все же заболели, после выздоровления начните проводить процедуры закаливания снова. 15) Будьте настойчивы, и ваш организм научится сопротивляться болезня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5:22:01Z</dcterms:created>
  <dc:creator>ASUS</dc:creator>
  <dc:description/>
  <dc:language>en-US</dc:language>
  <cp:lastModifiedBy>андрей</cp:lastModifiedBy>
  <dcterms:modified xsi:type="dcterms:W3CDTF">2012-12-19T05:07:32Z</dcterms:modified>
  <cp:revision>25</cp:revision>
  <dc:subject/>
  <dc:title> </dc:title>
</cp:coreProperties>
</file>