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DB7A-E11A-4DA8-9FB3-3621B0E0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264-9377-413E-82A9-9B3B32B4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356-5CFA-434C-8C94-54D9DDA5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FC4-F070-49BA-A4CA-6164723E7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E2976-69DD-4B27-A898-1A7AC525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251227-02FC-46C9-8045-07A1C706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330CA-4D40-4307-ABFF-1BAE2D187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438F8-D43E-4721-9F8B-F6B3B406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7AA18-7761-467C-BCB7-550BA733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7FDAE-8B63-4D8B-89FC-D4D9D0C7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BCF5E-348C-4917-9D13-20C9264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4D9-1553-4AAC-BB1F-B5BE28EF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2FA1D-D2A4-4A72-8841-8698793F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679B6-F942-4750-9E37-F0F515C6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7A9DB-EC39-40A2-97ED-D93B3526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DD908-E7DB-4588-BE69-FF84A946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3F905B-7446-4E6E-8359-12F4689F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E966F-BFAD-4F41-9489-146D1B201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48F4-98FC-4289-9A2D-95F77E74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F34F5-306D-48AC-8D0A-89EA8422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8D86-A9B4-40C0-8701-537C6BC4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A3FEC-73D8-4DA5-B21E-F2050F2E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CC2-BFEF-4A2F-83D3-A2D59A93E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2258-4D0C-4437-9136-7F94836D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B02F5-1DA5-4E84-9C1A-2B439448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F0BE5-B66C-41CF-9F00-8547EB95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61AA-FD80-499C-9DA4-B296EF22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E8EEE-3392-4C7B-A2E3-757E8E162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89F2-6683-4BEA-8A30-D62C4323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D6BFC-508D-46B5-99A2-73687F96F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927E72-02A1-43A0-8E56-A089C2CB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C509A-EB50-4850-A98A-EC7B8EDD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9C2D39-FE63-428B-8D6E-1F3A6BC7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2866-F483-410B-9DF7-B9382D414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2C288-8EA9-4545-A1EA-005D933C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923547-2DE6-4A71-9FC0-6171BEDC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218FD-DF84-4AAF-A017-6E7C0507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C2DB9B-11C1-46A2-A054-121F4848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FF65C-814A-4C75-B23C-B8BE79F6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57EDD-EE2D-4B99-85C5-DBED698E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7D984C-E391-4806-BFD5-468D8BC3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49BE2-51B3-44CE-B317-2C1BBAAF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872985-F9D3-45C4-87A3-B3F73743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E70-277D-416C-BFFD-C9983B41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B526-94F5-4B50-AA70-36C7C9EE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3E1-78B4-4D84-A014-85B0E937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E51-C486-48B1-9594-F209701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323D-DE91-45C7-8838-A198E338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51DE-EF74-4640-9938-A38F60D2639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848F-1DD1-4C74-827C-5A84CDBBF62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263E-59F3-40B6-A6F7-EBAC59216A5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0674-97B5-43DE-88D3-F1B6641EE64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440"/>
            <a:ext cx="8305920" cy="23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Имя существительное в тексте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Метафора. Сравнение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Заголовок 1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Какая информация непонятна, нова, неожиданна, вызвала интерес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Определите тему, проблему (основную мысль). Озаглавьте текс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Сформулируйте микротем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Определите стиль и жанр текст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акие новые знания по сохранению здоровья вы попробуете использовать в своей жизн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рочитайте высказывание французского философа ХVIII века. Выделите ключевые сло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«</a:t>
            </a: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Единственная красота, которую я знаю,- это здоровье» (Вольтер, французский философ, писатель, истори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ак связаны такие понятия, как красота и здоровье с темой нашего текст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формулируйте вывод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0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520"/>
            <a:ext cx="8229600" cy="17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Риторическая задача: обращение к младшим школьникам о ценности здоровья и пользе здорового образа жизн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Миниучебное исследование по повести Н.В. Гоголя «Тарас Бульба» (глава </a:t>
            </a:r>
            <a:r>
              <a:rPr b="0" i="1" lang="en-US" sz="2600" spc="-1" strike="noStrike">
                <a:solidFill>
                  <a:srgbClr val="002060"/>
                </a:solidFill>
                <a:latin typeface="Constantia"/>
              </a:rPr>
              <a:t>II. </a:t>
            </a: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Стр. 274-275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Цель исследования: проанализировать язык Гогол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Задача: найти в тексте повести метафоры и сравн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onstantia"/>
              </a:rPr>
              <a:t>Цель: узнать, любил ли использовать эти тропы Н.В. Гогол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4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nstantia"/>
              </a:rPr>
              <a:t>Уча…твует в облас…ых соревнованиях, ю…ыми спортсменами, л…кование болельщиков, бор…мся за победу, разд…ется стартовый с…гнал, по сложной д…станции, зимняя ол…мпиада, р…кордные секунды, к…снуться барьера, с пр…восходным результатом, смотрим на ч…мпиона, держ…м кубок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Заголовок 2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691480" cy="1292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0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он лучше всякого лекарств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спал, как в отпуску побыва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Здоров, как бык, да (не)знаю, как быть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Без наук как без ру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синел, как на льду посидел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Болезнь как рукой сняло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ысох, как лист, как спичка. Кости да кожа, одни рёбр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Заголовок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7200" y="1523880"/>
            <a:ext cx="82296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Выразительность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придают тексту яркость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расоту, гармонию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Точность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помогают представить то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что описывает авто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Эмоциональность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помогают понять, как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автор относит  к тому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что описыва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Вывод</a:t>
            </a: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слово способно не тольк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запечатлевать, но и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реобразовывать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действительность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40120" indent="-2401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7" name="Заголовок 2" descr=""/>
          <p:cNvPicPr/>
          <p:nvPr/>
        </p:nvPicPr>
        <p:blipFill>
          <a:blip r:embed="rId1"/>
          <a:stretch/>
        </p:blipFill>
        <p:spPr>
          <a:xfrm>
            <a:off x="317520" y="-6480"/>
            <a:ext cx="8375760" cy="138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57200" y="15235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Темный ельник снегами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,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ак мехом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Опушили седые мороз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 блестках инея, точно в алмазах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Задремали, склонившись, берез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(И.А.Бунин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Отсталых туч над нами пролета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следняя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толп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розрачный их отрезок мягко тае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У лунного серп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2060"/>
                </a:solidFill>
                <a:latin typeface="Constantia"/>
              </a:rPr>
              <a:t>(А.А.Фет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9152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шел снег. Все пространство от земли до неба наполнилось тихим шорохом. Ветер сперва кружил: то в спину толкал, то с боков. Потом наладился встречный - в лоб. В ушах засвистело, в лицо полетели тысячи маленьких холодных пуль. 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(В.М. Шукшин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Буря мглою небо кроет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Вихри снежные крутя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То, как зверь она завоет,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То заплачет, как дит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Constantia"/>
              </a:rPr>
              <a:t>(А.С. Пушкин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1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Сравнения, ребята, окружают нас повсюду. Вы не замечали, что наша обычная физкультминутка тоже построена на сравнени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1. Вдыхаем глубоко через нос, как будто нюхаем цветы. Задерживаем дыхание. Выдыхаем, как будто задуваем пламя свечи. Повторяем три раз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2. Потянулись к солнышку, как будто хотим до него достать, вытягиваем спинки. Повторить три раза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3" name="Заголовок 6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1) Давайте вместе решать, как уберечься от простуд. 2) Один из способов – это закаливание. 3) Самый простой его метод – это ножные ванны с ежедневным понижением температуры воды на один градус. 4) Начинаем с тридцати семи, постепенно доводя воду до восемнадцати градусов. 5) Когда вы приучите ноги к холоду, перестаньте использовать теплую воду и при мытье рук и умывании. 6) Зимой откажитесь от варежек, даже если играете в снежки. 7) Только не забудьте, когда вернетесь домой, смазать руки крем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5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8) Привыкнув к ножным ваннам, можно приступить к растиранию, а потом и обливанию водой, понижая ее температуру тоже постепенно до восемнадцати градусов. 9) Можно научиться контрастным обливаниям: попробуйте поочередно ополаскиваться холодной и теплой водой в течение пяти-семи минут. 9) Важно также оградить организм от инфекции. 10) Возьмите за правило есть ежедневно свежие фрукты и овощи. 11)Научитесь пить вместо чая заваренные плоды шиповника. 12) Штук шестьдесят сушеных ягод нужно растолочь, поместить в термос и залить литром кипятка. 14) Если вы все же заболели, после выздоровления начните проводить процедуры закаливания снова. 15) Будьте настойчивы, и ваш организм научится сопротивляться болезня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05:22:01Z</dcterms:created>
  <dc:creator>ASUS</dc:creator>
  <dc:description/>
  <dc:language>en-US</dc:language>
  <cp:lastModifiedBy>андрей</cp:lastModifiedBy>
  <dcterms:modified xsi:type="dcterms:W3CDTF">2012-12-19T05:07:32Z</dcterms:modified>
  <cp:revision>25</cp:revision>
  <dc:subject/>
  <dc:title> </dc:title>
</cp:coreProperties>
</file>