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C6FC-087C-41AF-B5A5-60042CBA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5547-D299-4543-9B10-04481879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557-4401-4978-BB95-5A15EC1D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848-90B8-4CF7-8B49-BEA7B1B1D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ADB0-544D-4610-AE21-EB088157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AF0A-DB8D-4904-836F-2E5B652C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2B2E-BE7A-4410-9554-FC4EAEE9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D548-06A0-4E61-A85D-A5ED25BC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6D78-E039-4159-8BBA-43B40E9F7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C5B9-7614-41FD-90AF-D2168907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CF60-52E8-4907-AE55-7729D62C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F8C-7ABB-4286-9EF6-EBBC669D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E56F-D3AD-4821-B86E-0F1C55418E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6" descr=""/>
          <p:cNvPicPr/>
          <p:nvPr/>
        </p:nvPicPr>
        <p:blipFill>
          <a:blip r:embed="rId1"/>
          <a:stretch/>
        </p:blipFill>
        <p:spPr>
          <a:xfrm>
            <a:off x="158760" y="1670040"/>
            <a:ext cx="8637480" cy="2463840"/>
          </a:xfrm>
          <a:prstGeom prst="rect">
            <a:avLst/>
          </a:prstGeom>
          <a:ln w="0">
            <a:noFill/>
          </a:ln>
        </p:spPr>
      </p:pic>
      <p:sp>
        <p:nvSpPr>
          <p:cNvPr id="42" name="Скругленный прямоугольник 7"/>
          <p:cNvSpPr/>
          <p:nvPr/>
        </p:nvSpPr>
        <p:spPr>
          <a:xfrm>
            <a:off x="2143080" y="6429240"/>
            <a:ext cx="192888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285840" y="285840"/>
            <a:ext cx="8501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Форум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обмен сообщениями между пользователями электронной сети в режиме реального времени, при котором пользователь может отвечать на конкретные сообщения других участник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Бло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интернет-журнал событий, интернет-дневник, онлайн-дневни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ай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тематически объединенная информация, предоставляемая пользователю узлом Интернета, однозначно определяющаяся адрес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тернет-сообщест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постоянная аудитория Интернет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рта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стартовый веб-сайт для пользователей Интернета, предоставляющий как сервисы (электронную почту, форумы, конструкторы), так и собственное содержание (новости, данные о погоде и т.д.) и служащий путеводителем по Интернет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еб-маст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специалист, занимающийся созданием и обслуживанием сайтов Всемирной паутин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нтернет-ресурсы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информация (обычно объединенная 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ницы, сайты Всемирной паутины), доступная через Интерн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онтен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информационное наполнение сайта, вс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мещаемые в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тернете материалы – текст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графические изображения, музыкальные и видеофиль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ебина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— разновидность веб-конференции, проведени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лайн-встреч или презентаций через Интерн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Скругленный прямоугольник 8"/>
          <p:cNvSpPr/>
          <p:nvPr/>
        </p:nvSpPr>
        <p:spPr>
          <a:xfrm>
            <a:off x="2143080" y="6429240"/>
            <a:ext cx="192888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4"/>
          <p:cNvSpPr/>
          <p:nvPr/>
        </p:nvSpPr>
        <p:spPr>
          <a:xfrm>
            <a:off x="2143080" y="6429240"/>
            <a:ext cx="192888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Прямоугольник 2" descr=""/>
          <p:cNvPicPr/>
          <p:nvPr/>
        </p:nvPicPr>
        <p:blipFill>
          <a:blip r:embed="rId1"/>
          <a:stretch/>
        </p:blipFill>
        <p:spPr>
          <a:xfrm>
            <a:off x="2036880" y="208080"/>
            <a:ext cx="5765760" cy="93816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500040" y="1071720"/>
            <a:ext cx="81439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Сайт преподавателя-предметни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Блог преподавателей-предметник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Сайт групп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Учебный проек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Сетевое сообще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Мини-сайт методич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Электронная тетрадь студен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Блог - стенгазе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5143680" y="4143240"/>
            <a:ext cx="3143160" cy="24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Скругленный прямоугольник 1"/>
          <p:cNvSpPr/>
          <p:nvPr/>
        </p:nvSpPr>
        <p:spPr>
          <a:xfrm>
            <a:off x="2143080" y="6429240"/>
            <a:ext cx="192888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3446640" cy="264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4286160" y="285840"/>
            <a:ext cx="2024280" cy="2863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1714680" y="3000240"/>
            <a:ext cx="3036600" cy="2791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3" name="TextBox 6"/>
          <p:cNvSpPr/>
          <p:nvPr/>
        </p:nvSpPr>
        <p:spPr>
          <a:xfrm>
            <a:off x="5214960" y="3328920"/>
            <a:ext cx="3071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ион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еленный пун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работы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ание, ученая степ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заголовок мини-сайта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в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бимое изреч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р изре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упительный абзац к мини-сай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 себе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ниги, которые сформировали мой внутренний мир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й взгляд на ми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и дости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SzPct val="10300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тупительный абзац к электронному портфоли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Скругленный прямоугольник 1"/>
          <p:cNvSpPr/>
          <p:nvPr/>
        </p:nvSpPr>
        <p:spPr>
          <a:xfrm>
            <a:off x="2143080" y="6429240"/>
            <a:ext cx="192888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4344840" cy="3481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5000760" y="1643040"/>
            <a:ext cx="2001600" cy="2857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6786720" y="3643200"/>
            <a:ext cx="1857240" cy="26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User</cp:lastModifiedBy>
  <dcterms:modified xsi:type="dcterms:W3CDTF">2017-10-09T07:30:53Z</dcterms:modified>
  <cp:revision>228</cp:revision>
  <dc:subject/>
  <dc:title>Слайд 1</dc:title>
</cp:coreProperties>
</file>