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8A7-F2A2-415F-A766-3EBDB8EC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A9A-60E4-4482-9FE7-7DFE99A2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175-B798-434A-964C-FC3173A8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33A-5299-4221-B915-295FB02B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C86-E3AB-4CBF-B38F-152DA248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34E-6F52-4C4B-A5D8-D35C06C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BF0-15D6-4E8B-A58A-4BCFDAAC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CD5-977F-45DF-987B-0EF6F45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2C9-48F6-4DF1-A414-3896584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7BD-C984-42F0-BF46-62FDE12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F85-69B7-4E35-92FA-A022BC1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671-A497-4B8E-962D-DF82FBC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EFEB-71C5-4DCF-8D7A-BF5ABD126A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637480" cy="246384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285840" y="285840"/>
            <a:ext cx="8501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у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обмен сообщениями между пользователями электронной сети в режиме реального времени, при котором пользователь может отвечать на конкретные сообщения других участ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л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интернет-журнал событий, интернет-дневник, онлайн-дневн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ай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тематически объединенная информация, предоставляемая пользователю узлом Интернета, однозначно определяющаяся адрес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рнет-сообщест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постоянная аудитория Интерн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рта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тартовый веб-сайт для пользователей Интернета, предоставляющий как сервисы (электронную почту, форумы, конструкторы), так и собственное содержание (новости, данные о погоде и т.д.) и служащий путеводителем по Интерне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б-маст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специалист, занимающийся созданием и обслуживанием сайтов Всемирной паут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рнет-рес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информация (обычно объединенная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ницы, сайты Всемирной паутины), доступная через Интер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тен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информационное наполнение сайта, вс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щаемые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нете материалы – текст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фические изображения, музыкальные и видеофиль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бин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— разновидность веб-конференции, провед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лайн-встреч или презентаций через Интер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Скругленный прямоугольник 8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4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2036880" y="208080"/>
            <a:ext cx="5765760" cy="938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00040" y="107172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айт преподавателя-предмет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лог преподавателей-предмет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айт групп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Учебный прое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етевое сообще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Мини-сайт методи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Электронная тетрадь студен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лог - стенгаз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143680" y="4143240"/>
            <a:ext cx="3143160" cy="24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1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44664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286160" y="285840"/>
            <a:ext cx="2024280" cy="286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1714680" y="3000240"/>
            <a:ext cx="3036600" cy="279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3" name="TextBox 6"/>
          <p:cNvSpPr/>
          <p:nvPr/>
        </p:nvSpPr>
        <p:spPr>
          <a:xfrm>
            <a:off x="5214960" y="3328920"/>
            <a:ext cx="3071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он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ный пун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работы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ание, ученая степ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заголовок мини-сайта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в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имое изр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 изр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упительный абзац к мини-сай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себе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и, которые сформировали мой внутренний мир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й взгляд на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и дости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упительный абзац к электронному портфоли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1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4344840" cy="348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000760" y="1643040"/>
            <a:ext cx="2001600" cy="285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18572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7-10-09T07:30:53Z</dcterms:modified>
  <cp:revision>228</cp:revision>
  <dc:subject/>
  <dc:title>Слайд 1</dc:title>
</cp:coreProperties>
</file>