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53B2-F23D-4BFB-ACDC-E9D91C1A2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30F1-56D2-4133-A859-822AA30CF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81F3-FBF4-4AAE-8915-DAF71B492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AFE3-E5D5-4F87-97B4-E4CF290DE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B8985-F04F-4CF7-8482-426F99B26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1E70D-2D7D-411F-ABE3-B4D56D82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0AC11-D288-432B-8909-DC5973843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542DE-8536-48DA-8C6A-16A3B987D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CF8A5-1F32-444B-8E33-B376ED8BF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94C88-8922-4D05-9DA4-1B2A1AD2A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7916F-F35F-4B7B-ADB0-3F70216E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7611-1F4C-4459-B491-8DDA099C2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0FC79-DF0A-447B-B200-33F05A35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A1C72-FDCA-4562-A5B6-7D788FFC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3464F-5DF4-43CF-AB19-FA94A1DD4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E8632-7B56-4057-A330-2DB401B88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9F129-1166-4E75-9DB5-83D3ABC3A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E427-7E07-4D91-816D-8822CD7A7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298D-375A-4F7C-9BFD-AE3254612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1D3B-64D9-4888-9D60-7399D6819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5A70-D893-4B7A-A734-123B39A51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900D-C1AC-4EDA-A11A-C1D563BE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6215-86DB-4944-A2FF-C348D69C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50E4-BC5D-46D2-A5EC-8D78025E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ABB6C-E8E1-44AA-BC6C-153E5085D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B26C5-39AB-4659-925F-E53AC945CC8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en-US" sz="3200" spc="-1" strike="noStrike">
                <a:solidFill>
                  <a:srgbClr val="990000"/>
                </a:solidFill>
                <a:latin typeface="Arial Black"/>
              </a:rPr>
              <a:t>«Название картины и имя художника»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Arial Black"/>
              </a:rPr>
              <a:t>       Контрольная работа для 10 класса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Arial Black"/>
              </a:rPr>
              <a:t>Составитель: учитель музыки и МХК Фадеева М. Г. МБОУ «Школа № 105»        г. Нижний Новгород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Arial Black"/>
              </a:rPr>
              <a:t>Задание №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b7"/>
                </a:solidFill>
                <a:latin typeface="Arial Black"/>
              </a:rPr>
              <a:t>Голландия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-304920" y="104760"/>
            <a:ext cx="9753840" cy="66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84072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187280" y="0"/>
            <a:ext cx="684072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1187280" y="0"/>
            <a:ext cx="684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576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16000" y="0"/>
            <a:ext cx="8928000" cy="698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7374240" cy="77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Ключи к слайдам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Голланд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0.Франс Хальс .Регентши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1.Франс Хальс. Цыган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2. Ян Вермер Дельфский. Девушка читающая письм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3.Рембрандт. Ночной дозо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4. Рембрандт. Возвращение блудного сы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09T13:27:00Z</dcterms:created>
  <dc:creator>Фадеева</dc:creator>
  <dc:description/>
  <dc:language>en-US</dc:language>
  <cp:lastModifiedBy>Фадеева</cp:lastModifiedBy>
  <dcterms:modified xsi:type="dcterms:W3CDTF">2017-10-09T15:54:10Z</dcterms:modified>
  <cp:revision>7</cp:revision>
  <dc:subject/>
  <dc:title>Слайд 1</dc:title>
</cp:coreProperties>
</file>