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76E-6667-4B0E-9641-B1DD450E4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BE72-3B54-47C8-AA3A-AE10412F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1E8-422F-43F8-801D-99FCCA156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8E36-7C39-477B-A757-805C8DBA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53BD-5323-4FCE-973B-F8F76464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7A95-320A-463A-A6AA-36E1BFA5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1BA5-57D3-4D6E-861F-DB4B76AD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042F-83EF-4640-BAE9-3F06E164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4633-F5C1-41F5-A46F-86587C43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FD82-9B73-4AAC-B643-AC31E180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2189-F019-4D30-B761-D95060BE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179-FCA2-47C7-A933-92AF5BA0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14A0-4183-4330-8022-EFD1255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A91C-5C74-49AA-86A0-E38A654B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43C6-9BAA-41EC-BBC1-C0781F5F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BEC0-B8ED-4EE4-9818-1893BBFE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2E31-C6AD-413C-8BCE-2FBFB88B0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93D-2791-4CE1-8AE9-78710083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6E0-B8E2-4B2E-B33D-A4CB8904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1AA7-5F6F-4CF1-A85D-E8924EFB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C3A3-5F32-4D8A-9A60-2FBEED55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0DC8-010E-4B9C-A277-44E376F4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BB6-2382-4CEA-B7C3-1CFE7130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ABD-4522-480A-9F97-5A7DB052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31BE-6565-4ED6-8DD8-276407D8F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A2D6-36E2-49D0-AA81-316B779239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«Название картины и имя художника»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       Контрольная работа для 10 класса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Составитель: учитель музыки и МХК Фадеева М. Г. МБОУ «Школа № 105»        г. Нижний Новгород</a:t>
            </a: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 Black"/>
              </a:rPr>
              <a:t>Задание №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Голландия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304920" y="104760"/>
            <a:ext cx="975384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187280" y="0"/>
            <a:ext cx="68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76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6000" y="0"/>
            <a:ext cx="892800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374240" cy="77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Ключи к слайдам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Голланд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0.Франс Хальс .Регентши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1.Франс Хальс. Цыга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. Ян Вермер Дельфский. Девушка читающая письм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3.Рембрандт. Ночной дозо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. Рембрандт. Возвращение блудного сы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9T13:27:00Z</dcterms:created>
  <dc:creator>Фадеева</dc:creator>
  <dc:description/>
  <dc:language>en-US</dc:language>
  <cp:lastModifiedBy>Фадеева</cp:lastModifiedBy>
  <dcterms:modified xsi:type="dcterms:W3CDTF">2017-10-09T15:54:10Z</dcterms:modified>
  <cp:revision>7</cp:revision>
  <dc:subject/>
  <dc:title>Слайд 1</dc:title>
</cp:coreProperties>
</file>