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A8A-934C-4FA5-B3BE-D9189525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29D-DD7E-4770-8850-A1D74D2A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D61-722C-4EAE-A985-B4A3414B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7A7-2CD9-4758-B903-63BF2CFA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3E7-E6E5-40A4-8214-7305630A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C62-1B41-4847-91DE-7A95F784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909-2586-4EAA-93FC-A6498CC5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AA5-A8D7-41A7-A5EA-49B86A9B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A0C-3B8F-477C-B239-F81EE9CA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114-072D-4D1F-90A5-C9E35CF4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AD0-74D9-463B-8AB4-24F9B7D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83E-ED44-4703-84BD-58AFD617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8D11-5C97-4677-A23C-CFBA07979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Вместе против коррупц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неклассно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зя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Растра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Мошенниче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ымогатель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, несмотря на то, что они не обладают ни способностями, ни знаниями, необходимыми для их служб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Злоупотребление должностными полномочиям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ссмотреть ситуации и указать, в которых из них представлены случаи коррупции,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а в которых нет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В благодарность за то, что врач вылечил её тяжело больного ребёнка, Галина подарила врачу букет из цветов   своего с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2. Бухгалтер Иванова С.  использовала поддельные счета, которые содержат невер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. Кандидат в депутаты договорился  фирмой о  финансировании её выборов в органы государственной власти, взамен обещал   помогать этой фирме получать хорошие зака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4. Государственное должностное лицо пользуется служебным автомобилем и топливом в личных це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5. Иван вынужден был отблагодарить чиновника, сознательно тянувшего  время для решения его вопро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6. Должностное лицо правительства поздно приходит на работу, рано возвращается с работы и в рабочее время занимается личными 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 чем гласит народная мудрост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Calibri"/>
              </a:rPr>
              <a:t>Вспомните, какие пословицы и поговорки отражают коррупционную деятельность в современном обществе?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Не подмажешь, не поедешь» – вымогательство, взятничест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Рука руку моет» – групповая запланированная деятельность в подкуп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Загребать жар чужими руками» – несознательное соучастие в мошенничестве и афер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Видит око, да зуб не мед» – безрезультативность действий борьбы с коррупци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Основные признаки коррупционного действ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оюдное согласие участников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Наличие взаимных обязатель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олучение  определенных выгод и преимуществ обеими сторо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ринимаемое решение нарушает закон или противоречит  моральным норм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Сознательное подчинение общих интересов личной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е стороны стремятся скрыть свои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img7"/>
          <p:cNvPicPr/>
          <p:nvPr/>
        </p:nvPicPr>
        <p:blipFill>
          <a:blip r:embed="rId1"/>
          <a:stretch/>
        </p:blipFill>
        <p:spPr>
          <a:xfrm>
            <a:off x="1928880" y="2858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84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1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и нарушении правил дорожного движения в нетрезвом виде, водитель заплатил сотруднику ГИБДД,  который  вместо того, чтобы заполнить протокол, взял деньги и отпустил правонарушите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2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Государственный служащий, отвечающий за распределение бесплатно предоставляемых медикаментов пациентам, часть медикаментов  отправлял в частные аптеки для их дальнейшей реализации по высоким цен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3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Родственникам  больного гражданина Н. главврач недвусмысленно говорит, что ему требуется экстренная  операция, но в общей очереди операцию придется «ждать очень долго». 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кажем коррупции «Нет!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_corrupt00.jpg"/>
          <p:cNvPicPr/>
          <p:nvPr/>
        </p:nvPicPr>
        <p:blipFill>
          <a:blip r:embed="rId1"/>
          <a:stretch/>
        </p:blipFill>
        <p:spPr>
          <a:xfrm>
            <a:off x="762120" y="2141640"/>
            <a:ext cx="761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285480"/>
            <a:ext cx="8572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Борьбу с коррупцией нужно начать с самого себя и требовать устранения коррупционных проявлений от окружающи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Эффективность борьбы зависит от взаимодействия всех ветвей власти, их ответственности за процесс оздоровления общества. Необходимо быстро реагировать на все виды проявлений коррупционных правонарушений, справедливо давать наказ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1680" y="4996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оррупция «есть корень, из котор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ытекает во все времена и при вся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блазнах презрение ко всем законам»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Томас Гобб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28880" y="2714760"/>
            <a:ext cx="5286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Многие сравнивают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коррупцию с болячкой.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У каждой болячки есть свои причины, которые нужно лечить.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Каковы же причины коррупци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Причины коррупц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Низкая заработная плата государственных служащи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знание закон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Желание легкой нажив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Частая сменяемость лиц на различных должност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стабильность в стра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Коррупция как привыч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изкий уровень жизни насел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Слабая развитость государственных институ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Безработ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развитость институтов гражданского обще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В зависимости от сферы деятельности коррупция проявляется в следующих формах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в сфере государственного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Парламентск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ел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на предприят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Быт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ажШан,  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отиякраБю,   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 команда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твотельгамоВы,      кетР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1 команда -  тажШан,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Шантаж – угроза разоблачения, разглашения сведений, которые объект шантажа хотел бы сохранить в тайне, с целью добиться какой-либо выг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Коррупция – сращивание государственных структур со структурами преступного мира в сфере экономики, а также продажность и подкуп политических и общественных деятелей, государственных чинов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2 команда – ротиякраБю,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Бюрократия – 1) высший чиновничий аппарат, администрация; 2) система управления, основанная на формализме, административной волок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Взятка –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лата или подарок должностному лицу за незаконные действия в пользу дающ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Calibri"/>
              </a:rPr>
              <a:t>3 команда – ствотельгамоВы, кетР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Вымогательство - не обусловленное правом, не предусмотренное законом требование передачи денег, имущественных ценностей, сопровождаемое разного рода угрозами, обманом со стороны вымога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Рэкет – незаконное, производимое путем угроз, шантажа вымогательство денег от предпринимателей со стороны преступных элементов, рэкети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8:16:15Z</dcterms:created>
  <dc:creator>Ирина</dc:creator>
  <dc:description/>
  <dc:language>en-US</dc:language>
  <cp:lastModifiedBy>учитель</cp:lastModifiedBy>
  <dcterms:modified xsi:type="dcterms:W3CDTF">2012-03-19T11:16:45Z</dcterms:modified>
  <cp:revision>28</cp:revision>
  <dc:subject/>
  <dc:title>Вместе против коррупции</dc:title>
</cp:coreProperties>
</file>