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E73B-546F-4BC1-8B80-D436BDC20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9564-F49B-48F3-8525-2F13428D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A184-5968-430D-81DF-55E83E18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764-E461-497E-8C3A-D4ED5366E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61B4-A507-489D-A3B1-E6276503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E657-7A65-41A5-B225-7D21218D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FE79-E81B-4734-9A1C-C9177D0B7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FDEC-5C05-4C38-8178-6AC38FA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4296-7577-4F62-9314-A5B8A1C8B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F661-F353-476E-837C-01252685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7D70-1334-44D5-828C-08E5DEC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80D-874F-418A-A875-7834C00F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3B2C-293B-4DB4-A5FA-D8EB6BA120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c00000"/>
                </a:solidFill>
                <a:latin typeface="Calibri"/>
              </a:rPr>
              <a:t>Вместе против коррупции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Внеклассное меро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Заголовок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242560" cy="1347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зятк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Растра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Мошенниче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ымогательство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Фаворитизм - в государственной и общественной жизни страстное покровительство любимцам (фаворитам) и назначение любимцев на высокие должности, несмотря на то, что они не обладают ни способностями, ни знаниями, необходимыми для их служб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лоупотребление должностными полномочия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Рассмотреть ситуации и указать, в которых из них представлены случаи коррупции,</a:t>
            </a:r>
            <a:br>
              <a:rPr sz="2800"/>
            </a:b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 а в которых нет. 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. В благодарность за то, что врач вылечил её тяжело больного ребёнка, Галина подарила врачу букет из цветов   своего са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2. Бухгалтер Иванова С.  использовала поддельные счета, которые содержат неверную информац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3. Кандидат в депутаты договорился  фирмой о  финансировании её выборов в органы государственной власти, взамен обещал   помогать этой фирме получать хорошие заказ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4. Государственное должностное лицо пользуется служебным автомобилем и топливом в личных цел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5. Иван вынужден был отблагодарить чиновника, сознательно тянувшего  время для решения его вопрос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6. Должностное лицо правительства поздно приходит на работу, рано возвращается с работы и в рабочее время занимается личными дел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"/>
          <p:cNvPicPr/>
          <p:nvPr/>
        </p:nvPicPr>
        <p:blipFill>
          <a:blip r:embed="rId2"/>
          <a:stretch/>
        </p:blipFill>
        <p:spPr>
          <a:xfrm>
            <a:off x="0" y="4428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 чем гласит народная мудрост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Calibri"/>
              </a:rPr>
              <a:t>Вспомните, какие пословицы и поговорки отражают коррупционную деятельность в современном обществе?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Не подмажешь, не поедешь» – вымогательство, взятничеств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Рука руку моет» – групповая запланированная деятельность в подкуп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Загребать жар чужими руками» – несознательное соучастие в мошенничестве и аферах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«Видит око, да зуб не мед» – безрезультативность действий борьбы с коррупци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307188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Calibri"/>
              </a:rPr>
              <a:t>Основные признаки коррупционного действ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оюдное согласие участников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Наличие взаимных обязательст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олучение  определенных выгод и преимуществ обеими сторона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Принимаемое решение нарушает закон или противоречит  моральным норма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Сознательное подчинение общих интересов личной выгоде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Calibri"/>
              </a:rPr>
              <a:t>Обе стороны стремятся скрыть свои действ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img7"/>
          <p:cNvPicPr/>
          <p:nvPr/>
        </p:nvPicPr>
        <p:blipFill>
          <a:blip r:embed="rId1"/>
          <a:stretch/>
        </p:blipFill>
        <p:spPr>
          <a:xfrm>
            <a:off x="1928880" y="28584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285840" y="214200"/>
            <a:ext cx="885816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1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ри нарушении правил дорожного движения в нетрезвом виде, водитель заплатил сотруднику ГИБДД,  который  вместо того, чтобы заполнить протокол, взял деньги и отпустил правонарушител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2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Государственный служащий, отвечающий за распределение бесплатно предоставляемых медикаментов пациентам, часть медикаментов  отправлял в частные аптеки для их дальнейшей реализации по высоким цен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3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Родственникам  больного гражданина Н. главврач недвусмысленно говорит, что ему требуется экстренная  операция, но в общей очереди операцию придется «ждать очень долго». 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Calibri"/>
              </a:rPr>
              <a:t>Скажем коррупции «Нет!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_corrupt00.jpg"/>
          <p:cNvPicPr/>
          <p:nvPr/>
        </p:nvPicPr>
        <p:blipFill>
          <a:blip r:embed="rId1"/>
          <a:stretch/>
        </p:blipFill>
        <p:spPr>
          <a:xfrm>
            <a:off x="762120" y="2141640"/>
            <a:ext cx="761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56760" y="285480"/>
            <a:ext cx="857268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c00000"/>
                </a:solidFill>
                <a:latin typeface="Calibri"/>
              </a:rPr>
              <a:t>Борьбу с коррупцией нужно начать с самого себя и требовать устранения коррупционных проявлений от окружающих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Calibri"/>
              </a:rPr>
              <a:t>Эффективность борьбы зависит от взаимодействия всех ветвей власти, их ответственности за процесс оздоровления общества. Необходимо быстро реагировать на все виды проявлений коррупционных правонарушений, справедливо давать наказ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1680" y="49968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Коррупция «есть корень, из котор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вытекает во все времена и при всяки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соблазнах презрение ко всем законам»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</a:rPr>
              <a:t>Томас Гобб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1928880" y="2714760"/>
            <a:ext cx="52862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0040" y="2214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Многие сравнивают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коррупцию с болячкой. </a:t>
            </a:r>
            <a:br>
              <a:rPr sz="4000"/>
            </a:br>
            <a:r>
              <a:rPr b="1" i="1" lang="ru-RU" sz="4000" spc="-1" strike="noStrike">
                <a:solidFill>
                  <a:srgbClr val="10253f"/>
                </a:solidFill>
                <a:latin typeface="Calibri"/>
              </a:rPr>
              <a:t>У каждой болячки есть свои причины, которые нужно лечить.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Каковы же причины коррупции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ичины коррупции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002060"/>
                </a:solidFill>
                <a:latin typeface="Calibri"/>
              </a:rPr>
              <a:t>- 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Низкая заработная плата государственных служащи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знание закон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Желание легкой нажив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Частая сменяемость лиц на различных должностя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стабильность в стран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Коррупция как привычк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изкий уровень жизни населе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Слабая развитость государственных институт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 Безработиц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  </a:t>
            </a:r>
            <a:r>
              <a:rPr b="1" lang="ru-RU" sz="2500" spc="-1" strike="noStrike">
                <a:solidFill>
                  <a:srgbClr val="10253f"/>
                </a:solidFill>
                <a:latin typeface="Calibri"/>
              </a:rPr>
              <a:t>- Неразвитость институтов гражданского общест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В зависимости от сферы деятельности коррупция проявляется в следующих формах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в сфере государственного управ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Парламентск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Дел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Коррупция на предприятия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Calibri"/>
              </a:rPr>
              <a:t>Бытовая коррупц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1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тажШан,  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2 команда –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отиякраБю,   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3 команда 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ствотельгамоВы,      кетР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1 команда -  тажШан,  циярупКо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Шантаж – угроза разоблачения, разглашения сведений, которые объект шантажа хотел бы сохранить в тайне, с целью добиться какой-либо выг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Коррупция – сращивание государственных структур со структурами преступного мира в сфере экономики, а также продажность и подкуп политических и общественных деятелей, государственных чинов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2 команда – ротиякраБю,  каВтз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Бюрократия – 1) высший чиновничий аппарат, администрация; 2) система управления, основанная на формализме, административной волоки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зятка –</a:t>
            </a: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лата или подарок должностному лицу за незаконные действия в пользу дающ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c00000"/>
                </a:solidFill>
                <a:latin typeface="Calibri"/>
              </a:rPr>
              <a:t>3 команда – ствотельгамоВы, кетР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Вымогательство - не обусловленное правом, не предусмотренное законом требование передачи денег, имущественных ценностей, сопровождаемое разного рода угрозами, обманом со стороны вымогател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0253f"/>
                </a:solidFill>
                <a:latin typeface="Calibri"/>
              </a:rPr>
              <a:t>Рэкет – незаконное, производимое путем угроз, шантажа вымогательство денег от предпринимателей со стороны преступных элементов, рэкетир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7T18:16:15Z</dcterms:created>
  <dc:creator>Ирина</dc:creator>
  <dc:description/>
  <dc:language>en-US</dc:language>
  <cp:lastModifiedBy>учитель</cp:lastModifiedBy>
  <dcterms:modified xsi:type="dcterms:W3CDTF">2012-03-19T11:16:45Z</dcterms:modified>
  <cp:revision>28</cp:revision>
  <dc:subject/>
  <dc:title>Вместе против коррупции</dc:title>
</cp:coreProperties>
</file>