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731-07E8-4CE9-A4E1-8C17B17C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07B-0F35-406E-AC2E-E1CF61ED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A8E-2591-4C5F-9798-EC205778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234-AA74-44A6-ADDA-59AD40EC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1309-3A3F-4614-A949-E8E106B6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C720-DAC3-4431-8A52-F8CC68E3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7D5B-478D-4C1D-BE3A-285C4A76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E22E-8C6E-4912-AD25-23B62EE5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E822-84D4-4B59-AFAC-71740B15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63FE-0B1F-4027-A5C1-C5E51738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8502-111C-4688-AF4B-36CB445D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510-FB2C-4B53-9862-ED5487B3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16BC-D6A3-46EA-BDF0-8D7F6BAB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C44E-846C-4B6A-BA68-2EE4A8BA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8A66-E6BB-40DA-B451-3A8B1B43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1543-D3FD-4001-874F-44E4525E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59AF-1E5D-422F-A983-46A2F6D1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A6A-50B2-43B8-A40E-AE8CE03E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95D-62BC-4BCC-8034-616F55EF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405-5D50-44F2-84B6-C4B55A0C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EC9-D604-41A2-8B87-4EC6D9E1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97B-AF97-41C2-81E2-E050DBAD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83C-1B47-4473-BE15-EDEE708B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796-71BC-456F-8D17-31A9F5C6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C2AD-D3B9-4F8B-8981-5A607C1273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F5BD-0B0F-4162-9AF7-FDE64B7E7F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dvokatx.r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Медицинские ошибки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веденными зарубежными и отечественными исследованиями установлено, что риск умереть от врачебной ошибки , врачебной халатности, медицинской ошибки в десятки и сотни раз выше риска погибнуть от ДТП, в тысячи раз выше риска  по ж/д и авиакатастрофам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4537080" cy="4824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4608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доровье, жизнь и трудоспособность — ценности, на которых строится семейное и социальное благополучие каждого человека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Потенциал здоровья — капитал, который в течение всей жизни необходимо поддерживать на высоком уровне и к которому стремятся люди во всем цивилизованном мир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изнь и здоровье в их прямом смысле сейчас действительно дорогие. Есть люди, которые свое физическое пребывание на нашей земле у страховщиков оценивают в сотни миллионов долларов. Пока мы с Вами живем не в процветающей стране; - нельзя со стороны юристов, медицинских адвокатов и пострадавшим людям давать обещаний, что выиграв процесс с медиками по "медицинской ошибке", доказав вину врачей, пострадавшие по решению суда или его родственники, за допущенную врачебную ошибку или небрежность получат денежную компенсацию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пасибо за внимание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00000" y="1746000"/>
            <a:ext cx="699480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80808"/>
                </a:solidFill>
                <a:latin typeface="Arial"/>
              </a:rPr>
              <a:t>Приобретая в магазине пищу, мы оцениваем ее вид и запах, срок изготовления; нанимая плотника, - заранее предвидим результат его будущей работы; посещая парикмахера, мы можем точно рассчитать, как будем выглядеть через 20–30 мин; заключая ипотечный, кредитный договор, мы на годы вперед предвидим его результат. </a:t>
            </a:r>
            <a:br>
              <a:rPr sz="1900"/>
            </a:br>
            <a:r>
              <a:rPr b="1" lang="en-US" sz="1900" spc="-1" strike="noStrike">
                <a:solidFill>
                  <a:srgbClr val="080808"/>
                </a:solidFill>
                <a:latin typeface="Arial"/>
              </a:rPr>
              <a:t>Однако, получая медицинскую услугу, в большинстве случаев мы смутно догадываемся или вообще не представляем, чем для нас закончится медицинское вмешательство, на сколько велик риск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врачебной ошибки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17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220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О каких деяниях идет речь?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латность, небрежность вр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ерсонала при травм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енной, плановой хирур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одах например),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вазивных методах лечени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ки в урологии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строэнтерологии, онколог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рологии, других област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иагностированная инф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 т.ч. внутрибольничная). Так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ление инте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их, получив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ьезные теле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реждения (травмы и др)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-транспор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сшеств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400068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435280" y="1267920"/>
            <a:ext cx="34671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ыт организаций, занимающихся защитой прав пациентов, анализ многих медицинских документов на судебных процессах показал, что до 50-70% официальной информации, отраженной в медицинских документах является абсолютно или частично ложной, а значит не отражающей объективную картину статуса здоровья паци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82436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шибки врач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82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ждом втором случа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рачебна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шибка сопровождается неверным диагнозом, отсутствием диагноза, гипердиагностикой;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ждом третьем случа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рачебная ошибк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опровождается (при верном диагнозе) неверным лечением или отсутствием лечения;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ждом пятом случае врачебная ошибка сопровождается: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недостаточным опытом или квалификацией врача (фельдшера),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нетипичным развитием или проявлением болезни (нетипичная клиника),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нетипичной реакцией на лекарство или процедуру (анафилаксия и др),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отсутствием диагностических, лечебных методов в больнице, в ряде случаев неисправным оборудованием,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ранняя выписка из стационара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0095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4149720"/>
            <a:ext cx="2484360" cy="2089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580000" y="1413000"/>
            <a:ext cx="25923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Случай из жизни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33840" y="1719360"/>
            <a:ext cx="50529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 сентября в родильном доме № 5 медико-санитарной части № 7 погибли два мальчика 2-го и 4-го дня жизни. Оба ребенка были первыми детьми в семьях. Младенцам по ошибке вместо препарата, избавляющего новорожденных от желтухи, была введена магнезия. 21-летняя медсестра, имеющая красный диплом, работала в роддоме всего три месяца, и никаких нареканий в ее адрес до этого не было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уд Индустриального района Ижевска, который рассматривал трагическое происшествие в роддоме № 5, квалифицировал действия медсестры как причинение смерти по неосторожности вследствие ненадлежащего исполнения своих профессиональных обязанностей. Суд признал медсестру виновной в совершении преступления по ст. 109 ч. 2 УК РФ и назначил ей наказание – 3 года лишения свободы условно. Медсестре назначено дополнительное наказание в виде лишения права заниматься медицинской деятельностью сроком на 3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1746360"/>
            <a:ext cx="34560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шибки среднего мед. персонала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Часто встречаются такие медицинские ошибки среднего медицинского персонала как введение больному лекарственных веществ, не назначенных врачом, введение лекарств в неверной дозировке или вообще отсутствие введения лекарств. Врачи обычно не контролируют "заправление" капельниц "нужными" лекарственными препаратами со стороны медсестер, фельдшеров, доверяют им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Некорректное внутримышечное, внутривенное введение лекарственных веществ с нарушениями правил асептики: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вреждение нервных пучков – нейропатии;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вреждение сосудистых пучков – тромбы, асептические некрозы;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анос инфекции с инъекцией - гнойные осложнения;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Тугое бинтование – локальные пролежни, другие трофические нарушения, некрозы;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Невыполнение врачебных назначений: измерение темпер, давления и др. – неверная оценка состояния больного, неверное лечение;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Отсутствие элементароного наблюдения и ухода за тяжелыми больными – пролежни, пневмония, аспирац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331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лучай из жизни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4360" y="1773360"/>
            <a:ext cx="403236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мае прошлого года в областную детскую больницу родители привезли двухлетнюю девочку с диагнозом «ОРВИ». Тогда из-за введения медицинского препарата без проведения предварительной пробы реакции на препарат ребенок погиб от анафилактического шока. По данному факту было возбуждено уголовное дело по признакам преступления, предусмотренного ч. 2 ст. 109 Уголовного кодекса РФ («Ненадлежащее выполнение профессиональных обязанностей медицинским или фармацевтическим работником, повлекшее тяжелые последствия для несовершеннолетнего»). Санкция этой статьи предусматривает наказание в виде органичения свободы на строк до пяти лет, или лишения свободы на срок до трех лет, с лишением права занимать определенные должности или заниматься определенно деятельностью на срок до трех лет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2282760"/>
            <a:ext cx="40384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Что делать? Куда идти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Обратиться медицинскому адвокату, который занимается делами, связанными с врачебными ошибка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Функции и полномочия медицинского адвокат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помощь клиентам, получившим телесные повреждения и хронические заболевания из-за халатности и ошибок врачей, персонала больниц, в дорожно-транспортных происшествиях и в других случая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адвокатская защита и представление интересов клиентов в суда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1:12:51Z</dcterms:created>
  <dc:creator>1</dc:creator>
  <dc:description/>
  <dc:language>en-US</dc:language>
  <cp:lastModifiedBy>1</cp:lastModifiedBy>
  <dcterms:modified xsi:type="dcterms:W3CDTF">2012-04-06T15:03:25Z</dcterms:modified>
  <cp:revision>3</cp:revision>
  <dc:subject/>
  <dc:title>Медицинские ошибки.</dc:title>
</cp:coreProperties>
</file>