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4AF-5682-4EF6-8399-DAA76431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F422-A10F-4030-ADBF-99539567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E148-FB3C-429F-96D7-CA925827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3055-8035-4F14-B852-6ECA1F56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65AA-D962-4EB3-847A-E6CD9CADA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4480-5E84-4AB1-838D-C23C1AB1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AF29-8911-4AFF-8834-E1D8545A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30D9-5BA5-4AC6-B362-735EA5B9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F7DD-2C76-45F0-8D73-68E896B2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1D1B-1D5C-4569-A7D9-84933D6C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3270-16B9-4FFD-8666-D75DDCCF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1116-EEB7-465A-BDCB-A49EC6B5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9630-B5D4-4E73-8DF7-878D441F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E6B0-6249-48DA-8F60-57C80529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E015-038A-40C8-A3FC-CFD6CBDA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D60E-5A86-425C-8478-1BB101A7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BDC6-4C3A-4EA1-940A-4FB7234E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414E-511B-48C2-9B64-E296E01A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3646-750A-4982-BD18-4DE807F0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706F-162F-48B6-BF39-B28200A1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CA11-E0C5-478A-B15B-7234F7A0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F85C-6B75-46E4-AD88-D8F83AAE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B65-4CA6-4545-91C0-4D4B4361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03D7-01F1-467F-8803-085AF651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54AC-2A8E-42DC-9B9A-F3DFEF058A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5297-1337-4567-9B7C-B8C2A1ED204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dvokatx.ru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Медицинские ошибки.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Проведенными зарубежными и отечественными исследованиями установлено, что риск умереть от врачебной ошибки , врачебной халатности, медицинской ошибки в десятки и сотни раз выше риска погибнуть от ДТП, в тысячи раз выше риска  по ж/д и авиакатастрофам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4537080" cy="4824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46087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доровье, жизнь и трудоспособность — ценности, на которых строится семейное и социальное благополучие каждого человека.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Потенциал здоровья — капитал, который в течение всей жизни необходимо поддерживать на высоком уровне и к которому стремятся люди во всем цивилизованном мир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Жизнь и здоровье в их прямом смысле сейчас действительно дорогие. Есть люди, которые свое физическое пребывание на нашей земле у страховщиков оценивают в сотни миллионов долларов. Пока мы с Вами живем не в процветающей стране; - нельзя со стороны юристов, медицинских адвокатов и пострадавшим людям давать обещаний, что выиграв процесс с медиками по "медицинской ошибке", доказав вину врачей, пострадавшие по решению суда или его родственники, за допущенную врачебную ошибку или небрежность получат денежную компенсацию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Спасибо за внимание.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00000" y="1746000"/>
            <a:ext cx="6994800" cy="32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900" spc="-1" strike="noStrike">
                <a:solidFill>
                  <a:srgbClr val="080808"/>
                </a:solidFill>
                <a:latin typeface="Arial"/>
              </a:rPr>
              <a:t>Приобретая в магазине пищу, мы оцениваем ее вид и запах, срок изготовления; нанимая плотника, - заранее предвидим результат его будущей работы; посещая парикмахера, мы можем точно рассчитать, как будем выглядеть через 20–30 мин; заключая ипотечный, кредитный договор, мы на годы вперед предвидим его результат. </a:t>
            </a:r>
            <a:br>
              <a:rPr sz="1900"/>
            </a:br>
            <a:r>
              <a:rPr b="1" lang="en-US" sz="1900" spc="-1" strike="noStrike">
                <a:solidFill>
                  <a:srgbClr val="080808"/>
                </a:solidFill>
                <a:latin typeface="Arial"/>
              </a:rPr>
              <a:t>Однако, получая медицинскую услугу, в большинстве случаев мы смутно догадываемся или вообще не представляем, чем для нас закончится медицинское вмешательство, на сколько велик риск …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врачебной ошибки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175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2200"/>
                            </p:stCondLst>
                            <p:childTnLst>
                              <p:par>
                                <p:cTn id="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Arial"/>
              </a:rPr>
              <a:t>О каких деяниях идет речь?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латность, небрежность вр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ерсонала при травм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кстренной, плановой хирур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родах например), п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вазивных методах лечения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агностики в урологии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строэнтерологии, онколог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рологии, других областя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диагностированная инфек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в т.ч. внутрибольничная). Так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тавление интер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радавших, получивш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ьезные теле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реждения (травмы и др)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рожно-транспор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сшествия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4000680" cy="48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435280" y="1267920"/>
            <a:ext cx="34671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ыт организаций, занимающихся защитой прав пациентов, анализ многих медицинских документов на судебных процессах показал, что до 50-70% официальной информации, отраженной в медицинских документах является абсолютно или частично ложной, а значит не отражающей объективную картину статуса здоровья пациен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4824360" cy="39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Ошибки враче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4824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аждом втором случа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рачебна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шибка сопровождается неверным диагнозом, отсутствием диагноза, гипердиагностикой;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аждом третьем случае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рачебная ошибка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сопровождается (при верном диагнозе) неверным лечением или отсутствием лечения;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каждом пятом случае врачебная ошибка сопровождается: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недостаточным опытом или квалификацией врача (фельдшера),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нетипичным развитием или проявлением болезни (нетипичная клиника),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нетипичной реакцией на лекарство или процедуру (анафилаксия и др),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отсутствием диагностических, лечебных методов в больнице, в ряде случаев неисправным оборудованием,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ранняя выписка из стационара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00957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4149720"/>
            <a:ext cx="2484360" cy="20890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5580000" y="1413000"/>
            <a:ext cx="259236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Случай из жизни…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633840" y="1719360"/>
            <a:ext cx="50529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4 сентября в родильном доме № 5 медико-санитарной части № 7 погибли два мальчика 2-го и 4-го дня жизни. Оба ребенка были первыми детьми в семьях. Младенцам по ошибке вместо препарата, избавляющего новорожденных от желтухи, была введена магнезия. 21-летняя медсестра, имеющая красный диплом, работала в роддоме всего три месяца, и никаких нареканий в ее адрес до этого не было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уд Индустриального района Ижевска, который рассматривал трагическое происшествие в роддоме № 5, квалифицировал действия медсестры как причинение смерти по неосторожности вследствие ненадлежащего исполнения своих профессиональных обязанностей. Суд признал медсестру виновной в совершении преступления по ст. 109 ч. 2 УК РФ и назначил ей наказание – 3 года лишения свободы условно. Медсестре назначено дополнительное наказание в виде лишения права заниматься медицинской деятельностью сроком на 3 г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68360" y="1746360"/>
            <a:ext cx="345600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Ошибки среднего мед. персонала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48974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 Часто встречаются такие медицинские ошибки среднего медицинского персонала как введение больному лекарственных веществ, не назначенных врачом, введение лекарств в неверной дозировке или вообще отсутствие введения лекарств. Врачи обычно не контролируют "заправление" капельниц "нужными" лекарственными препаратами со стороны медсестер, фельдшеров, доверяют им.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. Некорректное внутримышечное, внутривенное введение лекарственных веществ с нарушениями правил асептики: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овреждение нервных пучков – нейропатии;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повреждение сосудистых пучков – тромбы, асептические некрозы;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занос инфекции с инъекцией - гнойные осложнения;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. Тугое бинтование – локальные пролежни, другие трофические нарушения, некрозы;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 Невыполнение врачебных назначений: измерение темпер, давления и др. – неверная оценка состояния больного, неверное лечение; 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. Отсутствие элементароного наблюдения и ухода за тяжелыми больными – пролежни, пневмония, аспирации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219640" y="1628640"/>
            <a:ext cx="33130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Случай из жизни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4360" y="1773360"/>
            <a:ext cx="4032360" cy="43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 мае прошлого года в областную детскую больницу родители привезли двухлетнюю девочку с диагнозом «ОРВИ». Тогда из-за введения медицинского препарата без проведения предварительной пробы реакции на препарат ребенок погиб от анафилактического шока. По данному факту было возбуждено уголовное дело по признакам преступления, предусмотренного ч. 2 ст. 109 Уголовного кодекса РФ («Ненадлежащее выполнение профессиональных обязанностей медицинским или фармацевтическим работником, повлекшее тяжелые последствия для несовершеннолетнего»). Санкция этой статьи предусматривает наказание в виде органичения свободы на строк до пяти лет, или лишения свободы на срок до трех лет, с лишением права занимать определенные должности или заниматься определенно деятельностью на срок до трех лет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48320" y="2282760"/>
            <a:ext cx="403848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Что делать? Куда идти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Обратиться медицинскому адвокату, который занимается делами, связанными с врачебными ошибка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Функции и полномочия медицинского адвокат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помощь клиентам, получившим телесные повреждения и хронические заболевания из-за халатности и ошибок врачей, персонала больниц, в дорожно-транспортных происшествиях и в других случая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00"/>
                </a:solidFill>
                <a:latin typeface="Arial"/>
              </a:rPr>
              <a:t>адвокатская защита и представление интересов клиентов в суда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6T11:12:51Z</dcterms:created>
  <dc:creator>1</dc:creator>
  <dc:description/>
  <dc:language>en-US</dc:language>
  <cp:lastModifiedBy>1</cp:lastModifiedBy>
  <dcterms:modified xsi:type="dcterms:W3CDTF">2012-04-06T15:03:25Z</dcterms:modified>
  <cp:revision>3</cp:revision>
  <dc:subject/>
  <dc:title>Медицинские ошибки.</dc:title>
</cp:coreProperties>
</file>