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6121-52DD-42FC-9830-05C3E2FC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1BD-7623-4D40-9EE4-5D86472A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F13-A8BB-4F46-B1A3-0722C159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5D6-9251-4BED-AA28-2ADA1739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A57F-1427-4BC8-B14E-4283CE47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35B-3DB6-4E12-BAD6-4A55DA44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CBC-E4CB-46DB-AFDF-2C60C56D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782F-BCCD-4345-92DE-033C846F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AF1-1ADD-46E8-8ACB-CA0DD3DA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C0C-F9C5-4ADF-9422-F14A6D2A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48A0-5F51-4B75-A976-7D0A9770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52CF-9316-4763-8EC0-5D6DBFDC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724C-6963-48F9-B411-97FE87DE96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361.jp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kalina.ru/index.php?option=com_datsogallery&amp;Itemid=49&amp;func=wmark&amp;mid=44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2/image313.jpg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rdenin.ru/img-encikloped_les_hoza/image453.jpg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rutravi.ru/uploads/www_rutravi_ru/image_upload/257901/medium/00000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Arial"/>
              </a:rPr>
              <a:t>ДЕРЕВЬ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746680" cy="5112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4503240" y="6219720"/>
            <a:ext cx="456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: Васильева А.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ВЯ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1563840" y="907920"/>
            <a:ext cx="560196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ЯС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87280" y="1471680"/>
            <a:ext cx="61200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ОС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Картинка 7 из 20941"/>
          <p:cNvPicPr/>
          <p:nvPr/>
        </p:nvPicPr>
        <p:blipFill>
          <a:blip r:embed="rId1"/>
          <a:stretch/>
        </p:blipFill>
        <p:spPr>
          <a:xfrm>
            <a:off x="1547640" y="1405080"/>
            <a:ext cx="5616720" cy="54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1672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СОС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2124000" y="954000"/>
            <a:ext cx="41274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ЛЁ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Картинка 10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933480"/>
            <a:ext cx="604836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БЕРЁ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578160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ДУ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Картинка 24 из 64000">
            <a:hlinkClick r:id="rId1"/>
          </p:cNvPr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1547640" y="1197000"/>
            <a:ext cx="590400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РЯБ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Картинка 23 из 513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484280"/>
            <a:ext cx="523548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Л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Картинка 24 из 64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1197000"/>
            <a:ext cx="55580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ТОПО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Картинка 5 из 53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1281240"/>
            <a:ext cx="5688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КАШТ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43 из 64000"/>
          <p:cNvPicPr/>
          <p:nvPr/>
        </p:nvPicPr>
        <p:blipFill>
          <a:blip r:embed="rId1"/>
          <a:stretch/>
        </p:blipFill>
        <p:spPr>
          <a:xfrm>
            <a:off x="1692360" y="1341360"/>
            <a:ext cx="57722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"/>
              </a:rPr>
              <a:t>И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Картинка 28 из 64000"/>
          <p:cNvPicPr/>
          <p:nvPr/>
        </p:nvPicPr>
        <p:blipFill>
          <a:blip r:embed="rId1"/>
          <a:stretch/>
        </p:blipFill>
        <p:spPr>
          <a:xfrm>
            <a:off x="1619280" y="1413000"/>
            <a:ext cx="54720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5:03:20Z</dcterms:created>
  <dc:creator>ouruser</dc:creator>
  <dc:description/>
  <dc:language>en-US</dc:language>
  <cp:lastModifiedBy>Art Service</cp:lastModifiedBy>
  <dcterms:modified xsi:type="dcterms:W3CDTF">2017-10-09T19:50:33Z</dcterms:modified>
  <cp:revision>16</cp:revision>
  <dc:subject/>
  <dc:title>Слайд 1</dc:title>
</cp:coreProperties>
</file>