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4C7-97D2-443E-BFA3-51A72407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F24-65BB-49E2-9BEA-1B5B6D58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A0C-184E-49C2-BA03-F030337E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1A3-96F3-4D5D-892F-0F602AC5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272-7D19-4D3E-A099-4D851B5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BDE-F504-4B6F-87CB-09827F87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F02-150F-4873-812D-B08AB620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371-4513-409E-B625-E0DFBD1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C83-DE4A-4ABC-BFD8-D30C5AA6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29A-2328-4B5C-8560-F4FA6FC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F26-399C-4196-ABA7-36C3B045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55F-0064-40C9-9F36-2775A41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CA58-053F-404E-8BFE-0E16BCD28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361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kalina.ru/index.php?option=com_datsogallery&amp;Itemid=49&amp;func=wmark&amp;mid=44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2/image313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453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utravi.ru/uploads/www_rutravi_ru/image_upload/257901/medium/0000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ДЕРЕВ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746680" cy="5112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503240" y="6219720"/>
            <a:ext cx="45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: Васильева А.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Я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563840" y="907920"/>
            <a:ext cx="5601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Я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471680"/>
            <a:ext cx="6120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7 из 20941"/>
          <p:cNvPicPr/>
          <p:nvPr/>
        </p:nvPicPr>
        <p:blipFill>
          <a:blip r:embed="rId1"/>
          <a:stretch/>
        </p:blipFill>
        <p:spPr>
          <a:xfrm>
            <a:off x="1547640" y="1405080"/>
            <a:ext cx="5616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16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2124000" y="954000"/>
            <a:ext cx="4127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Картинка 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933480"/>
            <a:ext cx="60483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781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Картинка 24 из 64000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547640" y="1197000"/>
            <a:ext cx="5904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Картинка 23 из 51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484280"/>
            <a:ext cx="5235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Картинка 2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197000"/>
            <a:ext cx="55580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Картинка 5 из 53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281240"/>
            <a:ext cx="5688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43 из 64000"/>
          <p:cNvPicPr/>
          <p:nvPr/>
        </p:nvPicPr>
        <p:blipFill>
          <a:blip r:embed="rId1"/>
          <a:stretch/>
        </p:blipFill>
        <p:spPr>
          <a:xfrm>
            <a:off x="1692360" y="1341360"/>
            <a:ext cx="57722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Картинка 28 из 64000"/>
          <p:cNvPicPr/>
          <p:nvPr/>
        </p:nvPicPr>
        <p:blipFill>
          <a:blip r:embed="rId1"/>
          <a:stretch/>
        </p:blipFill>
        <p:spPr>
          <a:xfrm>
            <a:off x="1619280" y="1413000"/>
            <a:ext cx="5472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5:03:20Z</dcterms:created>
  <dc:creator>ouruser</dc:creator>
  <dc:description/>
  <dc:language>en-US</dc:language>
  <cp:lastModifiedBy>Art Service</cp:lastModifiedBy>
  <dcterms:modified xsi:type="dcterms:W3CDTF">2017-10-09T19:50:33Z</dcterms:modified>
  <cp:revision>16</cp:revision>
  <dc:subject/>
  <dc:title>Слайд 1</dc:title>
</cp:coreProperties>
</file>