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E90-9E46-4D18-A9FC-C9387A6D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98FC-8D70-40B0-9A03-9D79F72A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BAD7-7E56-43D6-A355-BCD66F46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7D6-F5A7-4F3F-8B55-5F72E91F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B072-B3A5-45EE-AE2D-7040584A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8CB1-2C16-4B17-A89D-66F3322D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26EF-EE8B-4D90-88F7-F0668C40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D738-65DB-48DA-9BCB-0C4AA464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F04B-0C24-4E4D-9E32-6439BA8F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C4B3-83A8-413C-929E-0FB983F0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04D8-CEE4-435E-A634-8D94AC07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9A9-F617-472E-91DE-F58F1313B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955C-1F4D-49DF-81FB-ADED4170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0B89-2E94-44D4-B721-5EB69106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DDC2-1BE7-4E76-8302-DBA0DF11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D1F5-870F-463E-AE6E-7EA6663F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000"/>
            <a:ext cx="250236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566F-74C6-43A6-949F-4CBA1C601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AA1-56EF-490B-85C1-892E1A60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920-CC8C-4A9D-82EC-5C170F2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A1B-98B8-4199-920D-8F05F318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0920" y="214200"/>
            <a:ext cx="7792560" cy="67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DEE-6D07-49BD-A741-4FDACC03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B6F-E346-44CD-8352-DE4565F7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65280" y="41670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6BA4-5BCB-4CDB-97FC-06211C0B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82600" y="4167000"/>
            <a:ext cx="7772040" cy="19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7F60-30EF-4EFA-A086-B264366D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 hidden="1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 hidden="1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 hidden="1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 hidden="1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 hidden="1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 hidden="1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2"/>
          <p:cNvGrpSpPr/>
          <p:nvPr/>
        </p:nvGrpSpPr>
        <p:grpSpPr>
          <a:xfrm>
            <a:off x="0" y="2438280"/>
            <a:ext cx="9009000" cy="1052280"/>
            <a:chOff x="0" y="2438280"/>
            <a:chExt cx="9009000" cy="1052280"/>
          </a:xfrm>
        </p:grpSpPr>
        <p:grpSp>
          <p:nvGrpSpPr>
            <p:cNvPr id="8" name="Group 3"/>
            <p:cNvGrpSpPr/>
            <p:nvPr/>
          </p:nvGrpSpPr>
          <p:grpSpPr>
            <a:xfrm>
              <a:off x="290520" y="2546280"/>
              <a:ext cx="711000" cy="474480"/>
              <a:chOff x="290520" y="2546280"/>
              <a:chExt cx="711000" cy="474480"/>
            </a:xfrm>
          </p:grpSpPr>
          <p:sp>
            <p:nvSpPr>
              <p:cNvPr id="9" name="Rectangle 4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chemeClr val="folHlink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5"/>
              <p:cNvSpPr/>
              <p:nvPr/>
            </p:nvSpPr>
            <p:spPr>
              <a:xfrm>
                <a:off x="673560" y="2546280"/>
                <a:ext cx="32796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Group 6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12" name="Rectangle 7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chemeClr val="accent2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8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" name="Rectangle 9"/>
            <p:cNvSpPr/>
            <p:nvPr/>
          </p:nvSpPr>
          <p:spPr>
            <a:xfrm>
              <a:off x="0" y="2895480"/>
              <a:ext cx="560160" cy="421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10"/>
            <p:cNvSpPr/>
            <p:nvPr/>
          </p:nvSpPr>
          <p:spPr>
            <a:xfrm>
              <a:off x="635040" y="2438280"/>
              <a:ext cx="31320" cy="1052280"/>
            </a:xfrm>
            <a:prstGeom prst="rect">
              <a:avLst/>
            </a:prstGeom>
            <a:solidFill>
              <a:schemeClr val="bg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11"/>
            <p:cNvSpPr/>
            <p:nvPr/>
          </p:nvSpPr>
          <p:spPr>
            <a:xfrm flipV="1">
              <a:off x="316080" y="325980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04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dt" idx="1"/>
          </p:nvPr>
        </p:nvSpPr>
        <p:spPr>
          <a:xfrm>
            <a:off x="99072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ftr" idx="2"/>
          </p:nvPr>
        </p:nvSpPr>
        <p:spPr>
          <a:xfrm>
            <a:off x="3429000" y="624852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90AACB-9CCB-4E9D-BD33-3C2EF138EC6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17600" y="1098720"/>
            <a:ext cx="437760" cy="47448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541440" y="1521000"/>
            <a:ext cx="421920" cy="474480"/>
          </a:xfrm>
          <a:prstGeom prst="rect">
            <a:avLst/>
          </a:prstGeom>
          <a:solidFill>
            <a:schemeClr val="folHlink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911160" y="1521000"/>
            <a:ext cx="36792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27080" y="1447920"/>
            <a:ext cx="560160" cy="421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62120" y="990720"/>
            <a:ext cx="31320" cy="105228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442800" y="1781280"/>
            <a:ext cx="8226000" cy="313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 algn="ctr">
              <a:lnSpc>
                <a:spcPct val="100000"/>
              </a:lnSpc>
            </a:pP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0000"/>
              </a:buClr>
              <a:buSzPct val="55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3333cc"/>
              </a:buClr>
              <a:buSzPct val="50000"/>
              <a:buFont typeface="Wingdings" charset="2"/>
              <a:buChar char=""/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cf01"/>
              </a:buClr>
              <a:buSzPct val="55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657600" y="6243480"/>
            <a:ext cx="289512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42320" y="6243480"/>
            <a:ext cx="190476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BEB1D4-3294-411A-A0A9-D32A6ECDB7C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040" cy="2666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ЕЗЕНТАЦИЯ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по биологии  9 класс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(для детей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VIII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вида)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7238520" cy="3123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Тема: Нервная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итель: учитель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биологии Т.Г.Юн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4258800" cy="6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озвоночник</a:t>
            </a: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4952520" cy="5141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ажнейшая  функция  позвоночника - защита спинного мозг.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пинной</a:t>
            </a: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озг это часть центральной нервной системы. 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Его длина составляет около 45 см от головного мозга до поясничных позвонков, где разветвляются последние оставшиеся нервы. Эта нижняя часть носит название cauda equina, что переводится с латыни как «лошадиный хвост».</a:t>
            </a:r>
            <a:endParaRPr b="0" lang="ru-RU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н омывается спинномозговой жидкостью</a:t>
            </a: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Спинной мозг может </a:t>
            </a:r>
            <a:r>
              <a:rPr b="0" lang="ru-RU" sz="1600" spc="-1" strike="noStrike">
                <a:solidFill>
                  <a:srgbClr val="333399"/>
                </a:solidFill>
                <a:latin typeface="Tahoma"/>
              </a:rPr>
              <a:t>растягиваться, приспосабливаясь к меняющемуся положению тела,</a:t>
            </a:r>
            <a:endParaRPr b="0" lang="ru-RU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2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5181480" y="990720"/>
            <a:ext cx="3769920" cy="4419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162560" cy="62481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33720" y="228600"/>
            <a:ext cx="5097240" cy="699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иномозговые нервы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4455720" cy="4876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инномозговые нервы состоя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из   нервных волокон, или нейронов.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Они делятся на три категории: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  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Двигательные,   которые контролируют движения мышц;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Чувствительные,  , которые проводят импульсы от чувствительных нервных окончаний в разных участках тела к позвоночнику и к головному мозгу;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Смешанные нервы, состоящие как из двигательных, так и из чувствительных  нейронов.</a:t>
            </a:r>
            <a:br>
              <a:rPr sz="2000"/>
            </a:b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809520" cy="5486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0"/>
            <a:ext cx="7792560" cy="14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. </a:t>
            </a:r>
            <a:endParaRPr b="0" lang="ru-RU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3333cc"/>
              </a:buClr>
              <a:buSzPct val="60000"/>
              <a:buFont typeface="Wingdings" charset="2"/>
              <a:buChar char=""/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078320" cy="77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Нервная система ЦНС 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3693600" cy="4114440"/>
          </a:xfrm>
          <a:prstGeom prst="rect">
            <a:avLst/>
          </a:prstGeom>
          <a:ln w="9525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2"/>
          <a:srcRect l="0" t="39186" r="0" b="-34819"/>
          <a:stretch/>
        </p:blipFill>
        <p:spPr>
          <a:xfrm>
            <a:off x="4343400" y="2819520"/>
            <a:ext cx="4800240" cy="3580920"/>
          </a:xfrm>
          <a:prstGeom prst="rect">
            <a:avLst/>
          </a:prstGeom>
          <a:ln w="9525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1295280" y="1143000"/>
            <a:ext cx="2057040" cy="1523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chemeClr val="hlink"/>
                </a:solidFill>
                <a:latin typeface="Tahoma"/>
              </a:rPr>
              <a:t>Голов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chemeClr val="hlink"/>
                </a:solidFill>
                <a:latin typeface="Tahoma"/>
              </a:rPr>
              <a:t>Спинной моз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ff0000"/>
              </a:buClr>
              <a:buFont typeface="StarSymbol"/>
              <a:buChar char="-"/>
            </a:pPr>
            <a:r>
              <a:rPr b="1" lang="ru-RU" sz="1800" spc="-1" strike="noStrike">
                <a:solidFill>
                  <a:schemeClr val="hlink"/>
                </a:solidFill>
                <a:latin typeface="Tahoma"/>
              </a:rPr>
              <a:t>-Нер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495680" y="1523880"/>
            <a:ext cx="4343040" cy="1218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chemeClr val="hlink"/>
                </a:solidFill>
                <a:uFillTx/>
                <a:latin typeface="Tahoma"/>
              </a:rPr>
              <a:t>Головной мозг-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центр управления те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то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из двух полушарий (левое и право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6849720" cy="9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Строение головного мозга</a:t>
            </a:r>
            <a:endParaRPr b="0" lang="ru-RU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324120" cy="4976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8257680" cy="313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            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Головной мозг </a:t>
            </a:r>
            <a:br>
              <a:rPr sz="40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онтролирует:</a:t>
            </a:r>
            <a:br>
              <a:rPr sz="40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что вы делаете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чувствуете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думаете</a:t>
            </a:r>
            <a:br>
              <a:rPr sz="1800"/>
            </a:b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обрабатывает и получает:</a:t>
            </a:r>
            <a:br>
              <a:rPr sz="24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информацию от всех органов тела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посылает информацию к мышцам</a:t>
            </a:r>
            <a:br>
              <a:rPr sz="1800"/>
            </a:br>
            <a:r>
              <a:rPr b="1" lang="ru-RU" sz="1800" spc="-1" strike="noStrike">
                <a:solidFill>
                  <a:schemeClr val="hlink"/>
                </a:solidFill>
                <a:latin typeface="Tahoma"/>
              </a:rPr>
              <a:t>Он соединяется с органами при помощи нервов, спинного мозга</a:t>
            </a:r>
            <a:endParaRPr b="0" lang="ru-RU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0" t="31182" r="0" b="0"/>
          <a:stretch/>
        </p:blipFill>
        <p:spPr>
          <a:xfrm>
            <a:off x="1182600" y="3352680"/>
            <a:ext cx="6741720" cy="3276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77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Нервные клетки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182600" y="1219320"/>
            <a:ext cx="7122600" cy="49129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2376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 его помощью:</a:t>
            </a:r>
            <a:br>
              <a:rPr sz="24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двигаются руки и ноги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создаются движения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 чувствуются предметы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Головной мозг имеет 12 пар нервов</a:t>
            </a:r>
            <a:endParaRPr b="0" lang="ru-RU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0" t="29179" r="0" b="0"/>
          <a:stretch/>
        </p:blipFill>
        <p:spPr>
          <a:xfrm>
            <a:off x="838080" y="2590920"/>
            <a:ext cx="6476760" cy="40381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290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           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инной мозг</a:t>
            </a:r>
            <a:br>
              <a:rPr sz="36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-ширина 1,8 см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Два слоя: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внутренний (серое вещество)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наружный (белое вещество)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пинной мозг обтянут фиброровой тканью, имеющей 3 слоя:</a:t>
            </a: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31479" r="0" b="0"/>
          <a:stretch/>
        </p:blipFill>
        <p:spPr>
          <a:xfrm>
            <a:off x="1143000" y="3200400"/>
            <a:ext cx="6933960" cy="3200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1690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инной мозг проходит вдоль всего позвоночника.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182600" y="2017800"/>
            <a:ext cx="7772040" cy="41144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792560" cy="775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Участок спинного мозга человека</a:t>
            </a:r>
            <a:endParaRPr b="0" lang="ru-RU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182600" y="1371600"/>
            <a:ext cx="7772040" cy="4760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алитра">
  <a:themeElements>
    <a:clrScheme name="Палитра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алитра">
  <a:themeElements>
    <a:clrScheme name="Палитра 3">
      <a:dk1>
        <a:srgbClr val="000000"/>
      </a:dk1>
      <a:lt1>
        <a:srgbClr val="ffffff"/>
      </a:lt1>
      <a:dk2>
        <a:srgbClr val="333399"/>
      </a:dk2>
      <a:lt2>
        <a:srgbClr val="1c1c1c"/>
      </a:lt2>
      <a:accent1>
        <a:srgbClr val="00e4a8"/>
      </a:accent1>
      <a:accent2>
        <a:srgbClr val="ffcf01"/>
      </a:accent2>
      <a:accent3>
        <a:srgbClr val="ffffff"/>
      </a:accent3>
      <a:accent4>
        <a:srgbClr val="000000"/>
      </a:accent4>
      <a:accent5>
        <a:srgbClr val="aaefd1"/>
      </a:accent5>
      <a:accent6>
        <a:srgbClr val="e7bb01"/>
      </a:accent6>
      <a:hlink>
        <a:srgbClr val="ff0000"/>
      </a:hlink>
      <a:folHlink>
        <a:srgbClr val="3333cc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Blends</Template>
  <TotalTime>75</TotalTime>
  <Application>LibreOffice/7.4.7.2$Linux_X86_64 LibreOffice_project/40$Build-2</Application>
  <AppVersion>15.0000</AppVersion>
  <Words>191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601-01-01T00:00:00Z</dcterms:created>
  <dc:creator/>
  <dc:description/>
  <dc:language>en-US</dc:language>
  <cp:lastModifiedBy>Admin</cp:lastModifiedBy>
  <cp:lastPrinted>1601-01-01T00:00:00Z</cp:lastPrinted>
  <dcterms:modified xsi:type="dcterms:W3CDTF">2017-10-08T15:44:4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  <property fmtid="{D5CDD505-2E9C-101B-9397-08002B2CF9AE}" pid="4" name="Version">
    <vt:r8>1</vt:r8>
  </property>
</Properties>
</file>