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242-BC5E-41D7-B913-95C36D57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863-A39E-4FF5-815C-14DDC1A9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52F-2C45-4B82-98E1-DE247C7E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9D6-8B4E-41DD-9257-0E4CDEE4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EABD-B4A1-42F2-A845-25D795AA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B702-415F-43FE-939E-5960702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AA9-490D-4676-8B0D-F5D56642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BFC7-C043-4DEB-A986-75C0822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EDA-06CA-4DA0-AC10-97166620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E7A1-E62E-4249-83A4-479F938D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BF3-3A98-40E8-8A92-F9A606E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163-202C-46AE-80E9-ADC2A02B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4B6A-A9F2-4E4E-BC9B-A6C2794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24EE-402F-45C5-9902-7E4C6CF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2BEF-12ED-405C-9CC9-54C26085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A28F-90B8-41B6-8B76-95115FC4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4BB2-500E-4958-8B03-9BFE9514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795-9EFA-4FBA-88E4-161CDA8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1AA-9A9F-43D6-913A-0908873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58D-419A-4B03-8BEC-9509D43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0F4-A429-428E-A9AF-57813C6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97C-47C3-4D70-BB6D-76E10AA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86C-EAC9-4713-8E8C-8160E07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DFC-BAD5-4291-BB01-90084F6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2"/>
          <p:cNvGrpSpPr/>
          <p:nvPr/>
        </p:nvGrpSpPr>
        <p:grpSpPr>
          <a:xfrm>
            <a:off x="0" y="2438280"/>
            <a:ext cx="9009000" cy="1052280"/>
            <a:chOff x="0" y="2438280"/>
            <a:chExt cx="9009000" cy="1052280"/>
          </a:xfrm>
        </p:grpSpPr>
        <p:grpSp>
          <p:nvGrpSpPr>
            <p:cNvPr id="8" name="Group 3"/>
            <p:cNvGrpSpPr/>
            <p:nvPr/>
          </p:nvGrpSpPr>
          <p:grpSpPr>
            <a:xfrm>
              <a:off x="290520" y="2546280"/>
              <a:ext cx="711000" cy="474480"/>
              <a:chOff x="290520" y="2546280"/>
              <a:chExt cx="711000" cy="474480"/>
            </a:xfrm>
          </p:grpSpPr>
          <p:sp>
            <p:nvSpPr>
              <p:cNvPr id="9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5"/>
              <p:cNvSpPr/>
              <p:nvPr/>
            </p:nvSpPr>
            <p:spPr>
              <a:xfrm>
                <a:off x="673560" y="2546280"/>
                <a:ext cx="32796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12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" name="Rectangle 9"/>
            <p:cNvSpPr/>
            <p:nvPr/>
          </p:nvSpPr>
          <p:spPr>
            <a:xfrm>
              <a:off x="0" y="2895480"/>
              <a:ext cx="56016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0"/>
            <p:cNvSpPr/>
            <p:nvPr/>
          </p:nvSpPr>
          <p:spPr>
            <a:xfrm>
              <a:off x="635040" y="2438280"/>
              <a:ext cx="31320" cy="10522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1"/>
            <p:cNvSpPr/>
            <p:nvPr/>
          </p:nvSpPr>
          <p:spPr>
            <a:xfrm flipV="1">
              <a:off x="316080" y="325980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04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dt" idx="1"/>
          </p:nvPr>
        </p:nvSpPr>
        <p:spPr>
          <a:xfrm>
            <a:off x="9907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37C8EB-2A90-4B15-89FE-6F50FB2C764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FF1795-6217-461A-AA62-03DB8345C2A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 биологии  9 класс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для детей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II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вида)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7238520" cy="312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: Нерв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итель: учител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иологии Т.Г.Юн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4258800" cy="6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озвоночник</a:t>
            </a: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4952520" cy="5141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ажнейшая  функция  позвоночника - защита спинного мозг.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инной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озг это часть центральной нервной системы.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Его длина составляет около 45 см от головного мозга до поясничных позвонков, где разветвляются последние оставшиеся нервы. Эта нижняя часть носит название cauda equina, что переводится с латыни как «лошадиный хвост».</a:t>
            </a:r>
            <a:endParaRPr b="0" lang="ru-RU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н омывается спинномозговой жидкостью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инной мозг может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растягиваться, приспосабливаясь к меняющемуся положению тела,</a:t>
            </a:r>
            <a:endParaRPr b="0" lang="ru-RU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3769920" cy="441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162560" cy="6248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5097240" cy="6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номозговые нервы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45572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инномозговые нервы состоя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из   нервных волокон, или нейронов.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ни делятся на три категории: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гательные,   которые контролируют движения мышц;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увствительные,  , которые проводят импульсы от чувствительных нервных окончаний в разных участках тела к позвоночнику и к головному мозгу;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мешанные нервы, состоящие как из двигательных, так и из чувствительных  нейронов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520" cy="5486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. </a:t>
            </a: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78320" cy="77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рвная система ЦНС 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693600" cy="411444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rcRect l="0" t="39186" r="0" b="-34819"/>
          <a:stretch/>
        </p:blipFill>
        <p:spPr>
          <a:xfrm>
            <a:off x="4343400" y="2819520"/>
            <a:ext cx="4800240" cy="3580920"/>
          </a:xfrm>
          <a:prstGeom prst="rect">
            <a:avLst/>
          </a:prstGeom>
          <a:ln w="9525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295280" y="1143000"/>
            <a:ext cx="2057040" cy="152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Спин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-Нер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495680" y="1523880"/>
            <a:ext cx="4343040" cy="121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chemeClr val="hlink"/>
                </a:solidFill>
                <a:uFillTx/>
                <a:latin typeface="Tahoma"/>
              </a:rPr>
              <a:t>Головной мозг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центр управления т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о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из двух полушарий (левое и прав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84972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троение головного мозга</a:t>
            </a: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120" cy="4976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8257680" cy="31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Головной мозг </a:t>
            </a:r>
            <a:br>
              <a:rPr sz="40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онтролирует:</a:t>
            </a:r>
            <a:br>
              <a:rPr sz="40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что вы делаете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чувствуете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думаете</a:t>
            </a:r>
            <a:br>
              <a:rPr sz="18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рабатывает и получает:</a:t>
            </a:r>
            <a:br>
              <a:rPr sz="24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информацию от всех органов тела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посылает информацию к мышцам</a:t>
            </a:r>
            <a:br>
              <a:rPr sz="1800"/>
            </a:b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Он соединяется с органами при помощи нервов, спинного мозга</a:t>
            </a: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0" t="31182" r="0" b="0"/>
          <a:stretch/>
        </p:blipFill>
        <p:spPr>
          <a:xfrm>
            <a:off x="1182600" y="3352680"/>
            <a:ext cx="6741720" cy="32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77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ервные клетки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182600" y="1219320"/>
            <a:ext cx="7122600" cy="4912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23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 его помощью:</a:t>
            </a:r>
            <a:br>
              <a:rPr sz="24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двигаются руки и ноги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создаются движения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чувствуются предмет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ловной мозг имеет 12 пар нервов</a:t>
            </a: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0" t="29179" r="0" b="0"/>
          <a:stretch/>
        </p:blipFill>
        <p:spPr>
          <a:xfrm>
            <a:off x="838080" y="2590920"/>
            <a:ext cx="6476760" cy="4038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29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нной мозг</a:t>
            </a:r>
            <a:br>
              <a:rPr sz="36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ширина 1,8 см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ва слоя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внутренний (серое вещество)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наружный (белое веществ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пинной мозг обтянут фиброровой тканью, имеющей 3 слоя: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31479" r="0" b="0"/>
          <a:stretch/>
        </p:blipFill>
        <p:spPr>
          <a:xfrm>
            <a:off x="1143000" y="3200400"/>
            <a:ext cx="6933960" cy="32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690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нной мозг проходит вдоль всего позвоночника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04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77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часток спинного мозга челове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7772040" cy="4760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алитра">
  <a:themeElements>
    <a:clrScheme name="Палитра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алитра">
  <a:themeElements>
    <a:clrScheme name="Палитра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ends</Template>
  <TotalTime>75</TotalTime>
  <Application>LibreOffice/7.4.7.2$Linux_X86_64 LibreOffice_project/40$Build-2</Application>
  <AppVersion>15.0000</AppVersion>
  <Words>191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Admin</cp:lastModifiedBy>
  <cp:lastPrinted>1601-01-01T00:00:00Z</cp:lastPrinted>
  <dcterms:modified xsi:type="dcterms:W3CDTF">2017-10-08T15:44:4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  <property fmtid="{D5CDD505-2E9C-101B-9397-08002B2CF9AE}" pid="4" name="Version">
    <vt:r8>1</vt:r8>
  </property>
</Properties>
</file>