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5BD-5A28-410D-B926-0F0CAD56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DF0-4D53-4079-9631-CEA13B07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2EE-AC47-4E8D-81A6-3D25BAEB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8DE-D10B-4D41-B424-AD89D395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9054-E930-44A0-A790-E39E1361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C79C-8E0D-45AD-AFC4-D7ED5A3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EDDF-A4FA-4BAB-9AE5-1C88C503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E80A-9259-4911-8C2D-9A11875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1C09-BB42-4127-8168-80B215A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1E6A-1B23-44F7-83D8-D41C4405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3B7D-9B64-477D-9411-8B73DFFF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3FE-5844-49D1-BC5B-39382EA3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3CB-70DC-4101-A2E0-99CBAC1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BB0-3FDF-4A17-8F6D-CE56453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C4B-667F-4E59-8389-29FEA55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7DAD-6C67-4235-81B9-40C579FB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08E0-DF82-47C2-B004-0E79DD1F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B61E-175E-4843-BC09-FA5B32D2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4D7F-68E0-4D2A-929A-2D7F127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0C89-590D-4EC2-BEB8-F5FCAA6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A3DB-EA23-4E9B-9A0D-70A5E74D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55D9-91E5-419C-96A8-BE647CA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F54-B567-4296-8C5F-133C4EFF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5607-28E6-4100-A7DD-9FC441E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EA98-F929-4B33-AE14-9C89D9F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AFE5-912C-4E9F-9F70-513F7603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90C7-EC48-4DBF-9ABB-D07974F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6819-6333-4DCE-AED3-B8256280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7F84-37E4-41F0-957D-6C2D2A8D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F8D9-E3CA-4900-90CA-B0F4F480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4CE9-C380-40E9-85C2-83A5B117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C7D9-5F5A-43AE-B512-F78FC421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0A50-9FA9-4D00-8C81-DCC0F2A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9A1-76DD-4DD2-8DFF-29B9F738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CA9D-1A8D-407E-9D81-14DB72A6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1738-24E8-4D23-BED6-B2926EB4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17A8C-C6C6-4FA4-96BB-B614565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C748-1786-4433-B875-76718DD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5D83-2649-47BF-ADFF-E619812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31BE-323E-4213-A750-DE4C75C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616F-EAB2-4350-8681-602CD604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F5A3-5AAD-4255-BFE5-B6C6DA1F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3657-1320-41F8-8B8C-9E6B6BEA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1DB-686B-4E6A-8881-7BEBDF0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1C2-794A-432E-84D5-EF72357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9E0-C98B-4379-AE30-691143FE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462-CA02-43B0-B0A4-8D7201A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BC9-5205-4F8F-9AF2-C71350BF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6CEF-660C-465B-8D74-D2DDE9097A8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48F3-5E27-45C7-8222-AD373BB201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E1D-F292-4C69-8139-450589A859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F49-ABC6-451C-8F07-354A0F3E441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extBox 3" descr=""/>
          <p:cNvPicPr/>
          <p:nvPr/>
        </p:nvPicPr>
        <p:blipFill>
          <a:blip r:embed="rId1"/>
          <a:stretch/>
        </p:blipFill>
        <p:spPr>
          <a:xfrm>
            <a:off x="865080" y="1073160"/>
            <a:ext cx="6778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9:36:18Z</dcterms:created>
  <dc:creator>lapalelik</dc:creator>
  <dc:description/>
  <dc:language>en-US</dc:language>
  <cp:lastModifiedBy>Dimas</cp:lastModifiedBy>
  <dcterms:modified xsi:type="dcterms:W3CDTF">2012-12-01T10:43:42Z</dcterms:modified>
  <cp:revision>1</cp:revision>
  <dc:subject/>
  <dc:title>Презентация PowerPoint</dc:title>
</cp:coreProperties>
</file>