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B7DA-DF4D-4FC1-B48A-CECC8A49C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9762-CC68-43FB-9321-B28FD5FB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D1E0-2EE0-4211-B3C5-295567E82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5532-0DB8-447D-B789-80EA1048B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B80E-60EE-4383-AE80-23FBFFBA2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A59F-6D98-49A6-B1B7-B18FDBB7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F1D8C-8D87-41AB-AD1B-F251CA3C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3D03-448A-4FEA-B739-4113AF34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4700-95FC-4776-AD0A-94B71DD3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A5AEC-4993-434A-B824-79EA31D1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BC05-9BEB-4EBE-B747-6C551F80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0044-C103-4848-8EE8-3546A646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933A-D718-4C10-8510-BA3EC44A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F264-8AB3-4C3A-846A-8D317E6A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9BD9-35E4-4BF0-9938-C1DBA2CA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958A-341E-4747-87E9-6CAF1E416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F5D8-6093-4A92-B145-83FD6D34D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994BB-0D0F-4B57-9CE5-D15A1E3EF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88347-69B8-4053-B9DD-7796BCC1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D0D84-D75A-4204-9041-FD28E050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3A047-A829-45AA-9926-4F3E872D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CD856-DD3D-4A07-93AC-11266D0C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6C5E-0992-4CDA-8C53-E8C8009F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FCF2A-6A17-4D61-AEF7-483BC33F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FEF6C-7A1C-419D-AA65-D3A784A5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1F5C7-9ABC-4482-BA56-8D0CB892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362FA-0926-44CB-8D98-E3730E0E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6FAF3-EBC2-4DD2-9A41-25B6F8F1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516A1-B3BD-44AC-808E-DBB5F5A40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242DF-9918-4B3E-A221-14BD649C2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E0551-306C-485F-8712-E69CB0419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35037-A4D1-4E08-B43B-6239B0E6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CA0C2-F1FB-4437-B10C-DB642C59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6535-64C1-4401-8D84-03A3C3F9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79D7B-8BF8-4A92-B4AC-EBAF3ED6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8CC65-58A7-445F-8C84-8F06C20D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33912-2CC2-4D8F-A581-D319CEB3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95738-718D-498F-8E24-ED5D2522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50B97-5FE5-45AF-B44D-C4D92522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39EC1-D1E6-41D9-8AD8-FE8AC797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3D612-7BED-4C8F-B352-4C5F6601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5F4CF-B823-4864-837E-976B5D8B2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F98EE-00FC-4883-AE10-A3EAAEC8B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7D87-24A7-493E-A39C-A4DA956D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0094-13E5-463E-831C-744508CDA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7D93-C1D4-420C-94A2-CA8AD275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A1B3-81DD-40BE-8C6F-42756E24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7D06-80D8-4C67-9E5C-7301E138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EFA9-FF70-4BF8-A40E-2BAB547391B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C46A-D1E9-4245-9B13-E28810AB771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3114-D2C0-42A5-A827-FBAC2A519C6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2C5A-93E6-4331-B69A-829DA711313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TextBox 3" descr=""/>
          <p:cNvPicPr/>
          <p:nvPr/>
        </p:nvPicPr>
        <p:blipFill>
          <a:blip r:embed="rId1"/>
          <a:stretch/>
        </p:blipFill>
        <p:spPr>
          <a:xfrm>
            <a:off x="865080" y="1073160"/>
            <a:ext cx="677880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09:36:18Z</dcterms:created>
  <dc:creator>lapalelik</dc:creator>
  <dc:description/>
  <dc:language>en-US</dc:language>
  <cp:lastModifiedBy>Dimas</cp:lastModifiedBy>
  <dcterms:modified xsi:type="dcterms:W3CDTF">2012-12-01T10:43:42Z</dcterms:modified>
  <cp:revision>1</cp:revision>
  <dc:subject/>
  <dc:title>Презентация PowerPoint</dc:title>
</cp:coreProperties>
</file>