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79D-0506-463B-A4F7-83FD28C3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03D-5B44-4FEC-B077-EF811DB5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F22-BBB5-44FE-97C9-5A71D0FE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19C-0413-464A-8820-836F6230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B51F-9411-4167-BA62-7FE0EF04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0802-B3D8-4A68-893C-78D52360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01E8-E784-40FD-94F4-C0611CE4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E7AF-BA03-4FB8-A4DA-604BD1C2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440E-45E6-4C66-997F-EAA323E4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9DC9-F47D-45DF-8A82-831EC002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E12B-9E5D-4885-ADE5-3C8D6529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CD5-F464-4750-9641-047BA998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0D0F-D9F6-428B-8C8E-12347E5B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7E62-CDDA-4164-9B3E-8B1C6644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640-A889-482F-92D8-DAD2D62E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08BC-2EC5-4787-8AF0-20844EAD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0F51-572E-4763-BD9C-6D67937C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64EC-3696-4FC2-BAEA-054D2697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2259-ED23-4955-BA88-EAECBA7C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A23A-ED91-4FC4-B58C-240876A8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B3B6-7B8E-4143-8BAB-DF1EB775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8C0C-2FBF-4AAF-A0C2-A75E2121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9C4-B2C6-4A9B-8E88-AC683FBE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14507-5AE8-4003-B336-FBB4EC53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797B-B007-4983-96F3-CFB33AC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9833-A34D-4093-BEBB-28A4EBFD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6C05-5F69-49A1-A3F6-84007EB6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7DBC2-47C1-4C2C-BE09-B13AF0E3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595C-B2BB-4DBB-A029-8E9F9D1F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9BF9F-94FA-4088-B0EF-0B718065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0F97-27C8-4DF8-BDD3-4932F05D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64F82-A5DC-499B-8E36-05F64599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55DC4-9E97-45D1-BE99-D9425A01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42E-46FA-42C7-896B-D1567027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66618-A1B7-466B-9B9A-D13BD181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3EE95-3F20-417D-9FF8-8CBF79F3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4AE4-F5A0-496D-ACC0-1738A2F9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5B97C-0343-4B8F-B29E-A118411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3C2C4-FDF9-4452-A32D-3D5FCCC0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A2A2-CB6F-4A84-93EA-2BC1D0A0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EC76-0BB7-4507-B3A1-7902AC82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7D3D-D97A-481A-B29E-D360ECD8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01D0A-CF14-4373-9A0A-56A1BBBD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ABA9A-C1CC-4B2E-AB6C-48266A4D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A2F-DE83-4F9B-A25C-5E7706F8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62A6F-F7C2-471E-97E2-7A369CC6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7395-09F3-4D01-977A-05D4EBB4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F981E-1267-48D7-BB8F-1DA5A94A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5BBFA-1822-4F62-8B16-560CA03E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B58F8-1C10-488B-ABDC-74B1FC30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D63BC-8856-403C-A635-CB5B363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9E13E-EEB6-4E19-B998-57D34192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420A-96B5-41FD-9315-729A3E18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3783-1472-4BF8-96A1-1F47BEBB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8E02-3ABB-43B6-A1FD-A64A0AF2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4E1-84EF-4AF3-AFEA-DAFCEBC3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B584-064A-4EA1-BB10-7308E38D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96485-985D-473A-9B97-0ABBB02D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EE653-72C0-4BC8-9CF9-48A2293C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BFCAB-905D-4AEC-8E4E-0D81341E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2E7A-C9DE-4FA9-A7AC-BE299942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DE16-A437-4D4A-8D23-8FE9561C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53037-AD92-4BF1-9302-4AE9BF37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F4825-A396-4F57-87F6-DB0CDC0B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1B373-D5DC-47A3-9519-30A6ECE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2AE7A-69C2-4731-B2C7-A6758882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B21-D6EF-4B49-B74B-334C751A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BEAE0-A06A-4EAD-8218-8B6139A8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BB5BD-1494-4912-A67F-DA8A54FF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16B79-F5E4-4BD7-AB95-F82BD263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E9F2F-9E8B-4FFD-A323-D9A18B60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3D57B-1B5B-40F9-9DA3-C9876235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1F314-C170-41E8-B731-2DEFCC02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E525B-E7B7-4A58-A13D-1469D12A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20148-4184-4852-A2D2-12298598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598A5-80D2-4047-912D-A694481F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7739E-455F-43B6-AD93-11450632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2A1-6DA1-4D6C-ABB3-73C0154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31E06-80BC-4FF0-9223-AE0F1EF5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C5FC1-05D5-4754-A714-44A54624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5D864-EAC1-4B67-BB49-C4AAE649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7A721-153F-4B26-84EA-71F855B7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6075A-F3B1-405C-A3B4-629EFD78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D83-ACF1-4A0D-BADC-69DB95BF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2BD5-2248-41D3-B3A4-786C5F91D3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2822-9AF4-492B-821E-4C37C99A4F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DC82-151F-41D6-AC7B-31CA8AFB77B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E55C-F373-4909-AE28-785C81FEA6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D8C5-2935-4F48-92DD-10F22628AF9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D9F2-E5C3-4B3D-88C5-11CD1FAC04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5F11-CB0C-401B-9CBD-7F56BD2FEDF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0720"/>
            <a:ext cx="66322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8:57:53Z</dcterms:created>
  <dc:creator>lapalelik</dc:creator>
  <dc:description/>
  <dc:language>en-US</dc:language>
  <cp:lastModifiedBy>Dimas</cp:lastModifiedBy>
  <dcterms:modified xsi:type="dcterms:W3CDTF">2012-12-01T10:44:41Z</dcterms:modified>
  <cp:revision>1</cp:revision>
  <dc:subject/>
  <dc:title>Презентация PowerPoint</dc:title>
</cp:coreProperties>
</file>