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638-A4ED-415D-AA95-F4C33279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68A-6ED2-44D0-922A-9FB300C9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3A55-4AF5-4B63-B6B2-52EE159C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5243-4BA6-4BFB-87CF-016C98F3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B08B-1B88-4590-ADF7-BFB64A07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C5AE-C742-4745-ACF5-8DFBC96E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A5E-B185-44E7-B804-0EAAC966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BF5E-096D-42C4-9DB4-1F0FBD41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AFD24-D33F-48E9-B590-EC21EAFE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493D-B281-4DC0-84F6-32D766FE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35E6-90DE-4DB2-B9DB-9176A3C7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17C-3E89-46DA-A160-70534ACC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2CF3-CAB2-4AED-B719-8F570686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CF4-C36E-48F8-84CE-65DB1CF0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76A6-7DF8-4A47-AEB2-A982B9E03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00A5-F3CD-4632-81B2-28248F31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1180-0437-4C6A-BBD6-7E5AEC1B4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95DA-34CD-4798-9324-1EEE6CC62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9DDF4-3D04-4BEA-A931-028D539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27FDF-05C0-40E4-917C-19FC4BB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2A671-CB30-4800-AD9C-0D32229F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5A693-BEC3-4B8C-989C-5D9154CC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871C-5327-4063-BC3C-997B34ED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76F87-3A2A-44B8-BC71-704A2CEE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69908-F12C-4971-AADA-0C1502EDB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1840-1F94-4895-96AA-28C9EC57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8B0E-F29A-42B9-94CE-8C76ED36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46308-B07A-4268-818D-BEFA21B1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6466E-0884-4572-9A6E-D2FEC527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F3E4-282E-44E1-A2F6-ADEBE36A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1D032-15EF-4870-94B0-02D3FFA6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DA0D7-CFEE-45E3-A445-84353DAA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5AC77-F4F8-4CDA-B8C6-80083516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65B-FB41-4B37-8ECF-617BA10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B6446-3F4F-45AA-A8BF-41A6BB86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99E3E-4297-4FF1-BEB2-81F57210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A7727-9733-4499-A10B-484A6C3F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410EA-F6D4-4359-9393-D7B249F2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6F08-9B95-49E9-95D3-3BBD1BC1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1D231-DF9F-4311-9DF1-F0CFCB2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87B75-625A-4C4C-BC5B-3091FE6C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E2515-105A-4D8B-9C61-F9A90F46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8884-85AC-4741-A778-028A94D4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2DCC4-D32B-432D-9A8B-A7E46CCD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FE3-65E5-43C3-80E7-81FC7EF9C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52A2E-C87C-4CED-8698-428E82D8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93A55-EC16-4357-88F6-EBB83AA7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8CA8-5791-422D-9A9F-F0ED0F1F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13096-1E89-4F58-B344-7DEB8D8B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28FD-2469-484C-B95D-4AB8EFB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E8027-09E7-4295-B8CB-6459FD58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88689-629F-4EB7-B6A3-4CFBBD74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FDA63-90A1-4A4D-A8BD-83DAC469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D67D-5622-47D8-AB28-5DD5FEC0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998F8-969C-436B-9988-9783923FE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43B-B869-47FA-B239-07EDF01F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B16D7-98D5-4E3C-AD3F-05BF1BB4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E931F-3325-44F2-B683-66BA45B7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9959F-38C6-470F-A0D9-DBBE8264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E5670-7DC1-43E3-8E2D-F3A3314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A4EDF-516B-4B57-8B1E-E323CD90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CE64A-0061-4C1E-AE14-0D9A92C8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EB2FF-3E62-4275-9BC8-49672C4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3961D-1E96-4D2E-8978-5D6619F7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2584D-5FB1-43C2-AFEE-C16C5A0E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12080-750A-40BC-9449-BC6646D5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C8EC-DB94-4456-8FD5-54FBD1C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07850-C388-4B7A-B853-75D777C0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C32B4-4449-479F-A220-A5AC7FB9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133CB-4BA0-4A3B-92A8-A5330672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2F59F-A711-483A-93CC-5669ED17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132E-1B8F-452E-9A8B-7F91F207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D07F7-3696-44DA-9D8A-49124119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E5A84-BEC9-4955-89E0-49B0F18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E3859-1735-4D6F-A41A-838FFA84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6A264-0214-4BD9-8A48-C1C3C31C1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DAC25-B6F5-4C5B-9573-105C784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2D9-EA6D-46B4-A7D9-C55B3646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07A98-D16D-4C3D-A51F-C269A0F0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2DA5F-12E7-478E-B7B2-86B9F0CC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87B2-C2ED-4FB5-9B0B-DE6F6516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735FA-0260-4B3A-A36D-1BD511569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90B2-0547-4532-B9D6-0ADFA44FC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547-C0D9-4FD1-B7AC-9556074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E36A-7986-4308-B307-C2BAE3E3D9A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DFB7-89F8-46D2-BD9D-9113DDED23C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9588B-AD0C-4453-9CD3-367DFA9A82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169A-22DA-4467-B60C-8CEA081E3BF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350-F76E-400F-B935-04B1198D97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382A-FE0F-43A1-BCC2-E521867DDF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22A2E-245A-42EB-9A18-3E4636B64C5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Прямоугольник 3" descr=""/>
          <p:cNvPicPr/>
          <p:nvPr/>
        </p:nvPicPr>
        <p:blipFill>
          <a:blip r:embed="rId1"/>
          <a:stretch/>
        </p:blipFill>
        <p:spPr>
          <a:xfrm>
            <a:off x="1219320" y="450720"/>
            <a:ext cx="663228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18:57:53Z</dcterms:created>
  <dc:creator>lapalelik</dc:creator>
  <dc:description/>
  <dc:language>en-US</dc:language>
  <cp:lastModifiedBy>Dimas</cp:lastModifiedBy>
  <dcterms:modified xsi:type="dcterms:W3CDTF">2012-12-01T10:44:41Z</dcterms:modified>
  <cp:revision>1</cp:revision>
  <dc:subject/>
  <dc:title>Презентация PowerPoint</dc:title>
</cp:coreProperties>
</file>