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6E6-6303-4E49-9D55-F13B06BF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131-2164-47F4-ABBF-45E2973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99F-7CA4-4C3F-BC07-B55C9774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7DD-E108-45FB-A5DA-679EE4EB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B59-3F5E-4522-8021-CAFB0252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98C-2A02-4725-BC3D-98FD014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D94-1464-4388-AC3D-0AAF16A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010-4DD8-4783-9BB6-C348CC13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C79-4CEC-41AF-BE33-A062577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708-9C02-4F9F-B578-4E2BCFE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DAC-FB55-427C-8938-649DF23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702-429F-4016-A2B9-BEEBA4C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2" marL="108576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3" marL="151992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4" marL="195444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5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6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D61D-E55E-48CF-B1FC-CAAEFD132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489800" cy="56181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sp>
        <p:nvSpPr>
          <p:cNvPr id="43" name="WordArt 12"/>
          <p:cNvSpPr txBox="1"/>
          <p:nvPr/>
        </p:nvSpPr>
        <p:spPr>
          <a:xfrm>
            <a:off x="468360" y="260280"/>
            <a:ext cx="83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сь автомобиля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Нужно переходить проезжую часть под прямым углом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Там, где дорога хорошо просматривается в обе стороны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71640" y="189000"/>
            <a:ext cx="61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В зоне видимости нет      пешеходн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_0085"/>
          <p:cNvPicPr/>
          <p:nvPr/>
        </p:nvPicPr>
        <p:blipFill>
          <a:blip r:embed="rId1"/>
          <a:stretch/>
        </p:blipFill>
        <p:spPr>
          <a:xfrm>
            <a:off x="1835280" y="1413000"/>
            <a:ext cx="5113080" cy="33876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79280" y="40464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Как нужно переходить улицу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Какими дорожными знаками обозначают пешеходные переходы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Что такое островок      безопасности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457200" y="27468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 и оцени свои достижени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124000" y="5661000"/>
            <a:ext cx="9352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4140360" y="5661000"/>
            <a:ext cx="93492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6012000" y="5661000"/>
            <a:ext cx="93492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400"/>
            </a:b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826920" y="189000"/>
            <a:ext cx="734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узнаем, чему научимс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Group 24"/>
          <p:cNvGrpSpPr/>
          <p:nvPr/>
        </p:nvGrpSpPr>
        <p:grpSpPr>
          <a:xfrm>
            <a:off x="324000" y="1700280"/>
            <a:ext cx="7272360" cy="1295280"/>
            <a:chOff x="324000" y="1700280"/>
            <a:chExt cx="7272360" cy="1295280"/>
          </a:xfrm>
        </p:grpSpPr>
        <p:sp>
          <p:nvSpPr>
            <p:cNvPr id="47" name="AutoShape 14"/>
            <p:cNvSpPr/>
            <p:nvPr/>
          </p:nvSpPr>
          <p:spPr>
            <a:xfrm>
              <a:off x="324000" y="1700280"/>
              <a:ext cx="7272360" cy="129528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WordArt 17"/>
            <p:cNvSpPr txBox="1"/>
            <p:nvPr/>
          </p:nvSpPr>
          <p:spPr>
            <a:xfrm>
              <a:off x="826920" y="1916280"/>
              <a:ext cx="59770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1. Узнаем, какие правила дорожного движения 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должен соблюдать пешеход.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" name="Picture 22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487520" cy="2376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50" name="Group 26"/>
          <p:cNvGrpSpPr/>
          <p:nvPr/>
        </p:nvGrpSpPr>
        <p:grpSpPr>
          <a:xfrm>
            <a:off x="1835280" y="4976640"/>
            <a:ext cx="7272360" cy="1295640"/>
            <a:chOff x="1835280" y="4976640"/>
            <a:chExt cx="7272360" cy="1295640"/>
          </a:xfrm>
        </p:grpSpPr>
        <p:sp>
          <p:nvSpPr>
            <p:cNvPr id="51" name="AutoShape 27"/>
            <p:cNvSpPr/>
            <p:nvPr/>
          </p:nvSpPr>
          <p:spPr>
            <a:xfrm>
              <a:off x="1835280" y="4976640"/>
              <a:ext cx="7272360" cy="129564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28"/>
            <p:cNvSpPr txBox="1"/>
            <p:nvPr/>
          </p:nvSpPr>
          <p:spPr>
            <a:xfrm>
              <a:off x="2556000" y="5048280"/>
              <a:ext cx="59770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3.Узнаем об экологических проблемах, связанных 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с увеличением общественного транспорта.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3" name="Picture 29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1736640" cy="1801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4" name="Picture 12" descr=""/>
          <p:cNvPicPr/>
          <p:nvPr/>
        </p:nvPicPr>
        <p:blipFill>
          <a:blip r:embed="rId3"/>
          <a:stretch/>
        </p:blipFill>
        <p:spPr>
          <a:xfrm>
            <a:off x="328680" y="3141720"/>
            <a:ext cx="701208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1"/>
          <p:cNvGrpSpPr/>
          <p:nvPr/>
        </p:nvGrpSpPr>
        <p:grpSpPr>
          <a:xfrm>
            <a:off x="4716360" y="404640"/>
            <a:ext cx="4248000" cy="6191280"/>
            <a:chOff x="4716360" y="404640"/>
            <a:chExt cx="4248000" cy="6191280"/>
          </a:xfrm>
        </p:grpSpPr>
        <p:sp>
          <p:nvSpPr>
            <p:cNvPr id="56" name="AutoShape 18"/>
            <p:cNvSpPr/>
            <p:nvPr/>
          </p:nvSpPr>
          <p:spPr>
            <a:xfrm>
              <a:off x="4716360" y="404640"/>
              <a:ext cx="4248000" cy="6191280"/>
            </a:xfrm>
            <a:prstGeom prst="wedgeRoundRectCallout">
              <a:avLst>
                <a:gd name="adj1" fmla="val -7324"/>
                <a:gd name="adj2" fmla="val 38180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0" descr=""/>
            <p:cNvPicPr/>
            <p:nvPr/>
          </p:nvPicPr>
          <p:blipFill>
            <a:blip r:embed="rId1"/>
            <a:stretch/>
          </p:blipFill>
          <p:spPr>
            <a:xfrm>
              <a:off x="5076720" y="836280"/>
              <a:ext cx="3552840" cy="532944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  <p:grpSp>
        <p:nvGrpSpPr>
          <p:cNvPr id="58" name="Group 30"/>
          <p:cNvGrpSpPr/>
          <p:nvPr/>
        </p:nvGrpSpPr>
        <p:grpSpPr>
          <a:xfrm>
            <a:off x="611280" y="1916280"/>
            <a:ext cx="3527280" cy="3958920"/>
            <a:chOff x="611280" y="1916280"/>
            <a:chExt cx="3527280" cy="3958920"/>
          </a:xfrm>
        </p:grpSpPr>
        <p:sp>
          <p:nvSpPr>
            <p:cNvPr id="59" name="AutoShape 27"/>
            <p:cNvSpPr/>
            <p:nvPr/>
          </p:nvSpPr>
          <p:spPr>
            <a:xfrm>
              <a:off x="611280" y="1916280"/>
              <a:ext cx="3527280" cy="3958920"/>
            </a:xfrm>
            <a:prstGeom prst="wedgeRoundRectCallout">
              <a:avLst>
                <a:gd name="adj1" fmla="val -13810"/>
                <a:gd name="adj2" fmla="val 48606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29" descr="ПДД0035"/>
            <p:cNvPicPr/>
            <p:nvPr/>
          </p:nvPicPr>
          <p:blipFill>
            <a:blip r:embed="rId2"/>
            <a:stretch/>
          </p:blipFill>
          <p:spPr>
            <a:xfrm>
              <a:off x="1042920" y="2203200"/>
              <a:ext cx="2761920" cy="34034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</p:grpSp>
      <p:sp>
        <p:nvSpPr>
          <p:cNvPr id="61" name="WordArt 32"/>
          <p:cNvSpPr txBox="1"/>
          <p:nvPr/>
        </p:nvSpPr>
        <p:spPr>
          <a:xfrm>
            <a:off x="1042920" y="40464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офо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619280" y="274680"/>
            <a:ext cx="59054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анспортный светоф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13" descr="14"/>
          <p:cNvPicPr/>
          <p:nvPr/>
        </p:nvPicPr>
        <p:blipFill>
          <a:blip r:embed="rId1"/>
          <a:stretch/>
        </p:blipFill>
        <p:spPr>
          <a:xfrm>
            <a:off x="250920" y="260280"/>
            <a:ext cx="1123920" cy="173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897440" cy="324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3"/>
          <a:stretch/>
        </p:blipFill>
        <p:spPr>
          <a:xfrm>
            <a:off x="5651640" y="1844640"/>
            <a:ext cx="3133440" cy="4175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1"/>
          <p:cNvGrpSpPr/>
          <p:nvPr/>
        </p:nvGrpSpPr>
        <p:grpSpPr>
          <a:xfrm>
            <a:off x="2916360" y="1484280"/>
            <a:ext cx="1655640" cy="503280"/>
            <a:chOff x="2916360" y="1484280"/>
            <a:chExt cx="1655640" cy="503280"/>
          </a:xfrm>
        </p:grpSpPr>
        <p:sp>
          <p:nvSpPr>
            <p:cNvPr id="67" name="AutoShape 19"/>
            <p:cNvSpPr/>
            <p:nvPr/>
          </p:nvSpPr>
          <p:spPr>
            <a:xfrm>
              <a:off x="2916360" y="1484280"/>
              <a:ext cx="1655640" cy="503280"/>
            </a:xfrm>
            <a:prstGeom prst="wedgeRoundRectCallout">
              <a:avLst>
                <a:gd name="adj1" fmla="val -47601"/>
                <a:gd name="adj2" fmla="val 18768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20"/>
            <p:cNvSpPr txBox="1"/>
            <p:nvPr/>
          </p:nvSpPr>
          <p:spPr>
            <a:xfrm>
              <a:off x="3203640" y="1627200"/>
              <a:ext cx="1008000" cy="26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Козырёк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9" name="Line 22"/>
          <p:cNvSpPr/>
          <p:nvPr/>
        </p:nvSpPr>
        <p:spPr>
          <a:xfrm flipH="1">
            <a:off x="2700000" y="1916280"/>
            <a:ext cx="86364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3564000" y="1916280"/>
            <a:ext cx="32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"/>
          <p:cNvSpPr txBox="1"/>
          <p:nvPr/>
        </p:nvSpPr>
        <p:spPr>
          <a:xfrm>
            <a:off x="1258920" y="404640"/>
            <a:ext cx="6716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шеходный светоф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AutoShape 8"/>
          <p:cNvSpPr/>
          <p:nvPr/>
        </p:nvSpPr>
        <p:spPr>
          <a:xfrm rot="5400000">
            <a:off x="2250000" y="62280"/>
            <a:ext cx="4861080" cy="7993080"/>
          </a:xfrm>
          <a:prstGeom prst="wedgeRoundRectCallout">
            <a:avLst>
              <a:gd name="adj1" fmla="val -18259"/>
              <a:gd name="adj2" fmla="val 4918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77080" cy="4483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1763640" y="260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свой светофо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635720" cy="347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2195640" y="40464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116000" y="1484280"/>
            <a:ext cx="1440000" cy="3889440"/>
            <a:chOff x="1116000" y="1484280"/>
            <a:chExt cx="1440000" cy="3889440"/>
          </a:xfrm>
        </p:grpSpPr>
        <p:sp>
          <p:nvSpPr>
            <p:cNvPr id="79" name="Rectangle 12"/>
            <p:cNvSpPr/>
            <p:nvPr/>
          </p:nvSpPr>
          <p:spPr>
            <a:xfrm>
              <a:off x="1116000" y="1484280"/>
              <a:ext cx="144000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1403280" y="1844640"/>
              <a:ext cx="936720" cy="792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1403280" y="3860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1403280" y="2852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7"/>
          <p:cNvGrpSpPr/>
          <p:nvPr/>
        </p:nvGrpSpPr>
        <p:grpSpPr>
          <a:xfrm>
            <a:off x="3924360" y="1484280"/>
            <a:ext cx="1439640" cy="3889440"/>
            <a:chOff x="3924360" y="1484280"/>
            <a:chExt cx="1439640" cy="3889440"/>
          </a:xfrm>
        </p:grpSpPr>
        <p:sp>
          <p:nvSpPr>
            <p:cNvPr id="84" name="Rectangle 18"/>
            <p:cNvSpPr/>
            <p:nvPr/>
          </p:nvSpPr>
          <p:spPr>
            <a:xfrm>
              <a:off x="3924360" y="1484280"/>
              <a:ext cx="143964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4211280" y="1844640"/>
              <a:ext cx="936360" cy="79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4211280" y="3860640"/>
              <a:ext cx="93636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4211280" y="2852640"/>
              <a:ext cx="936360" cy="79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3"/>
          <p:cNvSpPr/>
          <p:nvPr/>
        </p:nvSpPr>
        <p:spPr>
          <a:xfrm>
            <a:off x="6588000" y="1484280"/>
            <a:ext cx="1440000" cy="388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6875640" y="1844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6875640" y="3860640"/>
            <a:ext cx="936360" cy="792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6875640" y="2852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40328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694836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4211640" y="5661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img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1763640" y="260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овок безопас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360" y="2276640"/>
            <a:ext cx="48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Остановись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Осмотрись со всех сторон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Убедись в безопасности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Начинай переход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59280" y="26028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Переход проезжей части по обозначенному пешеходному перех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ety_pesh_1"/>
          <p:cNvPicPr/>
          <p:nvPr/>
        </p:nvPicPr>
        <p:blipFill>
          <a:blip r:embed="rId1"/>
          <a:stretch/>
        </p:blipFill>
        <p:spPr>
          <a:xfrm>
            <a:off x="250920" y="2060640"/>
            <a:ext cx="4608360" cy="3127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79280" y="40464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52:45Z</dcterms:created>
  <dc:creator>Nastja</dc:creator>
  <dc:description/>
  <dc:language>en-US</dc:language>
  <cp:lastModifiedBy>5</cp:lastModifiedBy>
  <dcterms:modified xsi:type="dcterms:W3CDTF">2017-01-17T09:39:23Z</dcterms:modified>
  <cp:revision>17</cp:revision>
  <dc:subject/>
  <dc:title>Слайд 1</dc:title>
</cp:coreProperties>
</file>